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6E0-1272-4A39-B6C7-0C0671BC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313-DA20-4BB9-AEB0-000514F2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C00-9A17-4CA2-B2F2-EEAC65A3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220-EDEF-42A8-8946-B9AB5FD5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CAC-47AE-436D-BE14-74CD46A0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A34-6431-4267-A8E0-2E6AC4D6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0F8-5E1C-4D95-AEA8-DD35DD82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763-E0AA-498F-AAF2-B12FF03F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BB9-DEAB-4288-9982-ECF04639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7DD-3EE6-49C6-9A7E-8344F469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D04-8577-4124-9521-2E5159D5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92D-2FA3-4F43-8330-65819107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5F3AC9BF-CB51-400D-8924-AC9B19157439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8360" y="1596960"/>
            <a:ext cx="31265640" cy="2103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2120" y="503280"/>
            <a:ext cx="30721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72680" y="20267640"/>
            <a:ext cx="17143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зработал: студент АСОИУ Геттих М.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уководитель: Гл.конструктор НПО «Автоматика» Чегодаев В.Н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38240"/>
            <a:ext cx="320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Дипломный проект</a:t>
            </a:r>
            <a:r>
              <a:rPr b="0" lang="en-US" sz="45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0954880"/>
            <a:ext cx="3705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ургут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8280" y="3505320"/>
            <a:ext cx="9535320" cy="91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недрение системы позволит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02160" y="18897480"/>
            <a:ext cx="886140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оимость разработ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68 000 руб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рок окупаемости 8 ме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тформа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744200" y="8534520"/>
          <a:ext cx="13235040" cy="66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4200" y="8534520"/>
                    <a:ext cx="13235040" cy="66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371600" y="4572000"/>
            <a:ext cx="15849720" cy="37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дготовить отчеты в ГНИ за 1 ден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Резко снизить вероятность штрафо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лучить полную информацию о заработной плате в любом разрез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2400" y="10134720"/>
            <a:ext cx="6856200" cy="80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Основные возможности: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6640" y="10972800"/>
            <a:ext cx="10935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t">
            <a:spAutoFit/>
          </a:bodyPr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Сбор информации о дохода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Перерасчет подоходного налог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Формирование отчетов в ГНИ Р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Выдача отчетов для ОТи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Работа с плановым отдел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(в перспективе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40360" y="6035760"/>
            <a:ext cx="4431960" cy="2009520"/>
          </a:xfrm>
          <a:prstGeom prst="wedgeRoundRectCallout">
            <a:avLst>
              <a:gd name="adj1" fmla="val -71347"/>
              <a:gd name="adj2" fmla="val 253157"/>
              <a:gd name="adj3" fmla="val 16667"/>
            </a:avLst>
          </a:prstGeom>
          <a:gradFill rotWithShape="0">
            <a:gsLst>
              <a:gs pos="0">
                <a:srgbClr val="00cc99"/>
              </a:gs>
              <a:gs pos="100000">
                <a:srgbClr val="00ff00"/>
              </a:gs>
            </a:gsLst>
            <a:lin ang="54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ctr">
            <a:noAutofit/>
          </a:bodyPr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День внедрен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5141320" y="15279480"/>
            <a:ext cx="5262480" cy="25174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59800" y="19242000"/>
            <a:ext cx="1021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84080" y="13792320"/>
            <a:ext cx="28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9038680" y="17032320"/>
            <a:ext cx="2473200" cy="223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22552200" y="15279840"/>
            <a:ext cx="2589120" cy="236664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140960" y="15279480"/>
            <a:ext cx="1144440" cy="24382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5150680" y="17032320"/>
            <a:ext cx="2473560" cy="223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1409200" y="17108640"/>
            <a:ext cx="237312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8111320" y="9637560"/>
            <a:ext cx="3305160" cy="345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4231600" y="499428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25373160" y="11163240"/>
            <a:ext cx="3430440" cy="1906560"/>
          </a:xfrm>
          <a:prstGeom prst="line">
            <a:avLst/>
          </a:prstGeom>
          <a:ln w="15228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295400" y="8345160"/>
            <a:ext cx="231480" cy="4267080"/>
          </a:xfrm>
          <a:prstGeom prst="line">
            <a:avLst/>
          </a:prstGeom>
          <a:ln w="15228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8195560" y="507060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25295400" y="8297640"/>
            <a:ext cx="3016080" cy="4467240"/>
          </a:xfrm>
          <a:prstGeom prst="line">
            <a:avLst/>
          </a:prstGeom>
          <a:ln cap="rnd" w="152280">
            <a:solidFill>
              <a:srgbClr val="3333cc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049400" y="8686800"/>
            <a:ext cx="39546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дел налоговой поли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582840" y="4524480"/>
            <a:ext cx="442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овый отд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2120" y="3809880"/>
            <a:ext cx="44211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 отдела ОТ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23542560" y="11847600"/>
            <a:ext cx="3305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0-10-22T04:04:21Z</dcterms:modified>
  <cp:revision>36</cp:revision>
  <dc:subject/>
  <dc:title>Заголовок слайда отсутствует</dc:title>
</cp:coreProperties>
</file>