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08D-7D27-4BE9-9594-31586F1D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ABD-321D-403C-A9F3-58B8902C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0C3-B545-46F9-9859-24DDAA7D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4FE-1A6C-46E2-B316-C5DB7708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1FC-C10E-45BD-99BB-823CB0D2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C771-13B3-41EC-940C-C976D732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20C3-380D-4779-8CA1-CE974331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FD4-F5F1-42D7-9B27-8233B7E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B9B6-A4D1-4F70-AA2F-F1D2907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3D5-357D-4508-B336-9D5FC9E1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4C4-6B15-4D4C-81AE-9A0CCEC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BEA-6D05-4177-903D-9D44C044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A890-3E6B-412F-9C8F-C2AB3F3A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FD27-F2F2-4EA9-B31A-C4D6616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9EA0-17B9-4CB6-9688-F40A473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668C-FA1B-4DAA-ACF9-FB9590D4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E81-C620-4325-9D61-B4E75CF3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2DF-307C-405A-AABB-680A788D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D3C-DA33-488E-B4E0-0CBE954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926-610E-4DE8-911D-EBD7F0D9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A3E-8A21-4693-A1DE-8276BC9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25B-AA61-4C34-A397-238E840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F72-3224-4DF8-AF95-9C3A876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1D5-460B-429A-AFD2-23310492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A392-13A2-495E-B8E4-3AFD75A2B9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8F7-097D-4924-997B-1F2DD080C2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Research Analyzes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4290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lya Djamanba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les Seyitbek u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371600"/>
            <a:ext cx="38098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2e0d"/>
                </a:solidFill>
                <a:latin typeface="Arial"/>
              </a:rPr>
              <a:t>Coca-C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1371600"/>
            <a:ext cx="297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e9ce8"/>
                </a:solidFill>
                <a:latin typeface="Arial"/>
              </a:rPr>
              <a:t>SHO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18288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 you perform i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come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ny interesting trainings will be offered by local companies they will think about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ke attestation of personnel – if needed additional education implemen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come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cruitment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adverti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fill the bla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-3 Interviews with candid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adverti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C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the best/ appropriat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Q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view with HR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earch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34671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SH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come in the Summ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the Career Development Center and take application for internship to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write to HR depart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Nellya or Mar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66880" cy="2454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3124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8610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 You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sion of your compan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384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s inspir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enduring 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Refresh the World... in body, mind, and spir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Inspire Moments of Optimism... through our brands and our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o Create Value and Make a Difference... everywhere we eng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2759040"/>
            <a:ext cx="403848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perity of Kyrgyzstan through production of national drinks and mineral w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ing of healthy life by using domestic recourses and know-how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of your depart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corporat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3124080"/>
            <a:ext cx="40384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employees in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52520" y="4297320"/>
            <a:ext cx="3219480" cy="2408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w many people work in your department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ge &amp; Reward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R direc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communications m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nel development m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 specia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their responsibilitie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–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many people work in compan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on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ter time: 203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er time: 230-25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son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ter time: 700-80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er time: about 1500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1992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 you have a motivation system?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does it include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er opport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education – trainings, seminars,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types: material, non-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hips of depar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porate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er opport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19920" y="563868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71600" y="55627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566800" cy="32511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do you evaluate your personne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nd of the year each department evaluates its employ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have yearly plans, according to them they look at the employees work 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9720" y="168444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station of the employ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have plans, according to them they look at th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 performa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employ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24280" y="533412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371600" y="5257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have an educational system of the personnel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rs come from Head-office from Turkey to teach people and from Alm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educational DV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teach their people by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end people to educational ce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any important/ needed trai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rs teach their employees by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895320" cy="704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5:11Z</dcterms:created>
  <dc:creator>student</dc:creator>
  <dc:description/>
  <dc:language>en-US</dc:language>
  <cp:lastModifiedBy>nellya</cp:lastModifiedBy>
  <dcterms:modified xsi:type="dcterms:W3CDTF">2007-12-20T09:19:57Z</dcterms:modified>
  <cp:revision>13</cp:revision>
  <dc:subject/>
  <dc:title>Research Analyzes</dc:title>
</cp:coreProperties>
</file>