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F6C-45FF-41B7-8F98-B53F994E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8D7-AFA1-41DF-BEA3-7361317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02E-E74A-475E-89D2-641B4B00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276-FFF8-435F-8C66-DFF56ABE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A89D-4EFA-4736-B480-ED1398B5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7DA0-EF70-410F-BF71-E60F05B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5C6-255E-4FC3-8563-F4BCDA7B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5A7F-051B-43AA-BFED-32C4AEC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037C-B2A0-4E06-BEDB-D47C275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AED4-4676-4AC0-9C56-769EBA3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ACA-376C-4B7B-98F1-0F6FA73E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82C-CAC3-4E0F-9860-3A6A1AF2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3480-867A-492F-A90A-5CD6DEA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A51-DE0D-4173-8CC7-381965E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CA31-5096-4AE0-A806-81E08BC4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226A-746C-469F-97EB-2C73373F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21E6-B772-4D7C-836A-4EDD57FC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AF7-EA88-4339-933B-58CE954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320-748E-42C7-800E-4C85A270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AC1-B15F-4A54-A3C4-12EAC550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EEB-A56A-45E1-AB79-135095FE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E24-10BA-4EF3-A14E-AA18E79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7D3-A07A-4184-8B8C-76BD834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3F7-8D51-4CFB-B50B-09BD6F2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24F-0B65-42BA-9D20-B3E3A6579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9A6D-73D7-4E40-A286-198BBE7ED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ccecff"/>
                </a:solidFill>
                <a:latin typeface="Comic Sans MS"/>
              </a:rPr>
              <a:t>Обработка прерываний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237360"/>
            <a:ext cx="539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Comic Sans MS"/>
              </a:rPr>
              <a:t>Тюменский Колледж Связи, Информатики и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Comic Sans MS"/>
              </a:rPr>
              <a:t>Преподаватель: Артюшкина Елена Владимир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54936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Главные функции механизма прерываний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2060640"/>
            <a:ext cx="8136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распознавание или классификация прерываний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передача управления соответствующему обработчику прерываний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корректное возвращение к прерванной программ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omic Sans MS"/>
              </a:rPr>
              <a:t>2. Классификация прерываний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981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ры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844640"/>
            <a:ext cx="352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нешние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аппарат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1844640"/>
            <a:ext cx="3166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нутренние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исключ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050920" y="1555920"/>
            <a:ext cx="122400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552680"/>
            <a:ext cx="122400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52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2997360"/>
            <a:ext cx="396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зываются асинхронными событиями, которые происходят вне прерываемого процес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батываются драйверами соответствующих внешних устрой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5373720"/>
            <a:ext cx="38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прерывания от таймера; прерывания от внешних устройств; прерывания по нарушению пит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2997360"/>
            <a:ext cx="4105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зываются событиями, которые связаны с работой процессора и являются синхронными с его операциями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батываются процедурами ОС, обслуживающими системные вызов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661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при делении на ноль; при нарушении адрес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9640" y="765000"/>
            <a:ext cx="8136000" cy="32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ограммные прерыван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нерируются в исключительных ситуациях при выполнении особой команды процессора, выполнение которой имитирует прерывание, т.е. переход на новую последовательность инструкц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батываются процедурами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omic Sans MS"/>
              </a:rPr>
              <a:t>3. Приоритет прерываний, режимы обработки прерываний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2133720"/>
            <a:ext cx="7920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Сигналы, вызывающие прерывания, формируются вне процессора или в самом процессоре, они могут возникать одновременно. Выбор одного из них для обработки осуществляется на основе приоритетов, приписанных каждому типу прерыван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964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Распределение прерываний по уровням приор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661000"/>
            <a:ext cx="4176720" cy="7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граммные преры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49440" y="4797360"/>
            <a:ext cx="309564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ина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49440" y="3357720"/>
            <a:ext cx="3095640" cy="71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ит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49440" y="4078440"/>
            <a:ext cx="3095640" cy="71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тевое 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1484280"/>
            <a:ext cx="4176720" cy="7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ства контроля процесс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2421000"/>
            <a:ext cx="4176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стемный тай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24000" y="3357720"/>
            <a:ext cx="287280" cy="2158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520 h 2158920"/>
              <a:gd name="textAreaBottom" fmla="*/ 210240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4"/>
                  <a:pt x="10800" y="1807"/>
                </a:cubicBezTo>
                <a:lnTo>
                  <a:pt x="10800" y="9025"/>
                </a:lnTo>
                <a:cubicBezTo>
                  <a:pt x="10800" y="9929"/>
                  <a:pt x="5400" y="10832"/>
                  <a:pt x="0" y="10832"/>
                </a:cubicBezTo>
                <a:cubicBezTo>
                  <a:pt x="5400" y="10832"/>
                  <a:pt x="10800" y="11736"/>
                  <a:pt x="10800" y="12639"/>
                </a:cubicBezTo>
                <a:lnTo>
                  <a:pt x="10800" y="19793"/>
                </a:lnTo>
                <a:cubicBezTo>
                  <a:pt x="10800" y="206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4005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нешние устрой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84720" y="5734080"/>
            <a:ext cx="2808360" cy="863640"/>
          </a:xfrm>
          <a:prstGeom prst="ellipse">
            <a:avLst/>
          </a:prstGeom>
          <a:solidFill>
            <a:srgbClr val="99cc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изкий приорит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1484280"/>
            <a:ext cx="2808360" cy="863640"/>
          </a:xfrm>
          <a:prstGeom prst="ellipse">
            <a:avLst/>
          </a:prstGeom>
          <a:solidFill>
            <a:srgbClr val="99cc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окий приорит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451640" y="2492280"/>
            <a:ext cx="0" cy="3168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476280"/>
            <a:ext cx="82803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аличие сигнала прерывания не обязательно должно вызывать прерывание исполняющейся программы. Процессор может обладать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редствами защиты от прерываний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ключени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истемы прерыва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скирование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запрет) отдельных сигналов прерыв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рограммное управление этими средствами позволяет ОС регулировать обработку сигналов прерывани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ибо процессор обрабатывает их сразу по приходу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ибо откладывать обработку на некоторое время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ибо полностью игнорировать прерыв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тобы обработать сигналы прерывания в разумном порядке, им присваиваются приоритеты. Сигнал с более высоким приоритетом обрабатывается в первую очередь, обработка остальных сигналов прерывания откладывает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9640" y="765000"/>
            <a:ext cx="828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граммное управление маскирования сигналов прерывания позволяет реализовать различны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дисциплины обслуживания (режимы обработки прерываний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781360"/>
            <a:ext cx="8496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 относительными приоритетами,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.е. обслуживание не прерывается даже при наличии запросов с более высокими приоритетами. После окончания обслуживания данного запроса обслуживается запрос с наивысшим приоритетом. Для организации такой дисциплины необходимо в программе обслуживания данного запроса наложить маски на все остальные сигналы прерывания или просто отключить систему прерыв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335772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. По принципу стека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,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дисциплин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CF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t Come First Serve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следним пришел, первым обслужен), т.е. запросы с более низким приоритетом могут прерывать обработку прерывания с более высоким приоритетом. Для этого необходимо не накладывать маску ни на один из сигналов прерывания и не выключать систему прерывани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692280"/>
            <a:ext cx="842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 С абсолютными приоритетами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.е. всегда обслуживается прерывание с наивысшим приоритетом. Для реализации этого режима необходимо на время обработки прерывания замаскировать все запросы с более низким приорит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omic Sans MS"/>
              </a:rPr>
              <a:t>4. Роль ОС в обработке прерыван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19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правление ходом выполнения задач со стороны операционной системы заключается в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20500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изации реакций на преры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организации обмена информацией (данными и    программ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предоставлении необх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инамике выполнения задачи и в организации сервис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4653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чины прерываний определяет операционная система (модуль, который называют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упервизором прерываний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а же и выполняет действия, необходимые при данном прерывании и в дан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50920" y="33336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первизор прерываний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полняет следующую последовательность дейст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1700280"/>
            <a:ext cx="82090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храняет в дескрипторе (описателе процесса) рабочие регистры процессора, определяющие контекст прерываемого вычислительного проце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лее определяет ту подпрограмму, которая должна выполнить действия связанные с обслуживанием настоящего (текущего) запроса на преры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конец, перед тем, как передать управление на эту подпрограмму, устанавливает необходимый режим обработки преры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План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нятие прерывания. Механизм обработки прерыв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прерыв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риоритет прерываний, режимы обработки прерыв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оль ОС в обработке прерыв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68360" y="1055520"/>
            <a:ext cx="82803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сле выполнения подпрограммы обработки прерывания управление вновь передается ядру операционной системы, на тот модуль, который занимается диспетчеризацией задач. И уже диспетчер задач в соответствии с принятой дисциплиной распределения процессорного времени (между выполняющими вычислительными процессами) восстановит контекст той задачи, которой будет решено выделить процессор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964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работка прерывания при участии супервизоров 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-504720" y="3444840"/>
            <a:ext cx="2160720" cy="502920"/>
          </a:xfrm>
          <a:prstGeom prst="rect">
            <a:avLst/>
          </a:pr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ры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8720" y="355284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25600" y="2039760"/>
            <a:ext cx="1512720" cy="4105440"/>
          </a:xfrm>
          <a:prstGeom prst="flowChartDocument">
            <a:avLst/>
          </a:pr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225576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сполняемая програм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25600" y="350028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25600" y="39117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3789360"/>
            <a:ext cx="2665440" cy="2735280"/>
          </a:xfrm>
          <a:prstGeom prst="rect">
            <a:avLst/>
          </a:prstGeom>
          <a:solidFill>
            <a:srgbClr val="0099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1700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упервизор прерыва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26280" y="3932280"/>
            <a:ext cx="2351160" cy="1152360"/>
          </a:xfrm>
          <a:prstGeom prst="rect">
            <a:avLst/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бор готовой к выполне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на основе принят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дисциплины обслужива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26280" y="5208480"/>
            <a:ext cx="2351160" cy="1152720"/>
          </a:xfrm>
          <a:prstGeom prst="rect">
            <a:avLst/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осстановление контекст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адачи, установка прежне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ежима работы систем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рыван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 переда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правления этой задач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2133720"/>
            <a:ext cx="2448000" cy="2735280"/>
          </a:xfrm>
          <a:prstGeom prst="rect">
            <a:avLst/>
          </a:prstGeom>
          <a:solidFill>
            <a:srgbClr val="0099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2276640"/>
            <a:ext cx="2159280" cy="1152360"/>
          </a:xfrm>
          <a:prstGeom prst="rect">
            <a:avLst/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тключение прерывани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охранение контекст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рванной программ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становка режима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истемы прерыван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92360" y="3573360"/>
            <a:ext cx="2159280" cy="1152720"/>
          </a:xfrm>
          <a:prstGeom prst="rect">
            <a:avLst/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пределение адре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ограммного модул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бслуживающего запро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 прерывание, и переда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правления на не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1628640"/>
            <a:ext cx="2665440" cy="1727280"/>
          </a:xfrm>
          <a:prstGeom prst="rect">
            <a:avLst/>
          </a:prstGeom>
          <a:solidFill>
            <a:srgbClr val="0099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полнение кода подпрограм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бработки преры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эта программа уже не заботитс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о сохранении контекст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рванного процесс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04000" y="3429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испетчер зада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3357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2421000"/>
            <a:ext cx="431640" cy="1224000"/>
          </a:xfrm>
          <a:custGeom>
            <a:avLst/>
            <a:gdLst/>
            <a:ahLst/>
            <a:rect l="l" t="t" r="r" b="b"/>
            <a:pathLst>
              <a:path w="272" h="771">
                <a:moveTo>
                  <a:pt x="0" y="771"/>
                </a:moveTo>
                <a:lnTo>
                  <a:pt x="136" y="771"/>
                </a:lnTo>
                <a:lnTo>
                  <a:pt x="136" y="0"/>
                </a:lnTo>
                <a:lnTo>
                  <a:pt x="272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96000" y="2060640"/>
            <a:ext cx="360360" cy="2160360"/>
          </a:xfrm>
          <a:custGeom>
            <a:avLst/>
            <a:gdLst/>
            <a:ahLst/>
            <a:rect l="l" t="t" r="r" b="b"/>
            <a:pathLst>
              <a:path w="227" h="1361">
                <a:moveTo>
                  <a:pt x="0" y="1361"/>
                </a:moveTo>
                <a:lnTo>
                  <a:pt x="91" y="1361"/>
                </a:lnTo>
                <a:lnTo>
                  <a:pt x="91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ccecff"/>
                </a:solidFill>
                <a:latin typeface="Comic Sans MS"/>
              </a:rPr>
              <a:t>. Понятие прерывания. Механизм обработки прерыван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ерывани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ханизм, позволяющий координировать параллельное функционирование отдельных устройств вычислительной системы и реагировать на особые состояния, возникающие при работе процессо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0000" y="1052640"/>
            <a:ext cx="7632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ерыва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это принудительная передача управления от выполняемой программы к системе (а через нее – к соответствующей программе обработки прерывания) происходящая при возникновении определенного событ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11280" y="765000"/>
            <a:ext cx="806436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ая цель введения прерывани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реализация асинхронного режима функционирования и распараллеливание работы отдельных устройств вычислительного комплекс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221000"/>
            <a:ext cx="806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Механизм прерываний реализуется аппаратно-программными средствами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1197000"/>
            <a:ext cx="785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руктуры систем прерывания могут быть различными, но все они имеют одну общую особенность –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ерывание  непременно влечет за собой изменение порядка выполнения команд процессором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Механизм обработки прерывани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155736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Установление факта прерывания (прием сигнала запроса на прерывание) и идентификация преры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284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Запоминание состояния прерванного процесса вычислений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4724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Управление аппаратно передается на подпрограмму обработки прерыва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Сохранение информации о прерванной программе, которую не удалось спасти на шаге 2 с помощью аппаратур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060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Собственно выполнение программы, связанной с обработкой прерыва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342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Восстановление информации, относящейся к прерванному процессу (этап, обратный шагу 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72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Возврат на прерванную програм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05480" y="5875920"/>
            <a:ext cx="722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Шаги 1-3 реализуются аппаратно, шаги 4-7 – программно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5280" y="260280"/>
            <a:ext cx="84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Обработка прерывания </a:t>
            </a:r>
            <a:br>
              <a:rPr sz="3000"/>
            </a:b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в простых программных сред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11280" y="1557360"/>
            <a:ext cx="8163000" cy="4875120"/>
            <a:chOff x="611280" y="1557360"/>
            <a:chExt cx="8163000" cy="4875120"/>
          </a:xfrm>
        </p:grpSpPr>
        <p:sp>
          <p:nvSpPr>
            <p:cNvPr id="232" name=""/>
            <p:cNvSpPr/>
            <p:nvPr/>
          </p:nvSpPr>
          <p:spPr>
            <a:xfrm rot="16200000">
              <a:off x="-217080" y="3444840"/>
              <a:ext cx="2160720" cy="503280"/>
            </a:xfrm>
            <a:prstGeom prst="rect">
              <a:avLst/>
            </a:prstGeom>
            <a:solidFill>
              <a:srgbClr val="0099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еры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16000" y="3552840"/>
              <a:ext cx="719280" cy="358560"/>
            </a:xfrm>
            <a:prstGeom prst="rightArrow">
              <a:avLst>
                <a:gd name="adj1" fmla="val 50000"/>
                <a:gd name="adj2" fmla="val 50151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5800" y="2039760"/>
              <a:ext cx="1512720" cy="4105440"/>
            </a:xfrm>
            <a:prstGeom prst="flowChartDocument">
              <a:avLst/>
            </a:prstGeom>
            <a:solidFill>
              <a:srgbClr val="0099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81280" y="225576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Исполняемая програм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47880" y="3479760"/>
              <a:ext cx="15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47880" y="3911400"/>
              <a:ext cx="15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21200" y="2184480"/>
              <a:ext cx="2953080" cy="4248000"/>
            </a:xfrm>
            <a:prstGeom prst="rect">
              <a:avLst/>
            </a:prstGeom>
            <a:solidFill>
              <a:srgbClr val="009999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0360" y="1557360"/>
              <a:ext cx="28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одпрограмма обработки преры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37200" y="2400120"/>
              <a:ext cx="2521080" cy="11527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тключение прерываний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сохранение контекст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прерванной программы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установка режима работ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системы прерывани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37200" y="3840120"/>
              <a:ext cx="2521080" cy="86364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Собственно тел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программы обработ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прерывания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37200" y="4992480"/>
              <a:ext cx="2521080" cy="11527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осстановление контекст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прерванной ранее программы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установка прежнего режи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работы системы прерывани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0600" y="2832120"/>
              <a:ext cx="2448000" cy="792000"/>
            </a:xfrm>
            <a:custGeom>
              <a:avLst/>
              <a:gdLst/>
              <a:ahLst/>
              <a:rect l="l" t="t" r="r" b="b"/>
              <a:pathLst>
                <a:path w="1542" h="499">
                  <a:moveTo>
                    <a:pt x="0" y="499"/>
                  </a:moveTo>
                  <a:lnTo>
                    <a:pt x="181" y="499"/>
                  </a:lnTo>
                  <a:lnTo>
                    <a:pt x="181" y="0"/>
                  </a:lnTo>
                  <a:lnTo>
                    <a:pt x="1542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8000" y="4127400"/>
              <a:ext cx="2448000" cy="1368360"/>
            </a:xfrm>
            <a:custGeom>
              <a:avLst/>
              <a:gdLst/>
              <a:ahLst/>
              <a:rect l="l" t="t" r="r" b="b"/>
              <a:pathLst>
                <a:path w="1542" h="862">
                  <a:moveTo>
                    <a:pt x="1542" y="862"/>
                  </a:moveTo>
                  <a:lnTo>
                    <a:pt x="227" y="862"/>
                  </a:lnTo>
                  <a:lnTo>
                    <a:pt x="227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5:05Z</dcterms:created>
  <dc:creator>111</dc:creator>
  <dc:description/>
  <dc:language>en-US</dc:language>
  <cp:lastModifiedBy>Олег Игоревич</cp:lastModifiedBy>
  <dcterms:modified xsi:type="dcterms:W3CDTF">2006-10-16T10:59:20Z</dcterms:modified>
  <cp:revision>31</cp:revision>
  <dc:subject/>
  <dc:title>Тема 2.2. Обработка прерываний</dc:title>
</cp:coreProperties>
</file>