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95F-FF7C-442E-8D5C-80F86F03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332-C9D7-4C5A-B958-B1D11C19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561-D897-4296-92BA-664AD302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A94-0B20-47EB-A34C-C72F92E3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BC4A-34AE-4618-9D6B-D4CE1579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B35D-E4B2-41B9-9F4A-96A9F642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0A1D-0442-460B-B5DE-94E68C37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4BB7-6BDB-408A-91FC-3C6EE0CF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F50A-EEEB-44E8-9AB7-10661CD4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DCEF-5997-407B-B340-062771E4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81F9-B42D-4E6E-96F2-A9096BC3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AD2-77D5-46D3-9856-9C176002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95E4-6CD4-4DA9-A604-D6F38AF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1AED-4D3A-4BDE-B5B2-3B539BCE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B5C4-FD0E-4AD6-A833-941E9616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5FE5-A141-47CB-B286-65AE4E9D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9DE0-7377-41DC-839E-DEB9921B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D62-E474-4196-9936-4BFCD61E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6E7-8A67-4FF8-AE4B-01A3A5B3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702A-4980-489D-88EB-4416914B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34B-D1E8-433C-9542-A3C1CA30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87A-7563-4487-8393-AE368841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EB7-5078-453D-9C3F-22E6B388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F3B-EE2F-4BE1-B4AD-20447CCD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B971-0086-4C2E-AB78-7ED88BDCDD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0631-EB5D-4CE3-BC76-4B614D78A5C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4;&#1080;&#1092;&#1088;" TargetMode="External"/><Relationship Id="rId2" Type="http://schemas.openxmlformats.org/officeDocument/2006/relationships/hyperlink" Target="http://ru.wikipedia.org/wiki/&#1055;&#1072;&#1090;&#1077;&#1085;&#1090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Serpen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700000" y="3068640"/>
            <a:ext cx="583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ыполнил:                 Безбородов В.В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студент гр. 8216-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131640" y="3212640"/>
            <a:ext cx="5040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 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&lt;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7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0320" y="2377440"/>
            <a:ext cx="83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инейное преобразование может быть реализовано как в виде приведенной таблицы, так и с помощью следующих вычисле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2240" y="5941800"/>
            <a:ext cx="756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Wn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—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е 32-битное слово обрабатываемого блока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&lt;&lt;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&lt;&lt;&lt;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— соответственно, операции сдвига и циклического сдвиг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лево на указанное число би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сновным критерием при разработке линейного преобразования было максимальное ускорение влияния каждого бита входного значения и ключа шифрования на каждый бит шифротекста. Т. о., преобразования, выполняемые в каждом раунде алгоритма, можно представить следующей формулой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Y = L(S’(i mod 8)(X Å Ki))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—входное и выходное значения обрабатываемого блока,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— номер раунда (от 0 до 31),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Ki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— ключ i-го раунда,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— линейное преобразование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символом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S’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обозначено параллельное использование 32 соответствующих таблиц замен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следний раунд отличается от предыдущих тем, что вместо линейного преобразования в нем выполняется дополнительное наложение ключа; здесь используется 33-й фрагмент расширенного ключ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 = S’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X Å K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Arial"/>
              </a:rPr>
              <a:t>31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) Å K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280" y="2133720"/>
            <a:ext cx="777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севдо-код, генерирующий  S-box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2997360"/>
            <a:ext cx="748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index := 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currentsbox := index modulo 32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for i:=0 to 15 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j := sbox[(currentsbox+1) modulo32][serpent[i]]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swapentries (sbox[currentsbox][i],sbox[currentsbox][j]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if sbox[currentsbox][.] has the desired properties, save i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index := index + 1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until 8 S-boxes have been gener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сшифрование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66"/>
                </a:solidFill>
                <a:latin typeface="Arial"/>
              </a:rPr>
              <a:t>Расшифрование производится выполнением обратных операций в обратной последовательности. В частности, вместо таблиц замен </a:t>
            </a: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S0...S7</a:t>
            </a:r>
            <a:r>
              <a:rPr b="0" lang="ru-RU" sz="1700" spc="-1" strike="noStrike">
                <a:solidFill>
                  <a:srgbClr val="003366"/>
                </a:solidFill>
                <a:latin typeface="Arial"/>
              </a:rPr>
              <a:t> применяются в обратной последовательности инверсные таблицы замен </a:t>
            </a: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InvS0...InvS7</a:t>
            </a:r>
            <a:r>
              <a:rPr b="0" lang="ru-RU" sz="1700" spc="-1" strike="noStrike">
                <a:solidFill>
                  <a:srgbClr val="003366"/>
                </a:solidFill>
                <a:latin typeface="Arial"/>
              </a:rPr>
              <a:t>: </a:t>
            </a:r>
            <a:br>
              <a:rPr sz="1700"/>
            </a:b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42920" y="3357720"/>
          <a:ext cx="7848720" cy="3162240"/>
        </p:xfrm>
        <a:graphic>
          <a:graphicData uri="http://schemas.openxmlformats.org/drawingml/2006/table">
            <a:tbl>
              <a:tblPr/>
              <a:tblGrid>
                <a:gridCol w="463680"/>
                <a:gridCol w="457200"/>
                <a:gridCol w="463320"/>
                <a:gridCol w="463680"/>
                <a:gridCol w="460440"/>
                <a:gridCol w="460440"/>
                <a:gridCol w="463320"/>
                <a:gridCol w="463680"/>
                <a:gridCol w="457200"/>
                <a:gridCol w="463680"/>
                <a:gridCol w="463320"/>
                <a:gridCol w="460440"/>
                <a:gridCol w="460440"/>
                <a:gridCol w="463680"/>
                <a:gridCol w="463320"/>
                <a:gridCol w="457200"/>
                <a:gridCol w="463680"/>
              </a:tblGrid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цедура расширения ключ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Serpent поддерживает три размера ключа шифрования: 128, 192 и 256 бит. Однако, фактически, ключ алгоритма Serpent может иметь произвольный размер, меньший 256. Такой «неполный» ключ перед выполнением его расширения дополняется по следующему правилу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Ключ дополняется одним единичным битом справа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Затем ключ дополняется справа нулевыми битами до достижения 256-битного размера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олько после этого производится процедура расширения ключа, состоящая из следующих шагов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56-битный дополненный (при необходимости) ключ шифрования представляется в виде 8 32-битных слов, обозначаемых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w-8...w-1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слова используются в качестве исходных значений для вычисления промежуточного ключа — последовательности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w0...w131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wi = (wi-8 Å wi-5 Å wi-3 Å wi-1 Å f Å i) &lt;&lt;&lt; 11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— округленная дробная часть золотого сечения (√5 + 1) / 2, т.е. 9E3779B9 в шестнадцатеричной записи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ычисляются ключи раунда с использованием таблиц замен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S0...S7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(аналогично описанному выше их использованию в алгоритме Serpent)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0 = S3({w0, w1, w2, w3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1 = S2({w4, w5, w6, w7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2 = S1({w8, w9, w10, w11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3 = S0({w12, w13, w14, w15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4 = S7({w16, w17, w18, w19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5 = S6({w20, w21, w22, w23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6 = S5({w24, w25, w26, w27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7 = S4({w28, w29, w30, w31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...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31 = S4({w124, w125, w126, w127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32 = S3({w128, w129, w130, w131}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таки на варианты с уменьшенным числом раун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Ниже в таблице будут приведены атаки на варианты с уменьшенным числом раундов. Для каждой атаки в таблице указано число раундов, при котором может осуществляться атака, длина ключа, тип атаки и необходимые ресурсы. Для атаки может требоваться три категории ресурсов: вычислительные, память, информац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 столбце "Текст" указана информация, необходимая для осуществления атаки, в частности, количество блоков незашифрованного текста и соответствующих им блоков зашифрованного данным ключом текста. Для большинства атак противнику недостаточно перехватить произвольные тексты; незашифрованный текст должен иметь конкретную форму, выбранную противником. Такие незашифрованные тексты называются выбранными незашифрованными текстам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 столбце "Байты памяти" указано наибольшее число байтов памяти, которые требуются в любой точке осуществления атаки; это необязательно эквивалентно хранению всей необходимой информац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Столбец "Операции" содержит ожидаемое число операций, которое необходимо для осуществления атак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таки на варианты с уменьшенным числом раундов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55640" y="2349360"/>
          <a:ext cx="8137080" cy="4032000"/>
        </p:xfrm>
        <a:graphic>
          <a:graphicData uri="http://schemas.openxmlformats.org/drawingml/2006/table">
            <a:tbl>
              <a:tblPr/>
              <a:tblGrid>
                <a:gridCol w="1494000"/>
                <a:gridCol w="1940040"/>
                <a:gridCol w="1685520"/>
                <a:gridCol w="852120"/>
                <a:gridCol w="1163520"/>
                <a:gridCol w="1001880"/>
              </a:tblGrid>
              <a:tr h="333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лгоритм, раунд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унды (длина ключа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ип атак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Байты памят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36756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erpent 3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 (192, 25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mp. Boomera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 (256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eet-in-Middl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12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ifferential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ifferential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 (192, 25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ifferential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 (256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ifferential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6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 (192, 25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mp. Boomera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6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 (192, 25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mp. Boomera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6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 (256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mp. Boomera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таки на варианты с уменьшенным числом раун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спользуется amplified boomerang технология для создания 7 раундов отличий в Serpent, что приводит к атаке на вариант Serpent с 8 раундами для 192- и 256-битных ключей. Уточнение основано на экспериментальном наблюдении уменьшения текстов, памяти и обработки, требуемых для атаки; также предлагается расширение атаки на 9-раундовый вариант. Кроме того, возможна стандартная атака meet-in-the-middle и дифференциальные атаки на 8-раундовый вариант Serpent, что требует полного codebook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стоин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стая структура алгоритма облегчает его анализ с целью нахождения возможных уязвимос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Serpent эффективно реализуем аппаратно и в условиях ограниченных ресурс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Serpent легко модифицируется с целью защиты от атак по времени выполнения и потребляемой мощности (однако, за счет снижения скорости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вто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ыстор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ткое опис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рамет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уктура алгорит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шифров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цедура расширения ключ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та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стоин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достат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едостат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280" y="2492280"/>
            <a:ext cx="805500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казывает значительный резерв безопас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меет простую структуру, безопасность которой легко проанализировать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такующий, который восстанавливает или угадывает соответствующие биты подключей, имеет возможность вычислить дополнительные биты подключ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Является самым медленным из алгоритмов-финалистов в программных реализация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оцедуры зашифрования и расшифрования абсолютно различны, т.е. требуют раздельной реализ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спараллеливание вычислений при шифровании алгоритмом Serpent реализуемо с ограничения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93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3366"/>
                </a:solidFill>
                <a:latin typeface="Arial"/>
              </a:rPr>
              <a:t>(The End)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вто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6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осс Андерсон (Ross Anderson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ли Бихам (Eli Biham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арс Кнудсен (Lars Knudsen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64360" y="2349360"/>
            <a:ext cx="1482840" cy="165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03640" y="3573360"/>
            <a:ext cx="1513080" cy="194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64360" y="5084640"/>
            <a:ext cx="14986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едыстор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лавная изюминка шифра SERPENT в том, что все три его автора - это "асы криптоанализа", наиболее известные вскрытием шифров других криптографов. Израильский исследователь Эли Бихам - один из создателей дифференциального криптоанализа - техники, лежащей в основе большинства современных методов вскрытия блочных шифров. Датчанин Ларс Кнудсен уже упоминался в данном обзоре в связи с шифром DEAL (Кнудсен - единственный криптограф, фигурирующий сразу в двух проектах). Англичанин Росс Андерсон из Кембриджского университета с начала 90-х годов известен своими неординарными криптоаналитическими работам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ытует распространенное мнение, что по-настоящему хороший шифр может создать только тот, кто до этого добился серьезных успехов в криптоанализе. Специалисты не усматривают слабых сторон в SERPENT, так что можно быть вполне уверенным - данный криптоалгоритм является очень сильным шифром и имеет большие шансы оказаться среди финалистов конкурс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раткое опис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848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Serpent («змея») симметричный блочный алгоритм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шифрован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разработанный в в 1997 го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лгоритм являлся одним из финалистов 2-го этапа конкурса AES(Advanced Encryption Standard )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фр Serpent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не запатентован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и является общественным достоянием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фр использует только операции табличных подстановок, исключающего "ИЛИ" и битовых сдвигов в тщательно подобранной очереднос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корость в 5 раз быстрее 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льтраконсервативный по запасу прочности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арамет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26920" y="2924280"/>
            <a:ext cx="7693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pазмер блока, бит: </a:t>
            </a:r>
            <a:r>
              <a:rPr b="0" i="1" lang="en-US" sz="21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   128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pазмер ключа, бит: </a:t>
            </a:r>
            <a:r>
              <a:rPr b="0" i="1" lang="en-US" sz="21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  1-256(1)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число раундов:                                      32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pазмер ключевого элемента, бит:  </a:t>
            </a:r>
            <a:r>
              <a:rPr b="0" i="1" lang="en-US" sz="21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128 (размер блока)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число ключевых элементов:</a:t>
            </a:r>
            <a:r>
              <a:rPr b="0" i="1" lang="en-US" sz="21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33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Тип:                                                         Сеть Фейстеля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Скорость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кодирования/декодирования:                  15,3 мб/с</a:t>
            </a: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99640" y="3284280"/>
            <a:ext cx="58215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Serpent представляет собой SP-сеть, в которой блок данных в процессе шифрования разбивается на 4 субблока по 32 бита (см. рис.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22920" y="743040"/>
            <a:ext cx="25210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Алгоритм выполняет 32 раунда преобразований; перед первым раундом выполняется начальная перестановка IP, после заключительного раунда — финальная перестановка FP. Начальная перестановка определена следующим образом: </a:t>
            </a:r>
            <a:br>
              <a:rPr sz="1400"/>
            </a:b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87280" y="3141720"/>
          <a:ext cx="7272360" cy="3384000"/>
        </p:xfrm>
        <a:graphic>
          <a:graphicData uri="http://schemas.openxmlformats.org/drawingml/2006/table">
            <a:tbl>
              <a:tblPr/>
              <a:tblGrid>
                <a:gridCol w="452520"/>
                <a:gridCol w="457200"/>
                <a:gridCol w="453960"/>
                <a:gridCol w="453960"/>
                <a:gridCol w="454320"/>
                <a:gridCol w="457200"/>
                <a:gridCol w="452160"/>
                <a:gridCol w="457200"/>
                <a:gridCol w="452520"/>
                <a:gridCol w="452520"/>
                <a:gridCol w="457200"/>
                <a:gridCol w="453960"/>
                <a:gridCol w="453960"/>
                <a:gridCol w="453960"/>
                <a:gridCol w="457200"/>
                <a:gridCol w="45252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211280" y="2349000"/>
            <a:ext cx="493236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ждая ячейка таблицы соответствует биту выходного значения (от 0 до 127); в ячейке перечислены входные биты, XOR которых дает выходное значение. Например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=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16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52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56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70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83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94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105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Y1 =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72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114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125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и т.д.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де Xn и Yn — соответственно, n-й бит входного и выходного значе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34228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5:30:30Z</dcterms:created>
  <dc:creator>www.PHILka.RU</dc:creator>
  <dc:description/>
  <dc:language>en-US</dc:language>
  <cp:lastModifiedBy>www.PHILka.RU</cp:lastModifiedBy>
  <dcterms:modified xsi:type="dcterms:W3CDTF">2008-12-18T23:37:54Z</dcterms:modified>
  <cp:revision>26</cp:revision>
  <dc:subject/>
  <dc:title>Слайд 1</dc:title>
</cp:coreProperties>
</file>