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1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EAD-E21E-46AA-AABF-98110099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2CF-FF18-4F56-B367-A2C16085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2C2-F3E9-4ED2-AFCF-FCAD1DD8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8C9-F4AA-459D-9A2F-59F0C9C8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DC4-A555-427D-B1FE-29895C0D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372-C31B-4EBC-B85A-21097ECE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745-282B-45ED-9B31-9342ED66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5B7-9158-4CDB-99F0-D21B5DCB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3C7-06CF-40B0-9118-522FE4D4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1D4-538D-49CE-B456-E34ED2D0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71A-8D84-4A73-BB7B-11CE6B62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FC2-08C3-4341-B67B-9F8F98D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11F1-AC2F-42CB-9B83-C17367E7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 №5: ОКСОСОЕДИНЕНИЯ:  АЛЬДЕГИДЫ  И  КЕТО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5.1:  "Оксосоединения (альдегиды и кетоны)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600200"/>
          <a:ext cx="853416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1447920"/>
          <a:ext cx="800100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09480" y="685800"/>
          <a:ext cx="8077320" cy="30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8580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0880" y="1752480"/>
          <a:ext cx="845820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458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04920" y="1143000"/>
          <a:ext cx="81532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1532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04920" y="1828800"/>
          <a:ext cx="838188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381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4920" y="907920"/>
          <a:ext cx="8458200" cy="42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07920"/>
                    <a:ext cx="845820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ЧЕСКИЕ 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9152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С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=О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    R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=O      R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=O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)                (II)                     (II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4000" y="692280"/>
          <a:ext cx="8424720" cy="23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92280"/>
                    <a:ext cx="8424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4360" y="1628640"/>
          <a:ext cx="792468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924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2060640"/>
          <a:ext cx="83059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3059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76720" y="731160"/>
            <a:ext cx="293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акции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685800"/>
          <a:ext cx="853416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534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ы и кетоны представляют собой производные углеводородов, в молекулах которых име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бонильная групп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зываемая также карбонилом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gt;С=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льдегидами называют соединения с карбонильной группой, в которых атом углерода этой группы связан, по крайней мере, с одним атомом водорода. Кетонами называют  карбонилсоединения, в которых углерод карбонильной группы связан с двумя углеводородными радика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99960" y="838080"/>
          <a:ext cx="8115480" cy="42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838080"/>
                    <a:ext cx="811548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533520"/>
          <a:ext cx="82296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38080" y="228600"/>
          <a:ext cx="762012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7620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99960" y="1409760"/>
          <a:ext cx="8439120" cy="520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1409760"/>
                    <a:ext cx="84391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990720"/>
          <a:ext cx="8229600" cy="55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229600" cy="55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914400"/>
          <a:ext cx="8553600" cy="49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5536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38080" y="1143000"/>
          <a:ext cx="762012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6201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1371600"/>
          <a:ext cx="800100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001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9960" y="628560"/>
          <a:ext cx="8229600" cy="46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628560"/>
                    <a:ext cx="82296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914400"/>
          <a:ext cx="777240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7724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762120"/>
          <a:ext cx="76770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6770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48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 альдегидов и кетонов можно представить следующим общими форму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—C—H  альдегид,                     R—C—R'    кетон 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I                                                    II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                                                  O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ое для альдегидов сочетание карбонильной группы с водородом      —С—Н, 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но     —СН=О,    называют   альдеги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й, а карбонильную группу кетонов –   С=О                  кетогруппой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3470400"/>
            <a:ext cx="28728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5964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436572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876720" y="45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47680" y="628560"/>
          <a:ext cx="8001000" cy="758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628560"/>
                    <a:ext cx="800100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в результате соединения трех молекул альдимина (с разрывом в них двойных связей) получается альдегидаммиаки, имеющие циклическое строение: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                                                 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—CH         CH—R                R—HC        CH—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        NH                              HN        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                                                 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                                                    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дегидамми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дегидаммиаки разлагаются при действии разбавленных минеральных кислот, вновь выделяя исходные альдег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тоны с аммиаком претерпевают другие прев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227640" y="2205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220500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342900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04000" y="3429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1066680"/>
          <a:ext cx="800100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010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09480" y="1066680"/>
          <a:ext cx="7772400" cy="28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7724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14400" y="2266920"/>
          <a:ext cx="704844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66920"/>
                    <a:ext cx="7048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7200" y="971640"/>
          <a:ext cx="8305920" cy="323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71640"/>
                    <a:ext cx="83059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14400" y="990720"/>
          <a:ext cx="746748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467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914400"/>
          <a:ext cx="822960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22960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1371600"/>
          <a:ext cx="779148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914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838080" y="685800"/>
          <a:ext cx="7696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696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09480" y="609480"/>
          <a:ext cx="784872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8487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8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еждународной номенклатуре карбонильная группа называется также  оксогруппой, а альдегиды и кетоны – соответственно оксосоединения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формула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ы и кетоны отличаются по целому ряду свойств, однако, благодаря наличию в тех и в других карбонильной группы, в их свойствах есть много общего. Мы опишем эти соединения в одной главе, рассматривая их сходство и различ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609480" y="1981080"/>
          <a:ext cx="792504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925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0880" y="1219320"/>
          <a:ext cx="855360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553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762120" y="1447920"/>
          <a:ext cx="769608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696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33520" y="762120"/>
          <a:ext cx="807696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838080" y="1447920"/>
          <a:ext cx="76201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620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09480" y="380880"/>
          <a:ext cx="7925040" cy="17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33520" y="2209680"/>
          <a:ext cx="8076960" cy="365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09680"/>
                    <a:ext cx="80769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1447920"/>
          <a:ext cx="8229600" cy="167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04920" y="609480"/>
          <a:ext cx="8286480" cy="31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28648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80880" y="685800"/>
          <a:ext cx="8439120" cy="58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43912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04920" y="380880"/>
          <a:ext cx="84391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4391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менклатура и изомерия альдеги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1361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употребительны русские и международные тривиальные названия альдегидов, происходящие от соответствующих тривиальных названий кислот, в которые альдегиды переходят при окислении. Простейший альдегид содержит один атом углерода, он называется муравьиным альдегидом или формальдегидом. Его состав и строение выражаются формул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—С—Н   или      Н—СН=О   или        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О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   муравьиный альдеги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формальдег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609480"/>
          <a:ext cx="79246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924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7200" y="1219320"/>
          <a:ext cx="7677000" cy="43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76770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523880"/>
          <a:ext cx="800100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001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609480" y="1143000"/>
          <a:ext cx="7772400" cy="32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772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990720" y="1219320"/>
          <a:ext cx="731520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73152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914400" y="990720"/>
          <a:ext cx="739152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3915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09480" y="533520"/>
          <a:ext cx="78487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7848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, содержащий в молекуле два углеродных атома, называется уксусным альдегидом или ацетальдегидом; следующий гомолог содержит три углеродных атома и называется пропионовым альдегидом или пропиональдегид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—Н                        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—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 уксусный альдегид               О (ацетальдегид, этаналь)          пропионовый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(пропанал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ы с четырьмя углеродными атомами, состав которых можно представить формулой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=О, называются масляными альдегидами, они существуют в виде двух изомеров, различающихся строением углеродного скелета: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—Н    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—С—Н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                    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яный альдегид    изомасляный альдегид (бутиральдегид, бутаналь)(изобутиральдегид, изобутанал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2666880"/>
          <a:ext cx="761976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197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1447920"/>
          <a:ext cx="868680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920" y="5029200"/>
          <a:ext cx="842004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029200"/>
                    <a:ext cx="8420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6:36:15Z</dcterms:created>
  <dc:creator>Comp</dc:creator>
  <dc:description/>
  <dc:language>en-US</dc:language>
  <cp:lastModifiedBy>Mihaluk</cp:lastModifiedBy>
  <dcterms:modified xsi:type="dcterms:W3CDTF">2005-04-13T08:10:42Z</dcterms:modified>
  <cp:revision>5</cp:revision>
  <dc:subject/>
  <dc:title>ТЕМА №5: ОКСОСОЕДИНЕНИЯ:  АЛЬДЕГИДЫ  И  КЕТОНЫ </dc:title>
</cp:coreProperties>
</file>