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png" ContentType="image/png"/>
  <Override PartName="/ppt/media/image9.gif" ContentType="image/gif"/>
  <Override PartName="/ppt/media/image10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3FF4F-D140-4D4A-8208-C8B602F5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95737-9987-4F57-8FDB-409EDE73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F6AAB-68A6-43E5-9873-335203632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FEF68-33C4-472E-9E5A-600BDFFD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88A7-6CA3-4958-95E1-24EE1F01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28D3-2461-4258-9E17-E01D9BD6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EB10-AD9B-42E9-AE14-D7C4B429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388A-5111-462D-9442-5BE7DBA3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023D-3DFD-45D2-980C-9DAB5BBE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BF1A-5351-49CE-A493-C759D7CB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2F32-5DD2-4938-BD93-4A254A50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8C838-D2B1-4F76-B865-3A0B3646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25BF-A03F-4438-ADDA-FCD52A6D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7605-AF3E-4643-BE06-46198788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3362-D6F5-4888-8936-04038292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E704F-919A-46D7-B76C-1B46C59CC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B874-9751-4817-9814-485019383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A7927-C9D8-4ED0-9E7B-5BC81AEA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7BA9E-27EC-41A9-AD2D-31757267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8DC91-5275-48E0-83FF-FAAF12FB4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5DCAB-1577-49E8-A5AB-37A4E947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3BE8E-DB55-471F-B0BC-89B56743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D67BF-313D-4CAE-918F-3295C0A5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B36FD-1D0E-4F0F-A12B-4867759B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2935-559C-4D6C-95C5-CD97E908ADD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9580-0FDB-4935-B519-BBD832CD96F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08720" y="5229360"/>
            <a:ext cx="1368720" cy="1225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50920" y="5445000"/>
            <a:ext cx="1366920" cy="974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771640" y="623736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мсомольск-на-Амуре, 2008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413000"/>
            <a:ext cx="8353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емерис Дмитрий Юрьеви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ССЛЕДОВАНИЕ ПРЕДСТАВЛЕНИЙ О КАРЬЕРНОМ РОСТ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ТУДЕНТОВ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ЫПУСКНИКОВ ПЕДГОГИЧЕСКОГО ВУЗ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пециальность 050708  – «Педагогика и методика начального образования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о специализацией 031213 – «управление учебно-воспитательным процессом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51280" y="4797360"/>
            <a:ext cx="482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Научный руководитель: Каткова Е.Н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.пс.н., доцент кафедры психолог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79640" y="6206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ускная квалификационная рабо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психолог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26920" y="981000"/>
            <a:ext cx="7705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Эта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сновываясь на результатах полученных при анализе эссе, было проведено исследование на студентах-выпускниах специальности «Педагогика и методика начального образования». Была запущена специально разработанная нами методика «Представление субъекта о себе, о жизни, о карьере» (Каткова Е.Н.). Целью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ики: посмотреть, насколько влияет столкновение двух принципиально отличающихся реальностей, старых и новых приоритетов, стратегий, ценностей и установок, на будущее.  Насколько влияет социальный статус и социальная роль на представление о себе, своей жизни и карьер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093080" y="5445000"/>
            <a:ext cx="151272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39640" y="47628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 этап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ывая результаты полученных данных после исследования, были разработаны рекомендации для «Центра содействия занятости учащейся молодежи и трудоустройства выпускников» ФГОУ ВПО «АмГПГУ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1628640"/>
            <a:ext cx="8136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еобходимо привлекать к активному участию во всех мероприятиях, акциях, проводимых как на вузовском уровне, так и в общегородском масштабе (Дни карьеры, ярмарки вакансий, презентации общеобразовательных учреждений, конкурсы и т. д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ри работе с выпускниками важен учет ожиданий и установок самих студентов — будущих молодых специа­листов, а так же мониторинг качественных изменений в личности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ыпускника.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Важно организовывать активную поддержку карьерных устремлений выпускни­ков, как со стороны организации-работодателя, так и со стороны вуз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- Необходимо формировать у студентов готовность начинать профессиональную карьеру с низовых ступеней на работе, пройти весь путь профессионального и должностного роста (именно излишние амбиции выпускников, их нереали­стично завышенные ожидания и желание сразу занять высшую должность в организации являются, по мнению работодателей, главным препятствием в развитии карь­еры молодых специалистов), и с этим уделять внимание развитию мотивации к достижениям с помощью организации консультирования по проблемам личностного роста и выбора индивидуальной траектории карьерного продвиж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26920" y="692280"/>
            <a:ext cx="7920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ктуальность исследования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 развития современного профессионала состоит в реализации его карьерного потенциала и возможность осуществить собственную конкурентоспособность на современном рынке труда. Активное управление карьерой в динамичных социально-эко­номических условиях — одно из ключевых условий профессионального и даже шире — жизненного успеха челове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молодым специалистам в современных условиях рынка предъявляется целый ряд требований: они должны иметь не только достаточно высокий уровень теоре­тической и практической подготовки, но и отличаться социальной зрелостью, со­хранять высокую эффективность в ситуации неопределенности и быстро адаптиро­ваться к постоянно меняющимся условиям рабочей среды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 работы является проблема трудоустройства молодых специалистов выпускающихся из педагогических университетов и проектирования их дальнейшего жизненного пут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711920" y="5338800"/>
            <a:ext cx="1432080" cy="15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26920" y="1052640"/>
            <a:ext cx="7705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потезы ис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студентов факультетов АмГПГУ, в большинстве, нет четких представлений о том, как планировать свой карьерный рост, нет четкого плана развития своей карьер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ы полагаем, что студенты ИПиП специальности «Педагогика и методика начального образования» являются группой риска на рынке труда. Причиной этого является то, что студенты не представляют себя в рамках другой профессии, и стремятся оттянуть наступление взрослой жизни и освоение новой социальной роли, т.е. причиной уязвимости являются внутренние проблемы личности будущих учителей начальных классов, попадающих на рынок труда с высокой конкуренци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948360" y="4869000"/>
            <a:ext cx="1392480" cy="139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26920" y="1628640"/>
            <a:ext cx="7632720" cy="32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екто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шег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ования являются студенты 5 курса педагогического университет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сследования - представление о своей карьере студентов 5 курса педагогического университет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сследования явилось изучение представлений студентов-выпускников о своем карьерном росте в будущей профессиональной деятельност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67640" y="620640"/>
            <a:ext cx="1200240" cy="1800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00720" y="4869000"/>
            <a:ext cx="1800000" cy="157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11280" y="476280"/>
            <a:ext cx="8208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потеза и цель нашего исследования позволили сформулировать следующ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психологической литературы по проблеме исследова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ить представления студентов-выпускников о своей будущей карьер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звести сравнительный анализ содержания представлений о своей будущей карьере у студентов 5 курсов различных факультетов (ИПиП, ФМФ, ЕГФ, ФИиЮ), и определить специфику изучаемых представлений, отражающих специальности и факультеты в цел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явить экспериментальную группу испытуемых, представляющих группу риска на рынке труда, на основе количественного и качественного сравнительного анализа результатов, полученных при решении третьей задачи исследова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исать представления студентов о своем существовании, представляющих группу риска на рынке труда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ать рекомендации для «Центра содействия занятости учащейся молодежи и трудоустройства выпускников» ФГОУ ВПО «АмГПГУ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164360" y="4941720"/>
            <a:ext cx="1690560" cy="1690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900000" y="90792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ОРЕТИЧЕСКИЕ ОСНОВАНИЯ ИЗУЧЕНИЯ ПРЕДСТАВЛЕНИЙ О КАРЬЕРНОМ РОСТЕ У СТУДЕНТОВ-ВЫПУСКНИКОВ ПЕДАГОГИЧЕСКОГО ВУЗА В ПСИХОЛОГИЧЕСКОЙ НАУК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1989000"/>
            <a:ext cx="7488360" cy="36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сти профессионального становления личности в онтогенез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логический анализ проблемы готовности личности к выбору профессии и ее профессиональных план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сти кризиса профессионального самосознания молодого специалиста на стадии профессиональной адапт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76360" y="549360"/>
            <a:ext cx="65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ИСАНИЕ РЕЗУЛЬТАТОВ  ИССЛЕДОВАНИЯ ПРЕДСТАВЛЕНИЙ О КАРЬЕРНОМ РОСТЕ СТУДЕНТОВ ВЫПУСКНИКОВ ПЕДАГОГИЧЕСКОГО ВУ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177336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аза исследования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Экспериментальная работа проводилась в Амурском гуманитарно-педагогическом государственном университете г. Комсомольска-на-Амуре. В исследовании приняло участие 155 студентов выпускников трех факультетов и одного института: «Институт педагогики и психологии, Физико-математический факультет», «Естественно-географический факультет», «Факультет истории и юриспруденции», 13 студентов выпускников специальности «Педагогика и методика начального образования» Института педагогики и психологи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308720" y="4869000"/>
            <a:ext cx="1619280" cy="1788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39640" y="530064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55640" y="907920"/>
            <a:ext cx="7920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этап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первом этапе исследования нами было запланировано проведение анализа эссе студентов-выпускников АмГПГУ  на тему: «Я и моя карьера». В эссе студенты должны были описать свои мысли по поводу целей и смысла их карьеры. В карьерном эссе студенту было необходимо раскрыть совой взгляд на карьеру, отмечать причины и особенности выбора их профессии, характеризовать образ будущего и раскрыть собственные стратегии достижения карьерного успеха. В качестве метода обработки данных был взят -«контент-анализ». Нами были выделены категории и единицы анализа, по результатам подсчета которых можно сделать вывод о  том, какие у студентов факультетов АмГПГУ представления о планировании их карьерного рос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885080" y="5300640"/>
            <a:ext cx="93672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042920" y="836640"/>
            <a:ext cx="727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этап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овели процентное сравнение, среди факультетов, количества эссе с наличием единиц анализа, относящихся к каждой из категорий, для того, чтобы проследить частоту встречаемости, и тем самым определить значимость единиц анализа, данных категорий, для студентов различных факультетов. Суммировали все сравниваемые до этого проценты по отдельным категориям. С помощью критерия Фишера выявили значимость различий конечных данны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619280" y="3068640"/>
          <a:ext cx="5689440" cy="267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3068640"/>
                    <a:ext cx="5689440" cy="26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116000" y="59500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нтное соотношение исследуемых категорий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о факультета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8-06-18T16:39:10Z</dcterms:modified>
  <cp:revision>13</cp:revision>
  <dc:subject/>
  <dc:title>PowerPoint Presentation</dc:title>
</cp:coreProperties>
</file>