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drumroll.wav" ContentType="audio/x-wav"/>
  <Override PartName="/ppt/media/image1.jpeg" ContentType="image/jpeg"/>
  <Override PartName="/ppt/media/image2.jpeg" ContentType="image/jpeg"/>
  <Override PartName="/ppt/media/explode.wav" ContentType="audio/x-wav"/>
  <Override PartName="/ppt/media/breeze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82A-3465-418D-BDEF-8E8CE7FF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8D5-4989-459B-831C-DB2C815B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FAC-BBBF-461F-A6E8-F65ABDFB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F5E-385D-497E-BE6E-F7F0F1F8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03BD-EDC7-4804-9FBF-BE9D8E2A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A076-DF1A-4672-B9F0-BF43CEB3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0E94-2D45-4BDC-89D1-DB1347B5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64C0-FF98-43C5-AE91-5301DCF5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BB7A-FD9D-4271-9EA8-D3D372E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E44E-9DB1-410D-946A-15A52F92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D7E6-8A26-4AA3-BB52-0AADEE5C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961-0EBA-40D3-A2EF-FBC57F9A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546A-58FC-40AB-A52E-DEBD6F39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73B2-29F1-4651-9B22-C750F411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A583-6F89-4FB4-9B22-5E6CBBEE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9D9C-8BA4-4B84-938F-185CD408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41A7-C168-4217-9D36-7E795FFA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8CA-5CC0-4F7A-A14E-E78D333D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3EA-A3C8-4160-816E-3D182E56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33B-C8BC-478C-8A17-A0BA8DF7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A0C-B7A7-4FBD-8486-76034EEA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656-7D79-4BD3-9BB9-D620D5E7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862-E2FB-4C2A-B1F3-58FCB02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90C-3DE0-4BE2-B58E-DFD6158A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F5EC-69BC-4D2D-833F-29C0AA030E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3EEA-4F8B-4EA3-8D04-62F0128CA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Юрий Шевчук и группа 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DD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Твор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newsflash/>
    <p:sndAc>
      <p:stSnd>
        <p:snd r:embed="rId1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оздание групп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жды летом 1980 года Ю. Шевчу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ипломированный художник и поэт-самоуч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стретил четырех молодых людей так и началась группа ДД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авшая одной из самых популярных групп русского 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097080" cy="396108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fade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ервый альбо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 1982г группа ДДТ записывает свой первый альбом «Свинья на радуге»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lu"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Новый состав ДД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енью 1983г. Шевчук собрал новый костяк ДДТ. Состав обновленного ДДТ бы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ндрей Васильев (гита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кал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адим Курылев (ба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лей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кал) и Игорь Доценко (ударные). В апреле 1987г к ним присоединился гитарист и скрипач Никита Зайцев. Позднее группа обрела клавишник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оопар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ндрея Муратова и в этом составе приняла участие в Рок-фестивалях в ряде подмосковных городов. В сентябре 1988 в группу пришел саксофонист Михаил Чернов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учшая рок-групп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егодняшний день ДДТ – одна из самых популярных российских рок-групп. В1993г группа была наз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шей рок-группой го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сам Шевчук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шим рок-музыкантом го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42040" y="1828800"/>
            <a:ext cx="268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ожелани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7280" y="3068640"/>
            <a:ext cx="6769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усский рок приведет нас к побед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3:33:39Z</dcterms:created>
  <dc:creator>Anton</dc:creator>
  <dc:description/>
  <dc:language>en-US</dc:language>
  <cp:lastModifiedBy>Anton</cp:lastModifiedBy>
  <dcterms:modified xsi:type="dcterms:W3CDTF">2005-03-10T18:14:11Z</dcterms:modified>
  <cp:revision>3</cp:revision>
  <dc:subject/>
  <dc:title>Юрий Шевчук и группа DDT</dc:title>
</cp:coreProperties>
</file>