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28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7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47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33.jpeg" ContentType="image/jpeg"/>
  <Override PartName="/ppt/media/image32.wmf" ContentType="image/x-wmf"/>
  <Override PartName="/ppt/media/image49.png" ContentType="image/png"/>
  <Override PartName="/ppt/media/image12.png" ContentType="image/png"/>
  <Override PartName="/ppt/media/image30.jpeg" ContentType="image/jpeg"/>
  <Override PartName="/ppt/media/image29.jpeg" ContentType="image/jpeg"/>
  <Override PartName="/ppt/media/image52.jpeg" ContentType="image/jpeg"/>
  <Override PartName="/ppt/media/image20.png" ContentType="image/png"/>
  <Override PartName="/ppt/media/image57.png" ContentType="image/pn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A6A-5359-4029-9EC0-6591FFF3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1CE-4C69-49BD-B807-29ACCE62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28A-21F1-4C64-8FC7-C53ACA3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1C9-5E06-4ACF-95DC-FD09FF6C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435-57FF-4AD6-AF6C-74F278E5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2F80-1473-4E55-B06E-4CB39A39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7737-22A5-4062-BD11-04D1B467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A9F-A275-4FEE-99F8-1420D925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E59F-E1CC-469E-9339-910C36A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FC99-7CEC-4189-84D8-8B384502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F93D-DF4E-490D-BB57-54A08E1B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3D8-A15B-4611-B8DA-71BB3809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9319-7DD4-43D4-B395-31A27EE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02A0-3133-4BB8-BC60-ED66CB2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707A-C2F6-4AA5-886B-1E47F3F1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109-C8F0-4EC6-82E4-5C323008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B442-F0E1-4A7F-A6AF-1170E77F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6F4-3E1D-4BE2-95E5-F689F999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BC96-C251-4738-94E5-97775479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66A-B1E8-4D15-856F-365EAD0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75D-3B86-4188-AC67-E4B1E73E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261-2A56-432B-8CDB-9748659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5A0-1F03-4F34-8A2D-1F0A03D2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2F1-3A7B-4518-96D9-21617E0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C6C-09B4-48C3-AB39-FE5943BB0A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D655-17FB-4E1B-AC06-1B7F4EFBF4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4.jpeg"/><Relationship Id="rId3" Type="http://schemas.openxmlformats.org/officeDocument/2006/relationships/image" Target="../media/image24.jpeg"/><Relationship Id="rId4" Type="http://schemas.openxmlformats.org/officeDocument/2006/relationships/image" Target="../media/image22.png"/><Relationship Id="rId5" Type="http://schemas.openxmlformats.org/officeDocument/2006/relationships/image" Target="../media/image25.jpeg"/><Relationship Id="rId6" Type="http://schemas.openxmlformats.org/officeDocument/2006/relationships/image" Target="../media/image17.png"/><Relationship Id="rId7" Type="http://schemas.openxmlformats.org/officeDocument/2006/relationships/image" Target="../media/image26.jpeg"/><Relationship Id="rId8" Type="http://schemas.openxmlformats.org/officeDocument/2006/relationships/image" Target="../media/image15.png"/><Relationship Id="rId9" Type="http://schemas.openxmlformats.org/officeDocument/2006/relationships/image" Target="../media/image27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hyperlink" Target="http://kamensky.perm.ru/proj/mng/kepler.htm" TargetMode="External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9.png"/><Relationship Id="rId5" Type="http://schemas.openxmlformats.org/officeDocument/2006/relationships/image" Target="../media/image50.jpeg"/><Relationship Id="rId6" Type="http://schemas.openxmlformats.org/officeDocument/2006/relationships/image" Target="../media/image51.pn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8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1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Многогранники вокруг на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03840" y="1258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052640"/>
            <a:ext cx="3456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дготовили ученица и ученик 10 «Б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МОУ СОШ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оржукова Вале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Марков Алекс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752720" cy="2662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_501"/>
          <p:cNvPicPr/>
          <p:nvPr/>
        </p:nvPicPr>
        <p:blipFill>
          <a:blip r:embed="rId2"/>
          <a:stretch/>
        </p:blipFill>
        <p:spPr>
          <a:xfrm>
            <a:off x="539640" y="1268280"/>
            <a:ext cx="345600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-364320"/>
            <a:ext cx="896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ТАБЛИЦ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правильных многогранник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700280"/>
          <a:ext cx="9143640" cy="482364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52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Названи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ребер при верши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сторон гра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гра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реб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  <a:ea typeface="Times New Roman"/>
                        </a:rPr>
                        <a:t>Число верши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етраэд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Октаэд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одекаэд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Икосаэд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692280"/>
            <a:ext cx="8424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ачиная с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II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века до нашей эры в Древней Греции создаются философские школы, в которых происходит переход от практической к философской геометрии. Одной из первых и самых известных школ была </a:t>
            </a: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Пифагорейская</a:t>
            </a: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названная в честь своего основателя </a:t>
            </a: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Пифаг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ифагорейцы считали, что атомы основных элементов должны иметь форму различных Платоновых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Платон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связал с этими телами формы атомов основных стихий природы. </a:t>
            </a: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(Стихия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– вещество, из которого путем сгущения и разряжения, охлаждения и нагревания образуются все тел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1486080" cy="1095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488680" y="6922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огонь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119700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1067040" cy="1114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37160" y="4762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тетр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146700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1295640" cy="1170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86520" y="1843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вода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5280" y="18439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икосаэдр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270828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55640" y="2781360"/>
            <a:ext cx="1467000" cy="1104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488680" y="3212280"/>
            <a:ext cx="10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воздух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4716360" y="2781360"/>
            <a:ext cx="1297080" cy="1228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517440" y="328392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октаэдр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407664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755640" y="4149720"/>
            <a:ext cx="1447920" cy="110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53840" y="4580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земл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716360" y="4149720"/>
            <a:ext cx="1295640" cy="1147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597000" y="45806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гексаэдр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537372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755640" y="5589720"/>
            <a:ext cx="142884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64280" y="594936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вселенная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4716360" y="5445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455880" y="59493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d1ec"/>
                </a:solidFill>
                <a:latin typeface="Tahoma"/>
              </a:rPr>
              <a:t>  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додекаэдр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 rot="5400000">
            <a:off x="-2843280" y="3109680"/>
            <a:ext cx="63244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Comic Sans MS"/>
              </a:rPr>
              <a:t>стихии</a:t>
            </a:r>
            <a:endParaRPr b="0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Многогранники в искусстве и архите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23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Великая пирамида в Гизе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Эта грандиозная Египетская пирамида является древнейшим из Семи чудес древности. Кроме того, это единственное из чудес, сохранившееся до наших дней. Во времена своего создания Великая пирамида была самым высоким сооружением в мире. И удерживала она этот рекорд, по всей видимости, почти 4000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9214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2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4840" y="-1080"/>
            <a:ext cx="671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Александрийский маяк</a:t>
            </a: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761080" cy="3840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835200"/>
            <a:ext cx="9144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d1ec"/>
                </a:solidFill>
                <a:latin typeface="Comic Sans MS"/>
              </a:rPr>
              <a:t>   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Маяк был построен на маленьком острове Фарос в Средиземном море, около берегов Александрии. Этот оживленный порт основал Александр Великий во время посещения Египта. Сооружение назвали по имени острова. На его строительство, должно быть, ушло 20 лет, а завершен он был около 280 г. до н.э., во времена правления Птолемея II, царя Егип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076720" y="1148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Три баш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883800"/>
            <a:ext cx="4427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Фаросский маяк состоял из трех мраморных башен, стоявших на основании из массивных каменных блоков. Первая башня была прямоугольной, в ней находились комнаты, в которых жили рабочие и солдаты. Над этой башней располагалась меньшая, восьмиугольная башня со спиральным пандусом, ведущим в верхнюю башн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946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73240"/>
            <a:ext cx="4572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В эпоху Возрождения большой интерес к формам правильных многогранников проявили скульпторы. архитекторы, художники. Леонардо да  Винчи (1452 -1519) например, увлекался теорией многогранников и часто изображал их на своих полотнах. Он  проиллюстрировал правильными и полуправильными многогранниками книгу Монаха Луки Пачоли ''О божественной пропорции.''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0" t="0" r="40153" b="280"/>
          <a:stretch/>
        </p:blipFill>
        <p:spPr>
          <a:xfrm>
            <a:off x="4479840" y="0"/>
            <a:ext cx="466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Многогранники в биоло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4680000" cy="41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Математики считают, что пчё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строили свои шестиугольные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с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задолго до появления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ffff66"/>
                </a:solidFill>
                <a:latin typeface="Comic Sans MS"/>
              </a:rPr>
              <a:t>    </a:t>
            </a:r>
            <a:r>
              <a:rPr b="0" i="1" lang="ru-RU" sz="2000" spc="-1" strike="noStrike">
                <a:solidFill>
                  <a:srgbClr val="ffff66"/>
                </a:solidFill>
                <a:latin typeface="Comic Sans MS"/>
              </a:rPr>
              <a:t>Икосаэдр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оказался в центре внимания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биологов в их спорах  относительно формы вир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Геометрические свой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икосаэдра позволяют экономить генетическу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66"/>
                </a:solidFill>
                <a:latin typeface="Comic Sans MS"/>
              </a:rPr>
              <a:t>информа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12000" y="1628640"/>
            <a:ext cx="2519280" cy="23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Comic Sans MS"/>
              </a:rPr>
              <a:t>Полуправильные</a:t>
            </a:r>
            <a:r>
              <a:rPr b="0" lang="en-US" sz="8000" spc="-1" strike="noStrike">
                <a:solidFill>
                  <a:srgbClr val="ffff66"/>
                </a:solidFill>
                <a:latin typeface="Comic Sans MS"/>
              </a:rPr>
              <a:t> многогранники</a:t>
            </a:r>
            <a:br>
              <a:rPr sz="8000"/>
            </a:b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(тела Архимед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386064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Полуправильным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называется выпуклый многогранник, гранями которого являются правильные многоугольники (возможно с разным числом сторон), причём в каждой вершине сходится одинаковое число гра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0816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688000" y="692280"/>
            <a:ext cx="34560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Усечённый октаэдр</a:t>
            </a:r>
            <a:br>
              <a:rPr sz="3600"/>
            </a:b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получается путем операции отсечения углов  октаэдра плоскостя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1873440" cy="1728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620640"/>
            <a:ext cx="3240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Усечённый</a:t>
            </a:r>
            <a:br>
              <a:rPr sz="3600"/>
            </a:b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тетраэдр</a:t>
            </a:r>
            <a:br>
              <a:rPr sz="4400"/>
            </a:b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получается путем операции отсечения углов тетраэдра плоскостя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2133720" cy="1647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59280" y="2205000"/>
            <a:ext cx="325116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Усечённый икосаэдр</a:t>
            </a:r>
            <a:br>
              <a:rPr sz="3200"/>
            </a:b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получается путем операции отсечения углов икосаэдра плоскостя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3628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Многогранником называется тело, граница которого является объединением конечного числа многоуг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4410000"/>
            <a:ext cx="2592360" cy="199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1635120" cy="1892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227640" y="404640"/>
            <a:ext cx="1587600" cy="165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94836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067280" y="4365720"/>
            <a:ext cx="1657080" cy="1727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419640" y="189000"/>
            <a:ext cx="19731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305080" cy="2016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00000" y="404640"/>
            <a:ext cx="30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Усечённый ку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403280" y="4581360"/>
            <a:ext cx="2305080" cy="2016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71640" y="3716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косододекаэ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6084720" y="4508640"/>
            <a:ext cx="2044800" cy="1815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076720" y="342900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Усечён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косододекаэ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084720" y="1341360"/>
            <a:ext cx="2108520" cy="2121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219640" y="-171360"/>
            <a:ext cx="346716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Усечённый кубооктаэ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47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omic Sans MS"/>
              </a:rPr>
              <a:t>Звёздчатые многогранни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3284640"/>
            <a:ext cx="752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66"/>
                </a:solidFill>
                <a:uFillTx/>
                <a:latin typeface="Comic Sans MS"/>
              </a:rPr>
              <a:t>Звёздчатые многогранники</a:t>
            </a: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 получаются из правильных многогранников продолжением их граней или рёбе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92360" y="234936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Comic Sans MS"/>
              </a:rPr>
              <a:t>(тела Кеплера – Пуансо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46087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У октаэдра есть только одна звездчатая форма. Её можно рассматривать как соединение двух тетраэдров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Большой звездчатый додекаэдр был впервые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описан</a:t>
            </a:r>
            <a:r>
              <a:rPr b="0" lang="en-US" sz="2400" spc="-1" strike="noStrike" u="sng">
                <a:solidFill>
                  <a:srgbClr val="86d1ec"/>
                </a:solidFill>
                <a:uFillTx/>
                <a:latin typeface="Comic Sans MS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Кеплером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в 1619 г. Это последняя звездчатая форма правильного додекаэдра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952640" cy="2155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5796000" y="4149720"/>
            <a:ext cx="2089080" cy="2030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24360" y="0"/>
            <a:ext cx="471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Звёздчатый октаэд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0" y="33051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Звёздчатый додекаэд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5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Первая звёздчатая форма икос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Вторая звёздчатая форма икос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Шестая звёздчатая форма икосаэд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11280" y="18900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6588000" y="1484280"/>
            <a:ext cx="1587600" cy="1549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588000" y="5084640"/>
            <a:ext cx="1587600" cy="1511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6588000" y="3284640"/>
            <a:ext cx="1587600" cy="1549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08000" y="26028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Comic Sans MS"/>
              </a:rPr>
              <a:t>Звездчатый икосаэ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6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Третья звёздчатая форма кубоокт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Завершающая звёздчатая форма кубоокт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940360" y="1989000"/>
            <a:ext cx="1511280" cy="1513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867280" y="3862440"/>
            <a:ext cx="1650960" cy="1658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270440" y="503280"/>
            <a:ext cx="702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Comic Sans MS"/>
              </a:rPr>
              <a:t>Звездчатый кубооктаэд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ервая звёздчатая форма икосододек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Девятая звёздчатая форма икосододек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авершающая звёздчатая форма икосододекаэдра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33640" cy="1019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300720" y="3357720"/>
            <a:ext cx="1656000" cy="1512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6300720" y="5013360"/>
            <a:ext cx="1656000" cy="1577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6300720" y="1557360"/>
            <a:ext cx="1656000" cy="1689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119960" y="476280"/>
            <a:ext cx="806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Tahoma"/>
              </a:rPr>
              <a:t>Звездчатый икосододекаэд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06616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ЭЙЛЕР Леонард (1707-83), 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математик, механик, физик и 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астроном. По происхождению 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швейцарец. Учёный необычайной 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широты интересов и творческой продуктивности.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Автор св. 800 работ по 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математическому анализу, дифференциальной геометрии,</a:t>
            </a:r>
            <a:br>
              <a:rPr sz="2800"/>
            </a:b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 теории чисел, приближенным вычислениям, небесной механике, математической физике, оптике, баллистике, кораблестроению, теории музыки и других, оказавших значительное влияние на развитие наук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260280"/>
            <a:ext cx="27622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Comic Sans MS"/>
              </a:rPr>
              <a:t>Теорема Эйле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усть </a:t>
            </a:r>
            <a:r>
              <a:rPr b="1" i="1" lang="ru-RU" sz="2400" spc="-1" strike="noStrike">
                <a:solidFill>
                  <a:srgbClr val="ffff66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- число вершин выпуклого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многогранника, </a:t>
            </a:r>
            <a:r>
              <a:rPr b="1" i="1" lang="ru-RU" sz="2400" spc="-1" strike="noStrike">
                <a:solidFill>
                  <a:srgbClr val="ffff66"/>
                </a:solidFill>
                <a:latin typeface="Comic Sans MS"/>
              </a:rPr>
              <a:t>Р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- число его рёбер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Comic Sans MS"/>
              </a:rPr>
              <a:t>Г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- число гра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огда верно раве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Comic Sans MS"/>
              </a:rPr>
              <a:t>В-Р+Г=2.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Число </a:t>
            </a: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=</a:t>
            </a:r>
            <a:r>
              <a:rPr b="1" i="1" lang="ru-RU" sz="2400" spc="-1" strike="noStrike">
                <a:solidFill>
                  <a:srgbClr val="ffff66"/>
                </a:solidFill>
                <a:latin typeface="Comic Sans MS"/>
              </a:rPr>
              <a:t>В-Р+Г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называется </a:t>
            </a: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эйлеров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Comic Sans MS"/>
              </a:rPr>
              <a:t>характеристикой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многогранника. Соглас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еореме Эйлера, для выпуклого многогранн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эта характеристика равна 2. То что эйлеро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характеристика равна 2 для некотор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знакомых нам многогранников, видно 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таблиц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8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4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7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0" dur="2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3" dur="2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6" dur="2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9" dur="2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2" dur="20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5" dur="2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8" dur="200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1" dur="2000"/>
                                        <p:tgtEl>
                                          <p:spTgt spid="2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27080" y="1976400"/>
            <a:ext cx="38577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27080" y="1976400"/>
            <a:ext cx="6192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0"/>
          <a:ext cx="9144000" cy="6961320"/>
        </p:xfrm>
        <a:graphic>
          <a:graphicData uri="http://schemas.openxmlformats.org/drawingml/2006/table">
            <a:tbl>
              <a:tblPr/>
              <a:tblGrid>
                <a:gridCol w="4940280"/>
                <a:gridCol w="1139760"/>
                <a:gridCol w="933480"/>
                <a:gridCol w="1005120"/>
                <a:gridCol w="112536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Многогранник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Числ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верш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Числ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реб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Число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гра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В-Р+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n-угольная пирамид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n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n+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n-угольная призм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3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n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41e2"/>
                      </a:solidFill>
                    </a:lnL>
                    <a:lnR w="5760">
                      <a:solidFill>
                        <a:srgbClr val="5541e2"/>
                      </a:solidFill>
                    </a:lnR>
                    <a:lnT w="5760">
                      <a:solidFill>
                        <a:srgbClr val="5541e2"/>
                      </a:solidFill>
                    </a:lnT>
                    <a:lnB w="5760">
                      <a:solidFill>
                        <a:srgbClr val="5541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Теорема Эйлера имеет огромное значение в геометрии. Эта теорема породила новое направление в математике - топологию. Эйлерова характеристика не зависит ни от длин рёбер, ни от площадей граней, ни от каких-либо углов многогранника. Эйлерова характеристика равна 2 независимо от того, выпуклый это многогранник или нет. Главное - чтобы поверхность этого многогранника не имела дыр и была " похожа" на сферу, а не на рам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(см. рис.). Для многогранника, " похожего" на рамку, эйлерова характеристика равна 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60036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5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9" dur="2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672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Comic Sans MS"/>
              </a:rPr>
              <a:t>Правильные многогранник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(Платоновы тела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3716280"/>
            <a:ext cx="54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                 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. Кэрр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МНОГОГРАННИКИ из лен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1989000"/>
            <a:ext cx="763452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Многогранники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– отнюдь не только объект научных исследований. Их формы – завершенные и причудливые, широко используются в декоративном искусств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Обычно многогранники конструируют из разверток. Но есть и другой способ – построение многогранников из ленты</a:t>
            </a: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5580000" cy="5103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2952720" cy="283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95280" y="3429000"/>
            <a:ext cx="273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Тетраэдр можно получить, перегибая бумажную ленту по сторонам расчерченных на ней равносторонних треуголь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6227640" cy="4672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1052640"/>
            <a:ext cx="201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Аналогичным способом можно свернуть куб. Его грани также выстраиваются в цепочку, а чтобы изменить направление ленты для завершения формообразования, достаточно перегнуть ее по диагонали квадра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mn03.gif (8688 bytes)"/>
          <p:cNvPicPr/>
          <p:nvPr/>
        </p:nvPicPr>
        <p:blipFill>
          <a:blip r:embed="rId1"/>
          <a:stretch/>
        </p:blipFill>
        <p:spPr>
          <a:xfrm>
            <a:off x="2627280" y="404640"/>
            <a:ext cx="6227640" cy="2664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2700360" y="3573360"/>
            <a:ext cx="6192720" cy="2592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24000" y="765000"/>
            <a:ext cx="1873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Построение октаэдра и икосаэдра осуществляется на основе узора из правильных треугольников. Свернув для октаэдра кольцо из шести, а для икосаэдра – из десяти треугольников, перегибаем ленту в обратную сторону и продолжаем сворачивать такие же коль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2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А теперь проверьте свои знания по изученному материал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11280" y="184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Поверхность, составленная из четырех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ТЕТР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АРАЛЛЕЛЕПИП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Ш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11280" y="1844640"/>
            <a:ext cx="77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верхность, составленная из многоугольников и ограничива- ющая некоторое геометрическое те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МНОГО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МНОГОГРАН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100080"/>
            <a:ext cx="856908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Платоновыми телами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 называются </a:t>
            </a:r>
            <a:r>
              <a:rPr b="0" i="1" lang="en-US" sz="2800" spc="-1" strike="noStrike">
                <a:solidFill>
                  <a:srgbClr val="ffff66"/>
                </a:solidFill>
                <a:latin typeface="Tahoma"/>
              </a:rPr>
              <a:t>правильные однородные выпуклые многогранники,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 то есть выпуклые многогранники, все грани и углы которых равны, причем грани - правильные многоугольники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Свой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в каждой вершине правильного многогранника сходится одно и то же число рёб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все двугранные углы при рёбрах рав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все многогранные углы при вершинах  правильного многоугольника рав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 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Платоновы тела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- трехмерный аналог плоских правильных многоуг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Существует лишь 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пять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выпуклых правильных многогранников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44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44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944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144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44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11280" y="184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Многоугольник, из которого составлен многогранн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СТОР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ГР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ЕБ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ВЕРШ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11280" y="18446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Отрезок, соединяющий две вершины, не принадлежащие одной гра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ДИАГОН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ВЫС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МЕДИ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АПОФ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11280" y="18446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Высота боковой грани правильной пирамиды, проведенная из ее вершин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ДИАГОН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КА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АПОФ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ГИПОТЕНУ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42280"/>
            <a:ext cx="81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Тетраэдр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четырехгранник, все грани которого треугольники, т.е. треугольная пирамида; правильный тетраэдр ограничен четырьмя равносторонними тре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83280" y="2708280"/>
            <a:ext cx="3960720" cy="3605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4752720" cy="2822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619280" y="4869000"/>
            <a:ext cx="17240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11280" y="18446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Этот правильный многогранник составлен из 8-ми равносторонних треугольник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ДОДЕК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ТР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ОКТ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11280" y="184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Составлен из 6-ти многогранник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КВАД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КУ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ЕТРАЭД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rId4" action="ppaction://hlinksldjump"/>
          </p:cNvPr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ИРАМ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rId1" action="ppaction://hlinksldjump"/>
          </p:cNvPr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11280" y="184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Стихия тетраэд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ЗДУ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ОГО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11280" y="184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Многоугольник, подобный  пчелиным сот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8-МИ 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4-Х 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6-ТИ 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ТРЕ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780000" y="333720"/>
            <a:ext cx="504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Comic Sans MS"/>
              </a:rPr>
              <a:t>Куб или правильный гексаэдр</a:t>
            </a:r>
            <a:r>
              <a:rPr b="1" lang="en-US" sz="2800" spc="-1" strike="noStrike">
                <a:solidFill>
                  <a:srgbClr val="ffff66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правильная четырехугольная призма с равными ребрами, ограниченная шестью квадрат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564000" cy="3159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454560" y="3481560"/>
            <a:ext cx="568944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184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Наука, изучающая многогранн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1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) ТОФТ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1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) ТОП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928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ЛИГРА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9280" y="5661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Т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27664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овершенно 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32000" y="1989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верно!!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92720" y="4653000"/>
            <a:ext cx="3382920" cy="647640"/>
          </a:xfrm>
          <a:custGeom>
            <a:avLst/>
            <a:gdLst>
              <a:gd name="textAreaLeft" fmla="*/ 41760 w 3382920"/>
              <a:gd name="textAreaRight" fmla="*/ 3341160 w 338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12776" h="21600">
                <a:moveTo>
                  <a:pt x="0" y="0"/>
                </a:moveTo>
                <a:lnTo>
                  <a:pt x="112776" y="0"/>
                </a:lnTo>
                <a:lnTo>
                  <a:pt x="112776" y="21600"/>
                </a:lnTo>
                <a:lnTo>
                  <a:pt x="0" y="21600"/>
                </a:lnTo>
                <a:close/>
              </a:path>
              <a:path fill="lightenLess" w="112776" h="21600">
                <a:moveTo>
                  <a:pt x="0" y="0"/>
                </a:moveTo>
                <a:lnTo>
                  <a:pt x="112776" y="0"/>
                </a:lnTo>
                <a:lnTo>
                  <a:pt x="111376" y="1400"/>
                </a:lnTo>
                <a:lnTo>
                  <a:pt x="1400" y="1400"/>
                </a:lnTo>
                <a:close/>
              </a:path>
              <a:path fill="darken" w="112776" h="21600">
                <a:moveTo>
                  <a:pt x="112776" y="0"/>
                </a:moveTo>
                <a:lnTo>
                  <a:pt x="112776" y="21600"/>
                </a:lnTo>
                <a:lnTo>
                  <a:pt x="111376" y="20200"/>
                </a:lnTo>
                <a:lnTo>
                  <a:pt x="111376" y="1400"/>
                </a:lnTo>
                <a:close/>
              </a:path>
              <a:path fill="darkenLess" w="112776" h="21600">
                <a:moveTo>
                  <a:pt x="11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376" y="20200"/>
                </a:lnTo>
                <a:close/>
              </a:path>
              <a:path fill="lighten" w="11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ЕДУЮЩИЙ ВОП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Comic Sans MS"/>
              </a:rPr>
              <a:t>Результаты тест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914400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10-9 правильных ответов - «5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8-7 правильных ответов - «4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6-5 правильных ответов - «3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Если Вы набрали менее 5 баллов – просмотрите презентацию ещё раз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187280" y="1700280"/>
            <a:ext cx="84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66"/>
                </a:solidFill>
                <a:latin typeface="Comic Sans MS"/>
              </a:rPr>
              <a:t>Спасибо за просмотр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6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Октаэдр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восьмигранник, тело, ограниченное восемью правильными тре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3927" t="0" r="4938" b="0"/>
          <a:stretch/>
        </p:blipFill>
        <p:spPr>
          <a:xfrm>
            <a:off x="5651640" y="3448080"/>
            <a:ext cx="3313080" cy="3409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3080" t="0" r="1814" b="-1403"/>
          <a:stretch/>
        </p:blipFill>
        <p:spPr>
          <a:xfrm>
            <a:off x="0" y="1628640"/>
            <a:ext cx="558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59280" y="69048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Додекаэдр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двенадцатигранник, тело, ограниченное двенадцатью правильными много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00360" y="3517920"/>
            <a:ext cx="64436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473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66"/>
                </a:solidFill>
                <a:uFillTx/>
                <a:latin typeface="Comic Sans MS"/>
              </a:rPr>
              <a:t>Икосаэдр</a:t>
            </a:r>
            <a:r>
              <a:rPr b="1" lang="en-US" sz="2400" spc="-1" strike="noStrike">
                <a:solidFill>
                  <a:srgbClr val="ffff66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двадцатигранник, тело, ограниченное  двадцатью равносторонними треугольни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6084720" cy="3603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940360" y="3962520"/>
            <a:ext cx="3203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5:33:51Z</dcterms:created>
  <dc:creator>Саня</dc:creator>
  <dc:description/>
  <dc:language>en-US</dc:language>
  <cp:lastModifiedBy>eXPerience</cp:lastModifiedBy>
  <dcterms:modified xsi:type="dcterms:W3CDTF">2008-05-06T17:34:22Z</dcterms:modified>
  <cp:revision>47</cp:revision>
  <dc:subject/>
  <dc:title>Слайд 1</dc:title>
</cp:coreProperties>
</file>