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1484F-1414-43B8-A45A-A8C508DE3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694A7-05FC-4822-8395-7C7E3A45A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2BF8F-92D2-45A3-A844-5CFE29540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5133F-C0FD-443E-B9EF-C0CCB1CD4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C442C-0DE9-4BDD-9E15-156BE8126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317B4-694A-4944-BFB1-1E3EF6D57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3CB48-BC60-4253-89C9-0D56B0713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740BF-1952-4863-8E3E-2D21DBED2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435B0-221C-4F4F-96B0-53452EC40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53590-AF29-4639-83B9-0D5CD7290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44DB8-B3C3-4D80-8C82-ED4E70412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3F77B-9C85-448B-BFC0-A34FFD23E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688B8-1FAC-4437-B38E-54B423339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CCD3B-3D43-4ACC-958B-46A3AB770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BBEBB-1ED4-4C10-A831-D6ABA6C31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78C39-845E-4B89-BCA3-9900F0D8E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6EE23-FA31-4897-A928-31DD7760E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D5E47-83D4-41B2-AF90-A391EF957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2EA91-B2A8-46D5-93F5-DF523F0B7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605C4-F71E-4B77-A580-825E48B47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080B0-6544-4B54-A6C6-019ABE5AD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5E2C5-D49E-4551-98C9-ED93E427F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137D1-5378-4E68-B28F-F495AB178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77AF7-7C5C-4A48-B4BA-5E6C700E3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39D22-A508-42B5-AC81-811DC5B05FFD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0F69F-9EA3-474A-96CE-576E20AB14F1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98100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Генерация экстремальных подстановок для шифров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700000" y="3068640"/>
            <a:ext cx="5832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Выполнил:                 Безбородов В.В.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                                    </a:t>
            </a: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студент гр. 8216-2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Булевы функции для экстремальных подстановок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8305920" cy="13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Каждую сбалансированную функцию с нелинейностью 2 сведем к одной из двух функций: </a:t>
            </a:r>
            <a:br>
              <a:rPr sz="2400"/>
            </a:b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2556000" y="3573360"/>
            <a:ext cx="4086000" cy="7714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1042920" y="5013360"/>
            <a:ext cx="7272360" cy="7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900000" y="764640"/>
            <a:ext cx="76932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3366"/>
                </a:solidFill>
                <a:latin typeface="Arial"/>
              </a:rPr>
              <a:t>(The End)</a:t>
            </a:r>
            <a:endParaRPr b="0" lang="en-US" sz="6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Содержание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Ввод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Краткое описание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Структура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Булевы функции для экстремальных подстановок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Ввод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Для того чтобы шифр имел максимальную стойкость к линейному и дифференциальному методам криптоанализа, подстановка должна  обеспечивать минимальную абсолютную величину преобладания линейных сумм и минимальную вероятность наиболее вероятных дифференциалов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Краткое описание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68360" y="2349360"/>
            <a:ext cx="8424720" cy="37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Назовем подстановку экстремальной, если она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2052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имеет минимальную возможную абсолютную величину преобладания линейных сумм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2052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имеет минимальную возможную вероятность наиболее вероятных дифференциалов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Структур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26920" y="2622240"/>
            <a:ext cx="7910640" cy="42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3538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Умножение экстремальной подстановки справа и слева на аффинные подстановки дает экстремальную подстановку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indent="3538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Умножение подстановки справа и слева на группу Р</a:t>
            </a:r>
            <a:r>
              <a:rPr b="0" lang="en-US" sz="2800" spc="-1" strike="noStrike" baseline="-25000">
                <a:solidFill>
                  <a:srgbClr val="003366"/>
                </a:solidFill>
                <a:latin typeface="Arial"/>
              </a:rPr>
              <a:t>А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не меняет вероятности дифференциалов данного веса и абсолютной величины преобладания линейных сумм данного вес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Структур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26560" y="2349360"/>
            <a:ext cx="8317080" cy="45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Поскольку умножение входа и выхода экстремальной подстановки на элементы группы Р</a:t>
            </a:r>
            <a:r>
              <a:rPr b="0" lang="ru-RU" sz="2800" spc="-1" strike="noStrike" baseline="-25000">
                <a:solidFill>
                  <a:srgbClr val="003366"/>
                </a:solidFill>
                <a:latin typeface="Arial"/>
              </a:rPr>
              <a:t>А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дает экстремальную подстановку (при этом сохраняются вероятности дифференциалов веса 2 и абсолютные величины преобладаний линейных сумм веса 2), то множество экстремальных подстановок можно разбить на классы. При этом экстремальные подстановки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и Е будут Р</a:t>
            </a:r>
            <a:r>
              <a:rPr b="0" lang="ru-RU" sz="2800" spc="-1" strike="noStrike" baseline="-25000">
                <a:solidFill>
                  <a:srgbClr val="003366"/>
                </a:solidFill>
                <a:latin typeface="Arial"/>
              </a:rPr>
              <a:t>А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эквивалентными, если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=АТВ, где А,В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  <a:ea typeface="Arial"/>
              </a:rPr>
              <a:t>€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Р</a:t>
            </a:r>
            <a:r>
              <a:rPr b="0" lang="ru-RU" sz="2800" spc="-1" strike="noStrike" baseline="-25000">
                <a:solidFill>
                  <a:srgbClr val="003366"/>
                </a:solidFill>
                <a:latin typeface="Arial"/>
              </a:rPr>
              <a:t>А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. Поэтому класс Р</a:t>
            </a:r>
            <a:r>
              <a:rPr b="0" lang="ru-RU" sz="2800" spc="-1" strike="noStrike" baseline="-25000">
                <a:solidFill>
                  <a:srgbClr val="003366"/>
                </a:solidFill>
                <a:latin typeface="Arial"/>
              </a:rPr>
              <a:t>А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–эквивалентных подстановок можно задать подстановкой, переводящей 0 в 0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Булевы функции для экстремальных подстановок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26560" y="2133720"/>
            <a:ext cx="8317080" cy="43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3366"/>
                </a:solidFill>
                <a:latin typeface="Arial"/>
              </a:rPr>
              <a:t>Рассмотрим нелинейные свойства сбалансированных четырехразрядных булевых функций. Для удобства будем рассматривать булевы функции с точностью до аффинной эквивалентности. Так, по определению все аффинные функции аффинно эквивалентны, поэтому любую аффинную функцию можно задать представителем у=х</a:t>
            </a:r>
            <a:r>
              <a:rPr b="0" lang="ru-RU" sz="2900" spc="-1" strike="noStrike" baseline="-25000">
                <a:solidFill>
                  <a:srgbClr val="003366"/>
                </a:solidFill>
                <a:latin typeface="Arial"/>
              </a:rPr>
              <a:t>1</a:t>
            </a:r>
            <a:endParaRPr b="0" lang="en-US" sz="29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Булевы функции для экстремальных подстановок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843280" y="3630600"/>
            <a:ext cx="4093920" cy="32274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755640" y="2421000"/>
            <a:ext cx="838836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Пример искомой аффинной подстановки – подстановка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(х</a:t>
            </a:r>
            <a:r>
              <a:rPr b="0" lang="ru-RU" sz="2400" spc="-1" strike="noStrike" baseline="-25000">
                <a:solidFill>
                  <a:srgbClr val="003366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, х</a:t>
            </a:r>
            <a:r>
              <a:rPr b="0" lang="ru-RU" sz="2400" spc="-1" strike="noStrike" baseline="-25000">
                <a:solidFill>
                  <a:srgbClr val="003366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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а </a:t>
            </a: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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1, х3 </a:t>
            </a:r>
            <a:r>
              <a:rPr b="0" lang="ru-RU" sz="2400" spc="-1" strike="noStrike">
                <a:solidFill>
                  <a:srgbClr val="003366"/>
                </a:solidFill>
                <a:latin typeface="Symbol"/>
                <a:ea typeface="Symbol"/>
              </a:rPr>
              <a:t>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b </a:t>
            </a: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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, х4 </a:t>
            </a: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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с </a:t>
            </a: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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1). Таким образом, можно рассматривать булеву функцию с таблицей истинности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Булевы функции для экстремальных подстановок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26560" y="2491920"/>
            <a:ext cx="799308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Поскольку четырехразрядная подстановка </a:t>
            </a:r>
            <a:r>
              <a:rPr b="0" lang="el-GR" sz="2000" spc="-1" strike="noStrike">
                <a:solidFill>
                  <a:srgbClr val="003366"/>
                </a:solidFill>
                <a:latin typeface="Arial"/>
                <a:ea typeface="Arial"/>
              </a:rPr>
              <a:t>π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  <a:ea typeface="Arial"/>
              </a:rPr>
              <a:t> сохраняет неподвижным, значение х</a:t>
            </a:r>
            <a:r>
              <a:rPr b="0" lang="ru-RU" sz="2000" spc="-1" strike="noStrike" baseline="-25000">
                <a:solidFill>
                  <a:srgbClr val="003366"/>
                </a:solidFill>
                <a:latin typeface="Arial"/>
                <a:ea typeface="Arial"/>
              </a:rPr>
              <a:t>1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  <a:ea typeface="Arial"/>
              </a:rPr>
              <a:t> то достаточно рассмотреть аффинную подстановку от трех переменных </a:t>
            </a:r>
            <a:r>
              <a:rPr b="0" lang="el-GR" sz="2000" spc="-1" strike="noStrike">
                <a:solidFill>
                  <a:srgbClr val="003366"/>
                </a:solidFill>
                <a:latin typeface="Arial"/>
                <a:ea typeface="Arial"/>
              </a:rPr>
              <a:t>π 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  <a:ea typeface="Arial"/>
              </a:rPr>
              <a:t>(х</a:t>
            </a:r>
            <a:r>
              <a:rPr b="0" lang="ru-RU" sz="2000" spc="-1" strike="noStrike" baseline="-25000">
                <a:solidFill>
                  <a:srgbClr val="003366"/>
                </a:solidFill>
                <a:latin typeface="Arial"/>
                <a:ea typeface="Arial"/>
              </a:rPr>
              <a:t>2 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  <a:ea typeface="Arial"/>
              </a:rPr>
              <a:t>х</a:t>
            </a:r>
            <a:r>
              <a:rPr b="0" lang="ru-RU" sz="2000" spc="-1" strike="noStrike" baseline="-25000">
                <a:solidFill>
                  <a:srgbClr val="003366"/>
                </a:solidFill>
                <a:latin typeface="Arial"/>
                <a:ea typeface="Arial"/>
              </a:rPr>
              <a:t>3 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  <a:ea typeface="Arial"/>
              </a:rPr>
              <a:t>х</a:t>
            </a:r>
            <a:r>
              <a:rPr b="0" lang="ru-RU" sz="2000" spc="-1" strike="noStrike" baseline="-25000">
                <a:solidFill>
                  <a:srgbClr val="003366"/>
                </a:solidFill>
                <a:latin typeface="Arial"/>
                <a:ea typeface="Arial"/>
              </a:rPr>
              <a:t>4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  <a:ea typeface="Arial"/>
              </a:rPr>
              <a:t>). Далее имеем </a:t>
            </a:r>
            <a:r>
              <a:rPr b="0" lang="el-GR" sz="2000" spc="-1" strike="noStrike">
                <a:solidFill>
                  <a:srgbClr val="003366"/>
                </a:solidFill>
                <a:latin typeface="Arial"/>
                <a:ea typeface="Arial"/>
              </a:rPr>
              <a:t>π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  <a:ea typeface="Arial"/>
              </a:rPr>
              <a:t>(1,1,1)=(1,1,1), то </a:t>
            </a:r>
            <a:r>
              <a:rPr b="0" lang="el-GR" sz="2000" spc="-1" strike="noStrike">
                <a:solidFill>
                  <a:srgbClr val="003366"/>
                </a:solidFill>
                <a:latin typeface="Arial"/>
                <a:ea typeface="Arial"/>
              </a:rPr>
              <a:t>π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  <a:ea typeface="Arial"/>
              </a:rPr>
              <a:t> (0,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Arial"/>
              </a:rPr>
              <a:t>d,e,g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  <a:ea typeface="Arial"/>
              </a:rPr>
              <a:t>)=(0,1,1,1). Если (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Arial"/>
              </a:rPr>
              <a:t>d,e,g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  <a:ea typeface="Arial"/>
              </a:rPr>
              <a:t>) не равно (1,1,1), то возможны семь случаев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195640" y="3860640"/>
            <a:ext cx="5595840" cy="27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5T05:30:30Z</dcterms:created>
  <dc:creator>www.PHILka.RU</dc:creator>
  <dc:description/>
  <dc:language>en-US</dc:language>
  <cp:lastModifiedBy>www.PHILka.RU</cp:lastModifiedBy>
  <dcterms:modified xsi:type="dcterms:W3CDTF">2008-12-21T17:59:23Z</dcterms:modified>
  <cp:revision>54</cp:revision>
  <dc:subject/>
  <dc:title>Слайд 1</dc:title>
</cp:coreProperties>
</file>