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814-F35C-4F3A-896F-57528697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4B8-3F3E-4D18-BBCC-E3E5EFDB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B70-4D62-4D60-A5C8-CAAC0101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6F9-A34C-4C8B-8F9B-6CFA6BC9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446-2BE2-45C3-89F3-F41E8D3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CAF-1A46-4672-B5DA-95556484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B73-806A-4552-AF65-C0DB828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A6F-1D64-4E69-966E-B5D5676D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F18-74DD-4351-AF0F-DC44A7E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F9E-84B3-4F24-910A-2C57336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78B-0CB7-4676-90B3-ED99DBB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62A-3260-496C-91E7-B3A8E0F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3B8-A443-4AE9-B09A-54202047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qiq.ru/media/pictures/original/novyy_virus_ugrozhaet_millionam_kompjuterov_pod_windows_3118.jpe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hyperlink" Target="http://www.drweb.ru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www.esetnod32.ru/" TargetMode="External"/><Relationship Id="rId11" Type="http://schemas.openxmlformats.org/officeDocument/2006/relationships/image" Target="../media/image15.png"/><Relationship Id="rId12" Type="http://schemas.openxmlformats.org/officeDocument/2006/relationships/hyperlink" Target="http://www.kaspersky.ru/" TargetMode="External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омпьютерные виру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819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Сетевые 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гут передавать по компьютерным сетям свой программный код и запускать его на компьютерах, подключенных к этой сети. Заражение сетевым вирусом может произойти при работе с электронной почтой или при «путешествиях» по Всемирной паут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4. Признаки появления и способы заражения виру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рофессионалу сложно обнаружить присутствие вирусов на компьютере, поскольку они умело маскируются среди обычных файлов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знак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ывод на экран непредусмотренных сообщений или изображений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дача непредусмотренных звуковых сигналов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еожиданное открытие и закрытие лотка CD-ROM-устройства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роизвольный, без вашего участия, запуск на компьютере каких-либо программ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ри наличии на вашем компьютере межсетевого экрана, появление предупреждений о попытке какой-либо из программ вашего компьютера выйти в Интернет, хотя вы это никак не иницииров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вирус может появиться в компьютер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1. переместиться с гибкого диска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2. при решении математической задачи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3. при подключении к компьютеру модема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4. самопроизволь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03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Среди Антивирусных программ Выде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SzPct val="10287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детект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buSzPct val="102768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1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доктора (фаги)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ревизор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SzPct val="102805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9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октора-ревизоры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филь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buSzPct val="102833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7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вакцины (иммунизаторы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6.Признаки, указывающие на поражение программ вирус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правильная работа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едленная работа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возможность загрузки операцио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счезновение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зменение даты, времени создания файла или его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ывод на экран непредусмотренных сообщений или изобра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астые зависания компьютер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рад лучших антивирусов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в алфавитном порядк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addin Knowledge Systems e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mmand AntiV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mputer Associates Inocula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ct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Eset NOD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-Secure Anti-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Kaspersky Anti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twork Associates McAfee Virus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orman Viru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anda Antivirus Pla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ymantec Norton AntiVi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Лично я бы посоветовал </a:t>
            </a:r>
            <a:br>
              <a:rPr sz="36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что-нибудь из этого спис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8045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octor Web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Eset NOD 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Kaspersky Anti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(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бывший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Antiviral Toolkit 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Network Associates McAfee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Virus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ymantec Norton Anti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Trend Micro PC-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1450800"/>
            <a:ext cx="2087280" cy="1965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24720" y="472428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27640" y="5865840"/>
            <a:ext cx="23227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467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8353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Угроза исходит от компьютерных вирусов, которые уничтожают жизненно важную, ценную информацию, что может привести к финансовым потерям. В настоящее время известно более 5000 программных вирусов, число которых непрерывно рас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Здоровье ваших компьютеров, сохранность ваших данных - в ваших руках!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268280"/>
            <a:ext cx="8497800" cy="4751280"/>
            <a:chOff x="324000" y="1268280"/>
            <a:chExt cx="8497800" cy="4751280"/>
          </a:xfrm>
        </p:grpSpPr>
        <p:grpSp>
          <p:nvGrpSpPr>
            <p:cNvPr id="45" name=""/>
            <p:cNvGrpSpPr/>
            <p:nvPr/>
          </p:nvGrpSpPr>
          <p:grpSpPr>
            <a:xfrm>
              <a:off x="324000" y="1268280"/>
              <a:ext cx="8497800" cy="4751280"/>
              <a:chOff x="324000" y="1268280"/>
              <a:chExt cx="8497800" cy="475128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268280"/>
                <a:ext cx="8497800" cy="475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556000" y="1699920"/>
                <a:ext cx="6048360" cy="3111480"/>
              </a:xfrm>
              <a:prstGeom prst="rect">
                <a:avLst/>
              </a:prstGeom>
              <a:solidFill>
                <a:srgbClr val="d3c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лан презент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онятие вредоносного программного обеспечения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лассификация вредоносного программного обеспечения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мпьютерные вирусы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изнаки появления и способы заражения вирусами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ограммные антивирусные средства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амостоятельные исследования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Выв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95280" y="1339560"/>
              <a:ext cx="8424720" cy="287640"/>
            </a:xfrm>
            <a:prstGeom prst="rect">
              <a:avLst/>
            </a:prstGeom>
            <a:gradFill rotWithShape="0">
              <a:gsLst>
                <a:gs pos="0">
                  <a:srgbClr val="7171b8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767640" y="4624560"/>
            <a:ext cx="2376360" cy="2233440"/>
            <a:chOff x="6767640" y="4624560"/>
            <a:chExt cx="2376360" cy="22334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67640" y="4624560"/>
              <a:ext cx="2376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54480" y="6162120"/>
              <a:ext cx="487800" cy="1465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Понятие вредоносного программного обеспе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8487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 вредоносному программному обеспечению относятся сетевые черви, компьютерные вирусы, троянские программы, хакерские утилиты и прочие программы, наносящие какой-либо вред компьютеру, на котором </a:t>
            </a:r>
            <a:br>
              <a:rPr sz="3200"/>
            </a:b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ни запускаются, или другим </a:t>
            </a:r>
            <a:br>
              <a:rPr sz="3200"/>
            </a:b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омпьютерам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99cc00"/>
                </a:solidFill>
                <a:latin typeface="Arial"/>
              </a:rPr>
              <a:t>http://www.viruslist.com/ru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27664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413000"/>
            <a:ext cx="8905680" cy="5068440"/>
            <a:chOff x="0" y="1413000"/>
            <a:chExt cx="8905680" cy="5068440"/>
          </a:xfrm>
        </p:grpSpPr>
        <p:sp>
          <p:nvSpPr>
            <p:cNvPr id="56" name=""/>
            <p:cNvSpPr/>
            <p:nvPr/>
          </p:nvSpPr>
          <p:spPr>
            <a:xfrm>
              <a:off x="2592360" y="1413000"/>
              <a:ext cx="3384360" cy="57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доносно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программно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обеспечени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7280" y="2709720"/>
              <a:ext cx="13716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35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ассические компьютерные виру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2360" y="2709720"/>
              <a:ext cx="13716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35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роянские пр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1164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0000" y="2709720"/>
              <a:ext cx="16002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89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етевые чер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64000" y="3600360"/>
              <a:ext cx="923760" cy="57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Проникн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вение на удаленные компьютер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64000" y="4424400"/>
              <a:ext cx="9018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Запуск своей копии на удаленном компьютер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4000" y="5338800"/>
              <a:ext cx="901800" cy="924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Дальнейшее распространение на другие компьютеры в се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79920" y="3395520"/>
              <a:ext cx="0" cy="22856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87640" y="3510000"/>
              <a:ext cx="107604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Сбор информации и ее передача злоумышленник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87640" y="4309920"/>
              <a:ext cx="107604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Разрушение или злонамеренная модификац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87640" y="4995720"/>
              <a:ext cx="107604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Нарушение работ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способности компьютер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92280" y="3395520"/>
              <a:ext cx="0" cy="18284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92280" y="38527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92280" y="46530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92280" y="52243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80" y="3671640"/>
              <a:ext cx="792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Последую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щий запуск своего ко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4437000"/>
              <a:ext cx="86364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Дальнейшее внедрение в другие ресурсы компьютер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73080" y="3395520"/>
              <a:ext cx="0" cy="15998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87640" y="5681520"/>
              <a:ext cx="1076040" cy="79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Использование ресурсов компьютера в неблаговидных целя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08520" y="3624120"/>
              <a:ext cx="84312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orm.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Loves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08520" y="4195800"/>
              <a:ext cx="843120" cy="38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I-Worm.Sw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88000" y="4868640"/>
              <a:ext cx="896760" cy="33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I-Worm.Sobig.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82880" y="3395520"/>
              <a:ext cx="11160" cy="16444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365440" y="3852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365440" y="47671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365440" y="56815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94400" y="3852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9440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3240" y="504036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8160" y="3395520"/>
              <a:ext cx="0" cy="2628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163680" y="60246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163680" y="52243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163680" y="46530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63680" y="38527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06760" y="3624120"/>
              <a:ext cx="76212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Trojan-Proxy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Mitglie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6760" y="4424400"/>
              <a:ext cx="81288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Backdoor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Agobot.g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6760" y="4995720"/>
              <a:ext cx="81288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Trojan-Downloader.BAT.Ftp.a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58600" y="39672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97000" y="3600360"/>
              <a:ext cx="64764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Win32.FunLove.</a:t>
              </a:r>
              <a:br>
                <a:rPr sz="800"/>
              </a:b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3662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97000" y="4176720"/>
              <a:ext cx="64764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Xoral</a:t>
              </a:r>
              <a:r>
                <a:rPr b="0" lang="ru-RU" sz="1000" spc="-1" strike="noStrike">
                  <a:solidFill>
                    <a:srgbClr val="333333"/>
                  </a:solidFill>
                  <a:latin typeface="Arial"/>
                </a:rPr>
                <a:t>a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1680" y="4767120"/>
              <a:ext cx="64296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Win32.Parite.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1680" y="5338800"/>
              <a:ext cx="642960" cy="421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95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Spaces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12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7560" y="3395520"/>
              <a:ext cx="0" cy="21715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7560" y="55674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7560" y="4881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756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7560" y="3738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2360" y="2709720"/>
              <a:ext cx="136836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89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чие вредоносные пр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29560" y="3395520"/>
              <a:ext cx="0" cy="25142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8160" y="3395520"/>
              <a:ext cx="0" cy="18284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5320" y="3624120"/>
              <a:ext cx="755640" cy="59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«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З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амус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ривание» се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45320" y="4424400"/>
              <a:ext cx="75564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Сетевые ата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5320" y="4881600"/>
              <a:ext cx="75564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Взломщики удаленных компью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тер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5320" y="5688000"/>
              <a:ext cx="784080" cy="57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Фатальные сетевые ата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500600" y="396720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500600" y="453852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500600" y="511020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500600" y="591012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2280" y="3510000"/>
              <a:ext cx="83340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DoS.Perl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Avi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280" y="3967200"/>
              <a:ext cx="83340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HackTool.Win32.CrackSearch.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2280" y="4538520"/>
              <a:ext cx="83340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Flooder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.Fu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82000" y="5113080"/>
              <a:ext cx="82368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DoS.Win32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.DieW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58160" y="52243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58160" y="3738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5816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58160" y="47671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58600" y="4995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492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4364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4872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8000" y="1989000"/>
              <a:ext cx="0" cy="3600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4920" y="2349360"/>
              <a:ext cx="69138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68360" y="189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лассификация вредоносног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граммного обесп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274680"/>
          <a:ext cx="8507520" cy="6416640"/>
        </p:xfrm>
        <a:graphic>
          <a:graphicData uri="http://schemas.openxmlformats.org/drawingml/2006/table">
            <a:tbl>
              <a:tblPr/>
              <a:tblGrid>
                <a:gridCol w="2127240"/>
                <a:gridCol w="2194200"/>
                <a:gridCol w="2058840"/>
                <a:gridCol w="2127240"/>
              </a:tblGrid>
              <a:tr h="32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ические компьютерные виру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 относятся программы, распространяющие свои копии по ресурсам локального компьютера с целью: последующего запуска своего кода при каких-либо действиях пользователя; дальнейшего внедрения в другие ресурсы компьют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оянск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данную категорию входят программы, осу-ществляющие несанкцио-нированные пользовате-лем действия: сбор ин-формации и ее передачу злоумышленнику, ее раз-рушение или модифика-цию, нарушение работо-способности компьютера, использование ресурсов компьютера в неблаго-видных цел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тевые чер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ятся програм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ространяющие сво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пии по локальным и/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м сетям с цель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никновения на удаленные компьютер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уска своей копии на удаленном компьютер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льнейшего распространения на другие компьютеры се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 вредонос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ят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илиты автоматизации создания сетевых червей, вирусов и троянски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блиотеки, разработанные для создания вредоносного П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илиты скрытия кода зараженных файлов от антивирусной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014560" cy="201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2043360" cy="237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27614" t="0" r="12980" b="0"/>
          <a:stretch/>
        </p:blipFill>
        <p:spPr>
          <a:xfrm>
            <a:off x="6659640" y="83664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29989" t="11395" r="14078" b="12094"/>
          <a:stretch/>
        </p:blipFill>
        <p:spPr>
          <a:xfrm>
            <a:off x="324000" y="3860640"/>
            <a:ext cx="1917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Основно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Компьютерный вир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это программный код, встроенный в другую программу или документ, или в определённые области носителя данных и предназначенный для выполнения несанкционированных действий на несущем компьюте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По «среде обитания» вирусы делятся 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492280"/>
            <a:ext cx="3384720" cy="1657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айловые 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508640"/>
            <a:ext cx="3384360" cy="1657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акро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421000"/>
            <a:ext cx="3384720" cy="1657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етевые 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170028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1700280"/>
            <a:ext cx="865080" cy="2665440"/>
          </a:xfrm>
          <a:prstGeom prst="downArrow">
            <a:avLst>
              <a:gd name="adj1" fmla="val 50000"/>
              <a:gd name="adj2" fmla="val 770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170028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Файловые 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недряются в программу и активизируются при их запуске. После запуска заражённой программы вирусы находятся в оперативной памяти компьютера и могут заражать другие файлы до момента выключения компьютера или перезагрузки операцион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Макро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ражают файлы документов, например, текстовых документов. После загрузки заражённого документа в текстовый редактор макровирус постоянно присутствует в оперативной памяти компьютера и может заражать другие документы. Угроза заражения прекращается только после закрытия текстово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9:47Z</dcterms:created>
  <dc:creator>Артём</dc:creator>
  <dc:description/>
  <dc:language>en-US</dc:language>
  <cp:lastModifiedBy>-</cp:lastModifiedBy>
  <dcterms:modified xsi:type="dcterms:W3CDTF">2008-05-25T16:09:45Z</dcterms:modified>
  <cp:revision>9</cp:revision>
  <dc:subject/>
  <dc:title>Компьютерные вирусы</dc:title>
</cp:coreProperties>
</file>