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jpeg" ContentType="image/jpeg"/>
  <Override PartName="/ppt/media/image23.wmf" ContentType="image/x-wmf"/>
  <Override PartName="/ppt/media/image27.gif" ContentType="image/gif"/>
  <Override PartName="/ppt/media/image10.wmf" ContentType="image/x-wmf"/>
  <Override PartName="/ppt/media/image6.wmf" ContentType="image/x-wmf"/>
  <Override PartName="/ppt/media/image31.wmf" ContentType="image/x-wmf"/>
  <Override PartName="/ppt/media/image25.png" ContentType="image/png"/>
  <Override PartName="/ppt/media/image32.gif" ContentType="image/gif"/>
  <Override PartName="/ppt/media/image19.jpeg" ContentType="image/jpeg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5.wmf" ContentType="image/x-wmf"/>
  <Override PartName="/ppt/media/image8.wmf" ContentType="image/x-wmf"/>
  <Override PartName="/ppt/media/image13.wmf" ContentType="image/x-wmf"/>
  <Override PartName="/ppt/media/image4.wmf" ContentType="image/x-wmf"/>
  <Override PartName="/ppt/media/image2.jpeg" ContentType="image/jpeg"/>
  <Override PartName="/ppt/media/image3.jpeg" ContentType="image/jpeg"/>
  <Override PartName="/ppt/media/image1.png" ContentType="image/png"/>
  <Override PartName="/ppt/media/image16.wmf" ContentType="image/x-wmf"/>
  <Override PartName="/ppt/media/image14.jpeg" ContentType="image/jpeg"/>
  <Override PartName="/ppt/media/image15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media/image24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977-A25E-498F-BD34-6A0B8D23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3AF-DE25-4E8C-A3F8-AF46AD25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DC8-255A-48FC-994E-87599C9D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6F9-AACA-4B71-AFF5-1212F8B2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6D5-54F0-4AD5-9AF6-B4B40858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A95-C1E3-4141-ADAB-BB9DA12D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A23-F469-4659-A28B-A55F03B9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D1E-724B-4E86-8EBD-16D317B1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D46-78ED-4A55-BB65-26EF622C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407-81B7-4724-93CC-BA443C2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BDA-CDE7-42F7-BBF7-4CA7ACC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ACB-C435-48D4-BA82-65EED6D3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1CC2-5077-4A86-81E1-94CF329EB6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Latn-UZ" sz="18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28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be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’li ishtirok etgan gaplarning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o‘lishsiz shakl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To be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’lining o‘tgan noaniq zamondagi tegishli shakli </a:t>
            </a:r>
            <a:r>
              <a:rPr b="1" i="1" lang="en-US" sz="3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(was / were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n keyin </a:t>
            </a:r>
            <a:r>
              <a:rPr b="1" i="1" lang="en-US" sz="30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kor yuklamasini qo‘yish orqali yasaladi.</a:t>
            </a:r>
            <a:r>
              <a:rPr b="0" lang="ru-RU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276720"/>
            <a:ext cx="0" cy="297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3251160"/>
            <a:ext cx="8991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uz-Latn-UZ" sz="36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irlik</a:t>
            </a:r>
            <a:r>
              <a:rPr b="1" i="1" lang="uz-Latn-UZ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Ko‘pl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.  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I was not    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 I was not a student.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.   We were not      We were not stud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I. 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You were not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You were not a student.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I.  You were not 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You were not stud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II.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He was not   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 He was not a student. </a:t>
            </a: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.  They were not  They were not students.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She was not      She was not a stud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Latn-UZ" sz="1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宋体"/>
              </a:rPr>
              <a:t>It was not         It was not a cat..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178000"/>
            <a:ext cx="685800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600" spc="-1" strike="noStrike">
                <a:solidFill>
                  <a:srgbClr val="993300"/>
                </a:solidFill>
                <a:latin typeface="comic"/>
              </a:rPr>
              <a:t>EGA + (WAS/WERE) + NOT + 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52280"/>
            <a:ext cx="80769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omic"/>
                <a:ea typeface="Times New Roman"/>
              </a:rPr>
              <a:t>O‘tgan zamon payt ravishlar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Yesterday         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  — ke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Ago                   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  — ol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A week ago       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  — bir hafta ol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Two weeks ago   — ikki hafta oldin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A year ago           — bir yil ol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Last week          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  — o‘tgan haf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Last month        </a:t>
            </a:r>
            <a:r>
              <a:rPr b="1" lang="uz-Latn-U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  — o‘tgan 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"/>
                <a:ea typeface="Times New Roman"/>
              </a:rPr>
              <a:t>Last year             — o‘tgan y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276120"/>
            <a:ext cx="716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200" spc="-1" strike="noStrike">
                <a:solidFill>
                  <a:srgbClr val="993300"/>
                </a:solidFill>
                <a:latin typeface="Times New Roman"/>
              </a:rPr>
              <a:t>-  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Hello, An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 Hello, M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 Where are you coming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 I am coming from home. 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 Me,  too. And where are you g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 I am going to colle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 Me, too. Let’s go toge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   Let’s 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E03254_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52880" y="2286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4000" spc="-1" strike="noStrike">
                <a:solidFill>
                  <a:srgbClr val="3333cc"/>
                </a:solidFill>
                <a:latin typeface="comic"/>
              </a:rPr>
              <a:t>DIALOG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76320"/>
            <a:ext cx="60958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Kate, have you done your home task on </a:t>
            </a:r>
            <a:r>
              <a:rPr b="0" lang="uz-Latn-UZ" sz="26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glis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Yes, I have. Why are you ask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</a:t>
            </a:r>
            <a:r>
              <a:rPr b="0" lang="uz-Latn-UZ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have done it too, let’s tell our poems to each  other. It will be good repea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</a:t>
            </a:r>
            <a:r>
              <a:rPr b="0" lang="uz-Latn-UZ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t’s, beg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Let’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581280"/>
            <a:ext cx="2590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 </a:t>
            </a:r>
            <a:r>
              <a:rPr b="1" lang="en-US" sz="2000" spc="-1" strike="noStrike">
                <a:solidFill>
                  <a:srgbClr val="0000ff"/>
                </a:solidFill>
                <a:latin typeface="Script MT Bold"/>
                <a:ea typeface="Times New Roman"/>
              </a:rPr>
              <a:t>Tell Me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clever, 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kind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talented,  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cute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sensitive,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aceful and wise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ll me I'm perfect-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t tell me the truth.</a:t>
            </a:r>
            <a:r>
              <a:rPr b="1" lang="en-US" sz="2000" spc="-1" strike="noStrike">
                <a:solidFill>
                  <a:srgbClr val="0000ff"/>
                </a:solidFill>
                <a:latin typeface="Script MT Bold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350532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Script MT Bold"/>
                <a:ea typeface="Times New Roman"/>
              </a:rPr>
              <a:t>Examination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went to the doctor-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 reached down my throat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 pulled out a shoe 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a little toy boat, 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 pulled out a skate 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a bicycle seat,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d said 'Be more careful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out what you eat.'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E03166_" descr=""/>
          <p:cNvPicPr/>
          <p:nvPr/>
        </p:nvPicPr>
        <p:blipFill>
          <a:blip r:embed="rId2"/>
          <a:stretch/>
        </p:blipFill>
        <p:spPr>
          <a:xfrm>
            <a:off x="6400800" y="609480"/>
            <a:ext cx="23464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228600"/>
            <a:ext cx="70106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What are you going to do after lessons, Joh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I am going to play </a:t>
            </a:r>
            <a:r>
              <a:rPr b="0" lang="uz-Latn-UZ" sz="2800" spc="-1" strike="noStrike">
                <a:solidFill>
                  <a:srgbClr val="0000ff"/>
                </a:solidFill>
                <a:latin typeface="Times New Roman"/>
              </a:rPr>
              <a:t>base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ll, B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And what about home tas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What kind of home tas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Home task on English, we have to translate the text and learn the new words o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Oh, really? Then let’s do our home task toge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Let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E01561_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3211560" cy="2208240"/>
          </a:xfrm>
          <a:prstGeom prst="rect">
            <a:avLst/>
          </a:prstGeom>
          <a:ln w="0">
            <a:noFill/>
          </a:ln>
        </p:spPr>
      </p:pic>
      <p:pic>
        <p:nvPicPr>
          <p:cNvPr id="104" name="PE01686_" descr=""/>
          <p:cNvPicPr/>
          <p:nvPr/>
        </p:nvPicPr>
        <p:blipFill>
          <a:blip r:embed="rId3"/>
          <a:stretch/>
        </p:blipFill>
        <p:spPr>
          <a:xfrm>
            <a:off x="6324480" y="304920"/>
            <a:ext cx="25750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304920"/>
            <a:ext cx="89154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When do you get up, Aziz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 I get up at 6.00 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What do you do in the mor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 I do my morning exerc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Where do you go after breakf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 I go to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 When do you have your first less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My first lesson begins at 8.00 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And when it en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2800" spc="-1" strike="noStrike">
                <a:solidFill>
                  <a:srgbClr val="0000ff"/>
                </a:solidFill>
                <a:latin typeface="Times New Roman"/>
              </a:rPr>
              <a:t>-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t ends at 2.30 pm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S00559_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3083040" cy="1676160"/>
          </a:xfrm>
          <a:prstGeom prst="rect">
            <a:avLst/>
          </a:prstGeom>
          <a:ln w="0">
            <a:noFill/>
          </a:ln>
        </p:spPr>
      </p:pic>
      <p:pic>
        <p:nvPicPr>
          <p:cNvPr id="107" name="PE03254_" descr=""/>
          <p:cNvPicPr/>
          <p:nvPr/>
        </p:nvPicPr>
        <p:blipFill>
          <a:blip r:embed="rId3"/>
          <a:stretch/>
        </p:blipFill>
        <p:spPr>
          <a:xfrm>
            <a:off x="5638680" y="3532320"/>
            <a:ext cx="32767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380880"/>
            <a:ext cx="63244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 When do you come home, Iro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 I come home at 3.00 p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What do you do after t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 I play with my d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Don’t you do your home tas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 No, I do them after I have din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And when do you go to b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I go to bed at 10.00 p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E02661_" descr=""/>
          <p:cNvPicPr/>
          <p:nvPr/>
        </p:nvPicPr>
        <p:blipFill>
          <a:blip r:embed="rId2"/>
          <a:stretch/>
        </p:blipFill>
        <p:spPr>
          <a:xfrm>
            <a:off x="6102360" y="914400"/>
            <a:ext cx="2508120" cy="2362320"/>
          </a:xfrm>
          <a:prstGeom prst="rect">
            <a:avLst/>
          </a:prstGeom>
          <a:ln w="0">
            <a:noFill/>
          </a:ln>
        </p:spPr>
      </p:pic>
      <p:pic>
        <p:nvPicPr>
          <p:cNvPr id="110" name="BS00559_" descr=""/>
          <p:cNvPicPr/>
          <p:nvPr/>
        </p:nvPicPr>
        <p:blipFill>
          <a:blip r:embed="rId3"/>
          <a:stretch/>
        </p:blipFill>
        <p:spPr>
          <a:xfrm>
            <a:off x="6172200" y="4564080"/>
            <a:ext cx="27432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99960"/>
            <a:ext cx="838188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 What are you going to home on, Yuldu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I go to home on foot, and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My father every day brings and takes away me on his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That’s ni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He will come soon, will you go with 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May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Of course, I would be very gl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OK, I ag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07175_" descr=""/>
          <p:cNvPicPr/>
          <p:nvPr/>
        </p:nvPicPr>
        <p:blipFill>
          <a:blip r:embed="rId2"/>
          <a:stretch/>
        </p:blipFill>
        <p:spPr>
          <a:xfrm>
            <a:off x="5486400" y="3886200"/>
            <a:ext cx="3352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80880"/>
            <a:ext cx="7239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What is your favorite sport, Lo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I like </a:t>
            </a:r>
            <a:r>
              <a:rPr b="0" lang="uz-Latn-UZ" sz="2800" spc="-1" strike="noStrike">
                <a:solidFill>
                  <a:srgbClr val="0000ff"/>
                </a:solidFill>
                <a:latin typeface="Times New Roman"/>
              </a:rPr>
              <a:t>tennis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And you, Otab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I like </a:t>
            </a:r>
            <a:r>
              <a:rPr b="0" lang="uz-Latn-UZ" sz="2800" spc="-1" strike="noStrike">
                <a:solidFill>
                  <a:srgbClr val="0000ff"/>
                </a:solidFill>
                <a:latin typeface="Times New Roman"/>
              </a:rPr>
              <a:t>foo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Oh, that’s nice. It is real men’s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Do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Yes, of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Thanks, your favorite sport is too</a:t>
            </a:r>
            <a:r>
              <a:rPr b="0" lang="uz-Latn-UZ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te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Thank you, Otab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E01659_" descr=""/>
          <p:cNvPicPr/>
          <p:nvPr/>
        </p:nvPicPr>
        <p:blipFill>
          <a:blip r:embed="rId2"/>
          <a:stretch/>
        </p:blipFill>
        <p:spPr>
          <a:xfrm>
            <a:off x="5867280" y="3733920"/>
            <a:ext cx="3276720" cy="2819160"/>
          </a:xfrm>
          <a:prstGeom prst="rect">
            <a:avLst/>
          </a:prstGeom>
          <a:ln w="0">
            <a:noFill/>
          </a:ln>
        </p:spPr>
      </p:pic>
      <p:pic>
        <p:nvPicPr>
          <p:cNvPr id="115" name="PE03738_" descr=""/>
          <p:cNvPicPr/>
          <p:nvPr/>
        </p:nvPicPr>
        <p:blipFill>
          <a:blip r:embed="rId3"/>
          <a:stretch/>
        </p:blipFill>
        <p:spPr>
          <a:xfrm>
            <a:off x="5715000" y="533520"/>
            <a:ext cx="30020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828800"/>
            <a:ext cx="54864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This house on wheels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Is running a race,</a:t>
            </a:r>
            <a:r>
              <a:rPr b="1" lang="ru-RU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Taking people from place to place</a:t>
            </a:r>
            <a:r>
              <a:rPr b="1" lang="ru-RU" sz="4400" spc="-1" strike="noStrike">
                <a:solidFill>
                  <a:srgbClr val="ffff00"/>
                </a:solidFill>
                <a:latin typeface="BalticaUzbek"/>
                <a:ea typeface="바탕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BalticaUzbek"/>
                <a:ea typeface="바탕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4197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바탕"/>
              </a:rPr>
              <a:t>(a bus) (avtobus)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바탕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114800" y="4038480"/>
            <a:ext cx="33148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625320"/>
            <a:ext cx="79250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BalticaUzbek"/>
              </a:rPr>
              <a:t>The theme: “My working da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BalticaUzbek"/>
                <a:ea typeface="Times New Roman"/>
              </a:rPr>
              <a:t>Grammar: (</a:t>
            </a:r>
            <a:r>
              <a:rPr b="1" lang="ru-RU" sz="2400" spc="-1" strike="noStrike">
                <a:solidFill>
                  <a:srgbClr val="cc0000"/>
                </a:solidFill>
                <a:latin typeface="BalticaUzbek"/>
                <a:ea typeface="Times New Roman"/>
              </a:rPr>
              <a:t>The Past Indefinite Tense)</a:t>
            </a:r>
            <a:r>
              <a:rPr b="0" lang="en-US" sz="2400" spc="-1" strike="noStrike">
                <a:solidFill>
                  <a:srgbClr val="ff0000"/>
                </a:solidFill>
                <a:latin typeface="BalticaUzbek"/>
                <a:ea typeface="Times New Roman"/>
              </a:rPr>
              <a:t> </a:t>
            </a:r>
            <a:r>
              <a:rPr b="0" lang="uz-Latn-UZ" sz="24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BalticaUzbek"/>
                <a:ea typeface="Times New Roman"/>
              </a:rPr>
              <a:t>“TO BE”</a:t>
            </a:r>
            <a:r>
              <a:rPr b="1" lang="en-US" sz="2400" spc="-1" strike="noStrike">
                <a:solidFill>
                  <a:srgbClr val="cc0000"/>
                </a:solidFill>
                <a:latin typeface="BalticaUzbek"/>
                <a:ea typeface="Times New Roman"/>
              </a:rPr>
              <a:t> FE’LINING O‘TGAN NOANIQ ZAMONDA TUSLANI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76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day is the 29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th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uz-Latn-UZ" sz="3600" spc="-1" strike="noStrike">
                <a:solidFill>
                  <a:srgbClr val="3333cc"/>
                </a:solidFill>
                <a:latin typeface="Times New Roman"/>
              </a:rPr>
              <a:t>of February. Fri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981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ript MT Bold"/>
                <a:ea typeface="Times New Roman"/>
              </a:rPr>
              <a:t>New wo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arn the new words of the text  «My working da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2819520"/>
            <a:ext cx="4724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ary            kera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          esda tutmo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t time              yo‘qotilgan</a:t>
            </a:r>
            <a:r>
              <a:rPr b="1" lang="uz-Latn-U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te                   bekorga sarflamo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up                  o‘rindan turmo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ning jerks </a:t>
            </a:r>
            <a:r>
              <a:rPr b="1" lang="uz-Latn-U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z-Latn-U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talabki badan tarbi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d rubdown     artinmo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dy                dori, sh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fast            </a:t>
            </a:r>
            <a:r>
              <a:rPr b="1" lang="uz-Latn-U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ush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foot                  piy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                 odat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            shu bilan bir qato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905120"/>
            <a:ext cx="6172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We are twins,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We walk together,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We never part,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We make a pair for ev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4343400"/>
            <a:ext cx="4038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바탕"/>
              </a:rPr>
              <a:t>boots or shoes </a:t>
            </a:r>
            <a:r>
              <a:rPr b="0" lang="uz-Latn-UZ" sz="30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바탕"/>
              </a:rPr>
              <a:t>(oyoq kiyim yoki tufli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343400" y="457200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4267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Four legs,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but not a beast. 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 Full of feathers, </a:t>
            </a:r>
            <a:r>
              <a:rPr b="1" lang="uz-Latn-UZ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but not a bird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581280" y="4572000"/>
            <a:ext cx="3730680" cy="2136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6320" y="4343400"/>
            <a:ext cx="3733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바탕"/>
              </a:rPr>
              <a:t>a bed</a:t>
            </a:r>
            <a:r>
              <a:rPr b="1" lang="uz-Latn-UZ" sz="3000" spc="-1" strike="noStrike">
                <a:solidFill>
                  <a:srgbClr val="ffffff"/>
                </a:solidFill>
                <a:latin typeface="Comic Sans MS"/>
              </a:rPr>
              <a:t>                  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  <a:ea typeface="바탕"/>
              </a:rPr>
              <a:t>(yotoq yoki kravat</a:t>
            </a:r>
            <a:r>
              <a:rPr b="1" lang="en-US" sz="3000" spc="-1" strike="noStrike">
                <a:solidFill>
                  <a:srgbClr val="ffffff"/>
                </a:solidFill>
                <a:latin typeface="BalticaUzbek"/>
                <a:ea typeface="바탕"/>
              </a:rPr>
              <a:t>)</a:t>
            </a:r>
            <a:r>
              <a:rPr b="0" lang="en-US" sz="3000" spc="-1" strike="noStrike">
                <a:solidFill>
                  <a:srgbClr val="ffff00"/>
                </a:solidFill>
                <a:latin typeface="BalticaUzbek"/>
                <a:ea typeface="바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828800"/>
            <a:ext cx="67820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BalticaUzbek"/>
                <a:ea typeface="바탕"/>
              </a:rPr>
              <a:t>Who am I that shines so bright 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BalticaUzbek"/>
                <a:ea typeface="바탕"/>
              </a:rPr>
              <a:t>With my pretty silver light,     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BalticaUzbek"/>
                <a:ea typeface="바탕"/>
              </a:rPr>
              <a:t>Putting through your windows gray? Tell me, little boy, I pra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114800"/>
            <a:ext cx="25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바탕"/>
              </a:rPr>
              <a:t>the moon </a:t>
            </a:r>
            <a:r>
              <a:rPr b="1" lang="uz-Latn-UZ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바탕"/>
              </a:rPr>
              <a:t>(o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038480" y="4038480"/>
            <a:ext cx="29718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This bird has a long sharp nose. </a:t>
            </a:r>
            <a:r>
              <a:rPr b="1" lang="uz-Latn-UZ" sz="4000" spc="-1" strike="noStrike">
                <a:solidFill>
                  <a:srgbClr val="ffff00"/>
                </a:solidFill>
                <a:latin typeface="BalticaUzbek"/>
              </a:rPr>
              <a:t>When it flies it sings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When it lands, it stings.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바탕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38862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바탕"/>
              </a:rPr>
              <a:t>a gnat</a:t>
            </a:r>
            <a:r>
              <a:rPr b="1" lang="uz-Latn-UZ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바탕"/>
              </a:rPr>
              <a:t>(pashsha)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371600" y="304920"/>
            <a:ext cx="618660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"/>
              </a:rPr>
              <a:t>PUZZLES</a:t>
            </a:r>
            <a:endParaRPr b="0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"/>
              <a:ea typeface="comic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905120"/>
            <a:ext cx="6096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I know everything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I teach everybody.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But to make friends with m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alticaUzbek"/>
                <a:ea typeface="바탕"/>
              </a:rPr>
              <a:t>You must first learn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바탕"/>
              </a:rPr>
              <a:t>book </a:t>
            </a:r>
            <a:r>
              <a:rPr b="1" lang="uz-Latn-UZ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바탕"/>
              </a:rPr>
              <a:t>(kitob)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4120" y="457200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76320" y="457200"/>
            <a:ext cx="8152920" cy="5867280"/>
            <a:chOff x="76320" y="457200"/>
            <a:chExt cx="8152920" cy="5867280"/>
          </a:xfrm>
        </p:grpSpPr>
        <p:grpSp>
          <p:nvGrpSpPr>
            <p:cNvPr id="141" name=""/>
            <p:cNvGrpSpPr/>
            <p:nvPr/>
          </p:nvGrpSpPr>
          <p:grpSpPr>
            <a:xfrm>
              <a:off x="81360" y="460080"/>
              <a:ext cx="8142120" cy="5860800"/>
              <a:chOff x="81360" y="460080"/>
              <a:chExt cx="8142120" cy="58608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1360" y="460080"/>
                <a:ext cx="813600" cy="560880"/>
                <a:chOff x="81360" y="460080"/>
                <a:chExt cx="813600" cy="56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5588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136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895320" y="460080"/>
                <a:ext cx="813600" cy="560880"/>
                <a:chOff x="895320" y="460080"/>
                <a:chExt cx="813600" cy="56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96984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9532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709640" y="460080"/>
                <a:ext cx="813600" cy="560880"/>
                <a:chOff x="1709640" y="460080"/>
                <a:chExt cx="813600" cy="56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78416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70964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523960" y="460080"/>
                <a:ext cx="813960" cy="560880"/>
                <a:chOff x="2523960" y="460080"/>
                <a:chExt cx="813960" cy="56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59848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523960" y="46008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338280" y="460080"/>
                <a:ext cx="813600" cy="560880"/>
                <a:chOff x="3338280" y="460080"/>
                <a:chExt cx="813600" cy="5608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41244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33828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152600" y="460080"/>
                <a:ext cx="813600" cy="560880"/>
                <a:chOff x="4152600" y="460080"/>
                <a:chExt cx="813600" cy="5608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22676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5260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966920" y="460080"/>
                <a:ext cx="813600" cy="560880"/>
                <a:chOff x="4966920" y="460080"/>
                <a:chExt cx="813600" cy="5608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04144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96692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780880" y="460080"/>
                <a:ext cx="813600" cy="560880"/>
                <a:chOff x="5780880" y="460080"/>
                <a:chExt cx="813600" cy="5608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85540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78088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595200" y="460080"/>
                <a:ext cx="813600" cy="560880"/>
                <a:chOff x="6595200" y="460080"/>
                <a:chExt cx="813600" cy="5608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66972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95200" y="4600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409520" y="460080"/>
                <a:ext cx="813960" cy="560880"/>
                <a:chOff x="7409520" y="460080"/>
                <a:chExt cx="813960" cy="560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484040" y="4600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09520" y="46008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81360" y="1020960"/>
                <a:ext cx="813600" cy="560880"/>
                <a:chOff x="81360" y="1020960"/>
                <a:chExt cx="813600" cy="5608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5588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136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895320" y="1020960"/>
                <a:ext cx="813600" cy="560880"/>
                <a:chOff x="895320" y="1020960"/>
                <a:chExt cx="813600" cy="5608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96984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9532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709640" y="1020960"/>
                <a:ext cx="813600" cy="560880"/>
                <a:chOff x="1709640" y="1020960"/>
                <a:chExt cx="813600" cy="560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78416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70964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523960" y="1020960"/>
                <a:ext cx="813960" cy="560880"/>
                <a:chOff x="2523960" y="1020960"/>
                <a:chExt cx="813960" cy="5608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59848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523960" y="102096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338280" y="1020960"/>
                <a:ext cx="813600" cy="560880"/>
                <a:chOff x="3338280" y="1020960"/>
                <a:chExt cx="813600" cy="5608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41244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33828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152600" y="1020960"/>
                <a:ext cx="813600" cy="560880"/>
                <a:chOff x="4152600" y="1020960"/>
                <a:chExt cx="813600" cy="5608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22676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5260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966920" y="1020960"/>
                <a:ext cx="813600" cy="560880"/>
                <a:chOff x="4966920" y="1020960"/>
                <a:chExt cx="813600" cy="5608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04144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6692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780880" y="1020960"/>
                <a:ext cx="813600" cy="560880"/>
                <a:chOff x="5780880" y="1020960"/>
                <a:chExt cx="813600" cy="5608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5540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8088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595200" y="1020960"/>
                <a:ext cx="813600" cy="560880"/>
                <a:chOff x="6595200" y="1020960"/>
                <a:chExt cx="813600" cy="5608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66972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595200" y="10209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409520" y="1020960"/>
                <a:ext cx="813960" cy="560880"/>
                <a:chOff x="7409520" y="1020960"/>
                <a:chExt cx="813960" cy="5608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484040" y="10209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09520" y="102096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81360" y="1582200"/>
                <a:ext cx="813600" cy="561240"/>
                <a:chOff x="81360" y="1582200"/>
                <a:chExt cx="813600" cy="5612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5588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36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895320" y="1582200"/>
                <a:ext cx="813600" cy="561240"/>
                <a:chOff x="895320" y="1582200"/>
                <a:chExt cx="813600" cy="561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96984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9532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709640" y="1582200"/>
                <a:ext cx="813600" cy="561240"/>
                <a:chOff x="1709640" y="1582200"/>
                <a:chExt cx="813600" cy="5612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78416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70964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523960" y="1582200"/>
                <a:ext cx="813960" cy="561240"/>
                <a:chOff x="2523960" y="1582200"/>
                <a:chExt cx="813960" cy="561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59848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523960" y="158220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338280" y="1582200"/>
                <a:ext cx="813600" cy="561240"/>
                <a:chOff x="3338280" y="1582200"/>
                <a:chExt cx="813600" cy="5612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41244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3828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52600" y="1582200"/>
                <a:ext cx="813600" cy="561240"/>
                <a:chOff x="4152600" y="1582200"/>
                <a:chExt cx="813600" cy="5612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2676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5260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966920" y="1582200"/>
                <a:ext cx="813600" cy="561240"/>
                <a:chOff x="4966920" y="1582200"/>
                <a:chExt cx="813600" cy="5612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04144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96692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780880" y="1582200"/>
                <a:ext cx="813600" cy="561240"/>
                <a:chOff x="5780880" y="1582200"/>
                <a:chExt cx="813600" cy="561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85540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78088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6595200" y="1582200"/>
                <a:ext cx="813600" cy="561240"/>
                <a:chOff x="6595200" y="1582200"/>
                <a:chExt cx="813600" cy="5612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66972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595200" y="15822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7409520" y="1582200"/>
                <a:ext cx="813960" cy="561240"/>
                <a:chOff x="7409520" y="1582200"/>
                <a:chExt cx="813960" cy="5612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7484040" y="15822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09520" y="158220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81360" y="2143440"/>
                <a:ext cx="813600" cy="560880"/>
                <a:chOff x="81360" y="2143440"/>
                <a:chExt cx="813600" cy="5608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5588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36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895320" y="2143440"/>
                <a:ext cx="813600" cy="560880"/>
                <a:chOff x="895320" y="2143440"/>
                <a:chExt cx="813600" cy="5608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96984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9532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1709640" y="2143440"/>
                <a:ext cx="813600" cy="560880"/>
                <a:chOff x="1709640" y="2143440"/>
                <a:chExt cx="813600" cy="5608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78416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70964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523960" y="2143440"/>
                <a:ext cx="813960" cy="560880"/>
                <a:chOff x="2523960" y="2143440"/>
                <a:chExt cx="813960" cy="5608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59848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523960" y="214344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338280" y="2143440"/>
                <a:ext cx="813600" cy="560880"/>
                <a:chOff x="3338280" y="2143440"/>
                <a:chExt cx="813600" cy="5608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41244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828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152600" y="2143440"/>
                <a:ext cx="813600" cy="560880"/>
                <a:chOff x="4152600" y="2143440"/>
                <a:chExt cx="813600" cy="5608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22676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15260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966920" y="2143440"/>
                <a:ext cx="813600" cy="560880"/>
                <a:chOff x="4966920" y="2143440"/>
                <a:chExt cx="813600" cy="5608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504144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96692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5780880" y="2143440"/>
                <a:ext cx="813600" cy="560880"/>
                <a:chOff x="5780880" y="2143440"/>
                <a:chExt cx="813600" cy="5608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85540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78088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200" y="2143440"/>
                <a:ext cx="813600" cy="560880"/>
                <a:chOff x="6595200" y="2143440"/>
                <a:chExt cx="813600" cy="560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66972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595200" y="214344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409520" y="2143440"/>
                <a:ext cx="813960" cy="560880"/>
                <a:chOff x="7409520" y="2143440"/>
                <a:chExt cx="813960" cy="5608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484040" y="214344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409520" y="214344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81360" y="2704680"/>
                <a:ext cx="813600" cy="560880"/>
                <a:chOff x="81360" y="2704680"/>
                <a:chExt cx="813600" cy="560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5588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136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895320" y="2704680"/>
                <a:ext cx="813600" cy="560880"/>
                <a:chOff x="895320" y="2704680"/>
                <a:chExt cx="813600" cy="5608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96984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9532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1709640" y="2704680"/>
                <a:ext cx="813600" cy="560880"/>
                <a:chOff x="1709640" y="2704680"/>
                <a:chExt cx="813600" cy="5608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78416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70964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2523960" y="2704680"/>
                <a:ext cx="813960" cy="560880"/>
                <a:chOff x="2523960" y="2704680"/>
                <a:chExt cx="813960" cy="5608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59848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523960" y="270468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338280" y="2704680"/>
                <a:ext cx="813600" cy="560880"/>
                <a:chOff x="3338280" y="2704680"/>
                <a:chExt cx="813600" cy="5608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41244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33828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152600" y="2704680"/>
                <a:ext cx="813600" cy="560880"/>
                <a:chOff x="4152600" y="2704680"/>
                <a:chExt cx="813600" cy="560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22676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15260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966920" y="2704680"/>
                <a:ext cx="813600" cy="560880"/>
                <a:chOff x="4966920" y="2704680"/>
                <a:chExt cx="813600" cy="560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04144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96692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780880" y="2704680"/>
                <a:ext cx="813600" cy="560880"/>
                <a:chOff x="5780880" y="2704680"/>
                <a:chExt cx="813600" cy="560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5540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78088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6595200" y="2704680"/>
                <a:ext cx="813600" cy="560880"/>
                <a:chOff x="6595200" y="2704680"/>
                <a:chExt cx="813600" cy="560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66972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595200" y="270468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7409520" y="2704680"/>
                <a:ext cx="813960" cy="560880"/>
                <a:chOff x="7409520" y="2704680"/>
                <a:chExt cx="813960" cy="560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7484040" y="270468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409520" y="270468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81360" y="3265560"/>
                <a:ext cx="813600" cy="560880"/>
                <a:chOff x="81360" y="3265560"/>
                <a:chExt cx="813600" cy="560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15588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36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895320" y="3265560"/>
                <a:ext cx="813600" cy="560880"/>
                <a:chOff x="895320" y="3265560"/>
                <a:chExt cx="813600" cy="560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96984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9532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709640" y="3265560"/>
                <a:ext cx="813600" cy="560880"/>
                <a:chOff x="1709640" y="3265560"/>
                <a:chExt cx="813600" cy="560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78416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70964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523960" y="3265560"/>
                <a:ext cx="813960" cy="560880"/>
                <a:chOff x="2523960" y="3265560"/>
                <a:chExt cx="813960" cy="560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59848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523960" y="326556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338280" y="3265560"/>
                <a:ext cx="813600" cy="560880"/>
                <a:chOff x="3338280" y="3265560"/>
                <a:chExt cx="813600" cy="5608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41244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3828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152600" y="3265560"/>
                <a:ext cx="813600" cy="560880"/>
                <a:chOff x="4152600" y="3265560"/>
                <a:chExt cx="813600" cy="5608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422676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15260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966920" y="3265560"/>
                <a:ext cx="813600" cy="560880"/>
                <a:chOff x="4966920" y="3265560"/>
                <a:chExt cx="813600" cy="5608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04144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96692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780880" y="3265560"/>
                <a:ext cx="813600" cy="560880"/>
                <a:chOff x="5780880" y="3265560"/>
                <a:chExt cx="813600" cy="5608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85540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8088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595200" y="3265560"/>
                <a:ext cx="813600" cy="560880"/>
                <a:chOff x="6595200" y="3265560"/>
                <a:chExt cx="813600" cy="5608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66972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595200" y="326556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409520" y="3265560"/>
                <a:ext cx="813960" cy="560880"/>
                <a:chOff x="7409520" y="3265560"/>
                <a:chExt cx="813960" cy="5608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484040" y="326556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09520" y="326556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81360" y="3826800"/>
                <a:ext cx="813600" cy="561240"/>
                <a:chOff x="81360" y="3826800"/>
                <a:chExt cx="813600" cy="5612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5588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136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895320" y="3826800"/>
                <a:ext cx="813600" cy="561240"/>
                <a:chOff x="895320" y="3826800"/>
                <a:chExt cx="813600" cy="5612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96984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9532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1709640" y="3826800"/>
                <a:ext cx="813600" cy="561240"/>
                <a:chOff x="1709640" y="3826800"/>
                <a:chExt cx="813600" cy="5612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78416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0964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523960" y="3826800"/>
                <a:ext cx="813960" cy="561240"/>
                <a:chOff x="2523960" y="3826800"/>
                <a:chExt cx="813960" cy="5612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59848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23960" y="382680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338280" y="3826800"/>
                <a:ext cx="813600" cy="561240"/>
                <a:chOff x="3338280" y="3826800"/>
                <a:chExt cx="813600" cy="56124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41244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33828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152600" y="3826800"/>
                <a:ext cx="813600" cy="561240"/>
                <a:chOff x="4152600" y="3826800"/>
                <a:chExt cx="813600" cy="5612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22676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15260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966920" y="3826800"/>
                <a:ext cx="813600" cy="561240"/>
                <a:chOff x="4966920" y="3826800"/>
                <a:chExt cx="813600" cy="5612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04144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96692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780880" y="3826800"/>
                <a:ext cx="813600" cy="561240"/>
                <a:chOff x="5780880" y="3826800"/>
                <a:chExt cx="813600" cy="5612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85540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8088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6595200" y="3826800"/>
                <a:ext cx="813600" cy="561240"/>
                <a:chOff x="6595200" y="3826800"/>
                <a:chExt cx="813600" cy="5612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6972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595200" y="382680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7409520" y="3826800"/>
                <a:ext cx="813960" cy="561240"/>
                <a:chOff x="7409520" y="3826800"/>
                <a:chExt cx="813960" cy="5612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7484040" y="382680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409520" y="382680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81360" y="4388040"/>
                <a:ext cx="813600" cy="810000"/>
                <a:chOff x="81360" y="4388040"/>
                <a:chExt cx="813600" cy="8100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15588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136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895320" y="4388040"/>
                <a:ext cx="813600" cy="810000"/>
                <a:chOff x="895320" y="4388040"/>
                <a:chExt cx="813600" cy="8100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96984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9532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1709640" y="4388040"/>
                <a:ext cx="813600" cy="810000"/>
                <a:chOff x="1709640" y="4388040"/>
                <a:chExt cx="813600" cy="810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78416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70964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523960" y="4388040"/>
                <a:ext cx="813960" cy="810000"/>
                <a:chOff x="2523960" y="4388040"/>
                <a:chExt cx="813960" cy="810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59848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23960" y="4388040"/>
                  <a:ext cx="81396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338280" y="4388040"/>
                <a:ext cx="813600" cy="810000"/>
                <a:chOff x="3338280" y="4388040"/>
                <a:chExt cx="813600" cy="810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41244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33828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152600" y="4388040"/>
                <a:ext cx="813600" cy="810000"/>
                <a:chOff x="4152600" y="4388040"/>
                <a:chExt cx="813600" cy="8100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22676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15260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966920" y="4388040"/>
                <a:ext cx="813600" cy="810000"/>
                <a:chOff x="4966920" y="4388040"/>
                <a:chExt cx="813600" cy="8100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04144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96692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780880" y="4388040"/>
                <a:ext cx="813600" cy="810000"/>
                <a:chOff x="5780880" y="4388040"/>
                <a:chExt cx="813600" cy="8100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85540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78088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595200" y="4388040"/>
                <a:ext cx="813600" cy="810000"/>
                <a:chOff x="6595200" y="4388040"/>
                <a:chExt cx="813600" cy="8100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666972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595200" y="4388040"/>
                  <a:ext cx="81360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7409520" y="4388040"/>
                <a:ext cx="813960" cy="810000"/>
                <a:chOff x="7409520" y="4388040"/>
                <a:chExt cx="813960" cy="8100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7484040" y="4388040"/>
                  <a:ext cx="66456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409520" y="4388040"/>
                  <a:ext cx="813960" cy="81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81360" y="5198400"/>
                <a:ext cx="813600" cy="560880"/>
                <a:chOff x="81360" y="5198400"/>
                <a:chExt cx="813600" cy="5608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15588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36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895320" y="5198400"/>
                <a:ext cx="813600" cy="560880"/>
                <a:chOff x="895320" y="5198400"/>
                <a:chExt cx="813600" cy="5608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6984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9532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709640" y="5198400"/>
                <a:ext cx="813600" cy="560880"/>
                <a:chOff x="1709640" y="5198400"/>
                <a:chExt cx="813600" cy="5608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78416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70964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523960" y="5198400"/>
                <a:ext cx="813960" cy="560880"/>
                <a:chOff x="2523960" y="5198400"/>
                <a:chExt cx="813960" cy="5608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59848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523960" y="519840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338280" y="5198400"/>
                <a:ext cx="813600" cy="560880"/>
                <a:chOff x="3338280" y="5198400"/>
                <a:chExt cx="813600" cy="56088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41244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33828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152600" y="5198400"/>
                <a:ext cx="813600" cy="560880"/>
                <a:chOff x="4152600" y="5198400"/>
                <a:chExt cx="813600" cy="5608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22676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15260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966920" y="5198400"/>
                <a:ext cx="813600" cy="560880"/>
                <a:chOff x="4966920" y="5198400"/>
                <a:chExt cx="813600" cy="5608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04144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96692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780880" y="5198400"/>
                <a:ext cx="813600" cy="560880"/>
                <a:chOff x="5780880" y="5198400"/>
                <a:chExt cx="813600" cy="56088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85540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78088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595200" y="5198400"/>
                <a:ext cx="813600" cy="560880"/>
                <a:chOff x="6595200" y="5198400"/>
                <a:chExt cx="813600" cy="5608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66972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95200" y="5198400"/>
                  <a:ext cx="813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409520" y="5198400"/>
                <a:ext cx="813960" cy="560880"/>
                <a:chOff x="7409520" y="5198400"/>
                <a:chExt cx="813960" cy="5608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484040" y="5198400"/>
                  <a:ext cx="66456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409520" y="5198400"/>
                  <a:ext cx="8139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81360" y="5759640"/>
                <a:ext cx="813600" cy="561240"/>
                <a:chOff x="81360" y="5759640"/>
                <a:chExt cx="813600" cy="5612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588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136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95320" y="5759640"/>
                <a:ext cx="813600" cy="561240"/>
                <a:chOff x="895320" y="5759640"/>
                <a:chExt cx="813600" cy="5612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96984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9532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709640" y="5759640"/>
                <a:ext cx="813600" cy="561240"/>
                <a:chOff x="1709640" y="5759640"/>
                <a:chExt cx="813600" cy="5612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78416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70964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2523960" y="5759640"/>
                <a:ext cx="813960" cy="561240"/>
                <a:chOff x="2523960" y="5759640"/>
                <a:chExt cx="813960" cy="56124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59848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8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523960" y="575964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338280" y="5759640"/>
                <a:ext cx="813600" cy="561240"/>
                <a:chOff x="3338280" y="5759640"/>
                <a:chExt cx="813600" cy="5612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41244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33828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152600" y="5759640"/>
                <a:ext cx="813600" cy="561240"/>
                <a:chOff x="4152600" y="5759640"/>
                <a:chExt cx="813600" cy="561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22676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15260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966920" y="5759640"/>
                <a:ext cx="813600" cy="561240"/>
                <a:chOff x="4966920" y="5759640"/>
                <a:chExt cx="813600" cy="5612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504144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6692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780880" y="5759640"/>
                <a:ext cx="813600" cy="561240"/>
                <a:chOff x="5780880" y="5759640"/>
                <a:chExt cx="813600" cy="5612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85540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78088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595200" y="5759640"/>
                <a:ext cx="813600" cy="561240"/>
                <a:chOff x="6595200" y="5759640"/>
                <a:chExt cx="813600" cy="5612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66972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595200" y="5759640"/>
                  <a:ext cx="813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7409520" y="5759640"/>
                <a:ext cx="813960" cy="561240"/>
                <a:chOff x="7409520" y="5759640"/>
                <a:chExt cx="813960" cy="5612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484040" y="5759640"/>
                  <a:ext cx="66456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409520" y="5759640"/>
                  <a:ext cx="8139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2" name=""/>
            <p:cNvSpPr/>
            <p:nvPr/>
          </p:nvSpPr>
          <p:spPr>
            <a:xfrm>
              <a:off x="76320" y="457200"/>
              <a:ext cx="8152920" cy="5867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200400" y="60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2000" spc="-1" strike="noStrike">
                <a:solidFill>
                  <a:srgbClr val="ffffff"/>
                </a:solidFill>
                <a:latin typeface="Times New Roman"/>
              </a:rPr>
              <a:t>FIND THE NUM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95280" y="289080"/>
            <a:ext cx="563904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hers Day Po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uz-Latn-UZ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uz-Latn-UZ" sz="3600" spc="-1" strike="noStrike">
                <a:solidFill>
                  <a:srgbClr val="ffff00"/>
                </a:solidFill>
                <a:latin typeface="comic"/>
              </a:rPr>
              <a:t>Home ta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Latn-U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 - O - T - H - E - 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" is for the million things she gave me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ans only that she's growing old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s for the tears she shed to save me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s for her heart of purest gold;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s for her eyes, with love-light shining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ans right, and right she'll always be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ut them all together, they spel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OTH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"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word that means the world to 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800600" y="303120"/>
            <a:ext cx="419112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Script MT Bold"/>
                <a:ea typeface="Times New Roman"/>
              </a:rPr>
              <a:t>Dear teachers and our students! It’s all we have to learn today. So, we say you</a:t>
            </a:r>
            <a:r>
              <a:rPr b="0" lang="en-US" sz="4800" spc="-1" strike="noStrike">
                <a:solidFill>
                  <a:srgbClr val="99ff33"/>
                </a:solidFill>
                <a:latin typeface="Script MT Bold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33"/>
                </a:solidFill>
                <a:latin typeface="comic"/>
                <a:ea typeface="Times New Roman"/>
              </a:rPr>
              <a:t>Good by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ff33"/>
                </a:solidFill>
                <a:latin typeface="comic"/>
                <a:ea typeface="Times New Roman"/>
              </a:rPr>
              <a:t>a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33"/>
                </a:solidFill>
                <a:latin typeface="comic"/>
                <a:ea typeface="Times New Roman"/>
              </a:rPr>
              <a:t>good luck!</a:t>
            </a:r>
            <a:r>
              <a:rPr b="0" lang="en-US" sz="6000" spc="-1" strike="noStrike">
                <a:solidFill>
                  <a:srgbClr val="ffff00"/>
                </a:solidFill>
                <a:latin typeface="com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E02043_" descr=""/>
          <p:cNvPicPr/>
          <p:nvPr/>
        </p:nvPicPr>
        <p:blipFill>
          <a:blip r:embed="rId2"/>
          <a:stretch/>
        </p:blipFill>
        <p:spPr>
          <a:xfrm>
            <a:off x="3200400" y="1600200"/>
            <a:ext cx="166536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E02661_" descr=""/>
          <p:cNvPicPr/>
          <p:nvPr/>
        </p:nvPicPr>
        <p:blipFill>
          <a:blip r:embed="rId3"/>
          <a:stretch/>
        </p:blipFill>
        <p:spPr>
          <a:xfrm>
            <a:off x="762120" y="4952880"/>
            <a:ext cx="20574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PE02719_" descr=""/>
          <p:cNvPicPr/>
          <p:nvPr/>
        </p:nvPicPr>
        <p:blipFill>
          <a:blip r:embed="rId4"/>
          <a:stretch/>
        </p:blipFill>
        <p:spPr>
          <a:xfrm>
            <a:off x="5334120" y="487692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PE03166_" descr=""/>
          <p:cNvPicPr/>
          <p:nvPr/>
        </p:nvPicPr>
        <p:blipFill>
          <a:blip r:embed="rId5"/>
          <a:stretch/>
        </p:blipFill>
        <p:spPr>
          <a:xfrm>
            <a:off x="5105520" y="14479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BD05584_" descr=""/>
          <p:cNvPicPr/>
          <p:nvPr/>
        </p:nvPicPr>
        <p:blipFill>
          <a:blip r:embed="rId6"/>
          <a:stretch/>
        </p:blipFill>
        <p:spPr>
          <a:xfrm>
            <a:off x="1295280" y="1600200"/>
            <a:ext cx="1513080" cy="1857240"/>
          </a:xfrm>
          <a:prstGeom prst="rect">
            <a:avLst/>
          </a:prstGeom>
          <a:ln w="0">
            <a:noFill/>
          </a:ln>
        </p:spPr>
      </p:pic>
      <p:pic>
        <p:nvPicPr>
          <p:cNvPr id="51" name="BD06790_" descr=""/>
          <p:cNvPicPr/>
          <p:nvPr/>
        </p:nvPicPr>
        <p:blipFill>
          <a:blip r:embed="rId7"/>
          <a:stretch/>
        </p:blipFill>
        <p:spPr>
          <a:xfrm>
            <a:off x="2819520" y="4343400"/>
            <a:ext cx="212220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PE01000_" descr=""/>
          <p:cNvPicPr/>
          <p:nvPr/>
        </p:nvPicPr>
        <p:blipFill>
          <a:blip r:embed="rId8"/>
          <a:stretch/>
        </p:blipFill>
        <p:spPr>
          <a:xfrm>
            <a:off x="228600" y="2971800"/>
            <a:ext cx="144792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E01561_" descr=""/>
          <p:cNvPicPr/>
          <p:nvPr/>
        </p:nvPicPr>
        <p:blipFill>
          <a:blip r:embed="rId9"/>
          <a:stretch/>
        </p:blipFill>
        <p:spPr>
          <a:xfrm>
            <a:off x="6781680" y="18288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PE03738_" descr=""/>
          <p:cNvPicPr/>
          <p:nvPr/>
        </p:nvPicPr>
        <p:blipFill>
          <a:blip r:embed="rId10"/>
          <a:stretch/>
        </p:blipFill>
        <p:spPr>
          <a:xfrm>
            <a:off x="7010280" y="3809880"/>
            <a:ext cx="2133720" cy="2438640"/>
          </a:xfrm>
          <a:prstGeom prst="rect">
            <a:avLst/>
          </a:prstGeom>
          <a:ln w="0">
            <a:noFill/>
          </a:ln>
        </p:spPr>
      </p:pic>
      <p:pic>
        <p:nvPicPr>
          <p:cNvPr id="55" name="PE01981_" descr=""/>
          <p:cNvPicPr/>
          <p:nvPr/>
        </p:nvPicPr>
        <p:blipFill>
          <a:blip r:embed="rId11"/>
          <a:stretch/>
        </p:blipFill>
        <p:spPr>
          <a:xfrm>
            <a:off x="4724280" y="320040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Script MT Bold"/>
                <a:ea typeface="Times New Roman"/>
              </a:rPr>
              <a:t>Every day </a:t>
            </a:r>
            <a:r>
              <a:rPr b="0" lang="uz-Latn-UZ" sz="2800" spc="-1" strike="noStrike">
                <a:solidFill>
                  <a:srgbClr val="00ff00"/>
                </a:solidFill>
                <a:latin typeface="Script MT Bold"/>
              </a:rPr>
              <a:t>I</a:t>
            </a:r>
            <a:r>
              <a:rPr b="0" lang="en-US" sz="2800" spc="-1" strike="noStrike">
                <a:solidFill>
                  <a:srgbClr val="00ff00"/>
                </a:solidFill>
                <a:latin typeface="Script MT Bold"/>
                <a:ea typeface="Times New Roman"/>
              </a:rPr>
              <a:t> have much interesting and necessary work to do. I always remember that the lost time is never gained. That is why i don’t like to waste even a minute.</a:t>
            </a:r>
            <a:r>
              <a:rPr b="0" lang="ru-RU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D06529_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24852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0"/>
            <a:ext cx="8915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"/>
                <a:ea typeface="Times New Roman"/>
              </a:rPr>
              <a:t>I get up early in the morning — at about 6.30 a.m., do my morning jerks and have a cold rubdown. We know that physical exercises are a good remedy for the protection of our health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E03254_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5029200"/>
          </a:xfrm>
          <a:prstGeom prst="rect">
            <a:avLst/>
          </a:prstGeom>
          <a:ln w="0">
            <a:noFill/>
          </a:ln>
        </p:spPr>
      </p:pic>
      <p:pic>
        <p:nvPicPr>
          <p:cNvPr id="60" name="PE03166_" descr=""/>
          <p:cNvPicPr/>
          <p:nvPr/>
        </p:nvPicPr>
        <p:blipFill>
          <a:blip r:embed="rId3"/>
          <a:stretch/>
        </p:blipFill>
        <p:spPr>
          <a:xfrm>
            <a:off x="6797520" y="1752480"/>
            <a:ext cx="2346480" cy="247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7632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"/>
                <a:ea typeface="Times New Roman"/>
              </a:rPr>
              <a:t>After breakfast I go to college on foot as it is near our flat. Our classes usually begin at 8.30 a.m. In addition to several practical classes we have a lecture or two every 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49200"/>
            <a:ext cx="883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ery day </a:t>
            </a:r>
            <a:r>
              <a:rPr b="1" lang="uz-Latn-UZ" sz="22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have much interesting and necessary work to d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8272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always remember that the lost time is never gain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316240"/>
            <a:ext cx="685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at is why i don’t like to waste even a minu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789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get up early in the morning — at about 6.30 a.m., do my morning jerks and have a cold rubdown.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09880"/>
            <a:ext cx="6477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e know that physical exercises are a good remedy for the protection of our health.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5720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fter breakfast I go to college on foot as it is near our fla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288040"/>
            <a:ext cx="594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ur classes usually begin at 8.30 a.m.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15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 addition to several practical classes we have a lecture or two every  da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685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200" spc="-1" strike="noStrike">
                <a:solidFill>
                  <a:srgbClr val="ffff00"/>
                </a:solidFill>
                <a:latin typeface="comic"/>
              </a:rPr>
              <a:t>MY WORKING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76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ercise 2.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Read the text and discuss it.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1050840"/>
            <a:ext cx="601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 What do you have to do every day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Exercise </a:t>
            </a:r>
            <a:r>
              <a:rPr b="1" i="1" lang="uz-Latn-UZ" sz="24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Answer the following questions according to the text,</a:t>
            </a:r>
            <a:r>
              <a:rPr b="1" lang="uz-Latn-U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”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My working day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”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600200"/>
            <a:ext cx="579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What do you always remember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209680"/>
            <a:ext cx="426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. What don’t you lik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510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When do you get up?</a:t>
            </a:r>
            <a:r>
              <a:rPr b="0" lang="uz-Latn-UZ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4022640"/>
            <a:ext cx="7696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6. What do you think about physical exercises? </a:t>
            </a:r>
            <a:r>
              <a:rPr b="0" lang="uz-Latn-UZ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70844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7. Where do you go after breakfas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539424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8. When do your lessons begi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3413160"/>
            <a:ext cx="563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. What do you do in the morn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32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TO BE”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FE’LINING O‘TGAN NOANIQ ZAMONDA TUSLANISHI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397320"/>
            <a:ext cx="82296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uz-Latn-UZ" sz="3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Birlik</a:t>
            </a:r>
            <a:r>
              <a:rPr b="1" i="1" lang="uz-Latn-UZ" sz="2000" spc="-1" strike="noStrike">
                <a:solidFill>
                  <a:srgbClr val="9933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i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Ko‘pl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.    I was           I was a pupil. </a:t>
            </a:r>
            <a:r>
              <a:rPr b="1" lang="uz-Latn-UZ" sz="2000" spc="-1" strike="noStrike">
                <a:solidFill>
                  <a:srgbClr val="9933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.    We were          We were pup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I.  You were    You were a pupil. </a:t>
            </a:r>
            <a:r>
              <a:rPr b="1" lang="uz-Latn-UZ" sz="20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I.   You were        You were pup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II. He was        He was a pupil. </a:t>
            </a:r>
            <a:r>
              <a:rPr b="1" lang="uz-Latn-UZ" sz="20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II.  They were       They were pup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She was       She was a pup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993300"/>
                </a:solidFill>
                <a:latin typeface="Times New Roman"/>
                <a:ea typeface="宋体"/>
              </a:rPr>
              <a:t>It was          It was a cat..</a:t>
            </a: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3352680"/>
            <a:ext cx="0" cy="297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762120"/>
            <a:ext cx="8915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be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’li o‘tgan noaniq zamonda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il shaklga ega: 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I va II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shax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hun birlikda </a:t>
            </a:r>
            <a:r>
              <a:rPr b="1" i="1" lang="en-US" sz="3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was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II shax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likda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 va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‘plik</a:t>
            </a:r>
            <a:r>
              <a:rPr b="1" lang="uz-Latn-UZ" sz="3000" spc="-1" strike="noStrike">
                <a:solidFill>
                  <a:srgbClr val="000000"/>
                </a:solidFill>
                <a:latin typeface="Times New Roman"/>
              </a:rPr>
              <a:t>ning barcha shaxslari uchu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wer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2425680"/>
            <a:ext cx="548640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600" spc="-1" strike="noStrike">
                <a:solidFill>
                  <a:srgbClr val="993300"/>
                </a:solidFill>
                <a:latin typeface="comic"/>
              </a:rPr>
              <a:t>EGA + (WAS/WERE) +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7632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be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’li ishtirok etgan gaplarning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o‘roq shakl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“To be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’lining o‘tgan noaniq zamondagi tegishli shakli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</a:t>
            </a:r>
            <a:r>
              <a:rPr b="1" i="1" lang="en-US" sz="3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was / were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 egadan oldinga qo‘yish orqali yasaladi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016080"/>
            <a:ext cx="845820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uz-Latn-UZ" sz="36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irlik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i="1" lang="uz-Latn-UZ" sz="2000" spc="-1" strike="noStrike">
                <a:solidFill>
                  <a:srgbClr val="333399"/>
                </a:solidFill>
                <a:latin typeface="Times New Roman"/>
              </a:rPr>
              <a:t>                                                     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Ko‘pl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I.    Was I?     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Was I a student?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I.    Were we?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ere we stud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II.   Were you?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Were you a student?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II.   Were you?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ere you stud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III.  Was he?     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Was he a student?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Ш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Were they?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ere they students?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as she?    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as she a stud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Was it?       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Was it a cat?</a:t>
            </a:r>
            <a:r>
              <a:rPr b="1" lang="uz-Latn-UZ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3124080"/>
            <a:ext cx="0" cy="297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2101680"/>
            <a:ext cx="5334120" cy="642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Latn-UZ" sz="3600" spc="-1" strike="noStrike">
                <a:solidFill>
                  <a:srgbClr val="993300"/>
                </a:solidFill>
                <a:latin typeface="comic"/>
              </a:rPr>
              <a:t>(WAS/WERE) + EGA+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ерзод</cp:lastModifiedBy>
  <dcterms:modified xsi:type="dcterms:W3CDTF">2008-02-29T06:34:46Z</dcterms:modified>
  <cp:revision>11</cp:revision>
  <dc:subject/>
  <dc:title>PowerPoint Presentation</dc:title>
</cp:coreProperties>
</file>