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2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9EC4-DFAC-4180-BFB2-52B78D88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9911-C378-4EB8-9E5C-7ADD2440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C066-FFF6-45BD-AD1C-BEBDA27D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C054-3D73-4D7A-9EFE-7259DFE2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A8A4-86CE-4012-B045-10D14CC6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E091-8D26-4878-88D1-FF225A7A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2D68-DE2D-4D18-AE3D-E5317434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AA7C-C4F4-4D51-BD45-90F783A0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DFF0-45A1-4527-86EA-8F0BED72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D00D-9F32-4F67-8B4A-6EA8A16B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8FE8-DA2E-4FC7-B8BA-FC535D9C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E2C0-0695-45D7-9348-C843F5A6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9896-36B5-4F57-B935-88F4B8EC12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Бетонные смеси и их основные свойств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5300280"/>
            <a:ext cx="64008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581000"/>
            <a:ext cx="82296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ru-RU" sz="3600" spc="-1" strike="noStrike" baseline="-25000">
                <a:solidFill>
                  <a:srgbClr val="000000"/>
                </a:solidFill>
                <a:latin typeface="Tahoma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предельное напряжение сдвиг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остаточная вязкост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ahoma"/>
              </a:rPr>
              <a:t>cr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критическое значение напря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4005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995640" y="108000"/>
                <a:ext cx="5148360" cy="21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395280" y="3970800"/>
            <a:ext cx="820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ahoma"/>
              </a:rPr>
              <a:t>q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x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диент скорости сдви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CCF0-7698-455C-9D4D-9422EDFEED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менение скорости течения бетонной смес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градиент скорости) в зависимости от напряжения сдвига </a:t>
            </a:r>
            <a:r>
              <a:rPr b="0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5688000" cy="406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E41F-A44A-4AE5-B82E-482580AFCD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есткие бетонные сме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их сопротивление сдвигу увеличивается за сч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овышенной вязк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оявления внутреннего сухого трения между зернами заполните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авнение Кул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g</a:t>
            </a:r>
            <a:r>
              <a:rPr b="0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Arial"/>
              </a:rPr>
              <a:t>st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нормальное напряжени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ол внутреннего трения смес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структурная вязкость смес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46B5-99AE-464D-ADAD-CFEB48887F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ксотроп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пособность дисперсных систем терять устойчивость структуры (разжижаться) при интенсивных механических воздействиях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 при их прекращении восстанавливать устойчивость структуры (загустевать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1DE2-5093-49D5-AE16-07679D0B24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Технологические свойст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69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добоукладываем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способность бетонной смеси растекаться и заполнять форму (опалубку) при сохранении однородности своей структу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яз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способность бетонной смеси сохранять однородность структуры при транспортировании и формов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50D5-C72D-495A-81D1-3D411FBC3ED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арактеризуется показателями подвижности и жестк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движност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способность бетонной смеси растекаться и заполнять форму под действием своей тяже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движность оценивается осадкой стандартного конуса в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добоукладываем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5EA9-A12A-4EAF-9297-430E4F25FCD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ус Абрам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776680" y="1341360"/>
            <a:ext cx="3435120" cy="48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0C82-F781-4FFB-B46A-BDEFF1103C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611280" y="1557360"/>
          <a:ext cx="8008920" cy="42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557360"/>
                    <a:ext cx="800892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ределение осадки кону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6802-83F6-4664-8445-5E0DD594E8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ределение осадки кону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1554120" y="1324080"/>
            <a:ext cx="6402600" cy="48020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F65E-6B2E-4562-B56A-19F27F886C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ение расплыва кону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1652760"/>
          <a:ext cx="822960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52760"/>
                    <a:ext cx="82296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A8F0-13C3-478A-B41A-40D6E3CD76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Свойства бетонной смес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ологическ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хнологическ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9D60-5B9A-4A6E-81DF-13FD3BD723C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ение расплыва кону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6408720" cy="48070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A012-FF5F-45D1-95D4-2B5BC22015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пособность бетонной смеси растекаться и заполнять форму под действием вибрации и сил тяже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змеряется в секунд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есткость бетонной сме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F5C0-9BE4-4856-8234-56B7380246E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боры для определения жесткости бетонной сме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0D20-426A-43FE-BDEE-A9716E17B3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бор Ве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987640" y="1341360"/>
            <a:ext cx="3110040" cy="48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993F-1EFA-4BC6-929F-51F5BA8FB9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бор Ве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11280" y="1333440"/>
            <a:ext cx="7632720" cy="4873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7632720" cy="4873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80C7-605B-4E7F-ACC9-B7A41EC882A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бор Крас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049800" cy="422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0676-DA03-4368-BFF9-D9FA51B5937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бор Скрамта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2887560" cy="4967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зультат умножается на коэффициент 0,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C69A-95B5-4CB1-B6B7-CDF250E46C7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рки по удобоукладываемо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3141720"/>
          <a:ext cx="8229600" cy="2984400"/>
        </p:xfrm>
        <a:graphic>
          <a:graphicData uri="http://schemas.openxmlformats.org/drawingml/2006/table">
            <a:tbl>
              <a:tblPr/>
              <a:tblGrid>
                <a:gridCol w="3035160"/>
                <a:gridCol w="5194440"/>
              </a:tblGrid>
              <a:tr h="99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Ж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100 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Ж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1 до 100 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Ж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с и мене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2268360" y="2133000"/>
            <a:ext cx="47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верхжесткие смес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1E71-8DF5-4C5E-A7BC-703A4102BA6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рки по удобоукладываемо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2133000"/>
            <a:ext cx="47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Жесткие смес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3068640"/>
          <a:ext cx="8229600" cy="3057480"/>
        </p:xfrm>
        <a:graphic>
          <a:graphicData uri="http://schemas.openxmlformats.org/drawingml/2006/table">
            <a:tbl>
              <a:tblPr/>
              <a:tblGrid>
                <a:gridCol w="3467160"/>
                <a:gridCol w="4762440"/>
              </a:tblGrid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31до 60 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1 до 30 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1 до 20 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8FDF-87E0-444C-A06B-BB740F824EA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рки по удобоукладываемо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68360" y="1483920"/>
            <a:ext cx="47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движные смес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08000" y="2133720"/>
          <a:ext cx="8856720" cy="4032000"/>
        </p:xfrm>
        <a:graphic>
          <a:graphicData uri="http://schemas.openxmlformats.org/drawingml/2006/table">
            <a:tbl>
              <a:tblPr/>
              <a:tblGrid>
                <a:gridCol w="1008000"/>
                <a:gridCol w="2063880"/>
                <a:gridCol w="2743200"/>
                <a:gridCol w="304164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стк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адка конус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лыв конус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 с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 до 4 с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9 с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15 с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6 до 20 с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6 до 30 с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см и боле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см и боле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3E07-0EE7-4972-9334-6E91825FB50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Реологические свойств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руппа свойств бетонной смеси, характеризующих ее способность последовательно претерпевать упругие и вязко-пластические деформации под действием внешних си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33B6-0BF2-4BDE-8D3D-9DDB6D38900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арактеризуется показателями расслаиваемост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твороотде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доотде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яз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6EC1-E6D7-4FB6-A842-ECE7E9F87D9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ение водоотде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92360" y="1339920"/>
            <a:ext cx="6119640" cy="485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BB99-9E87-4797-A342-B46F768551B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560" y="1557000"/>
            <a:ext cx="8713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960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оотделение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ahoma"/>
              </a:rPr>
              <a:t>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яют по форму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масса воды, отделившейся при стандартных испытаниях из бетонной смеси, г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объем металлического стандартного цилиндра, д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835280" y="2637000"/>
                <a:ext cx="482436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ение водоотде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E23B-CA56-4472-9B07-8306047B285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ределение раствороотде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916360" y="1268280"/>
            <a:ext cx="3705120" cy="482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4880-8324-4E8B-9D4A-722DE77C997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713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твороотделение </a:t>
            </a:r>
            <a:r>
              <a:rPr b="0" i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ahoma"/>
              </a:rPr>
              <a:t>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яют по форму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bs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su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bs inf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массы раствора в верхней и нижней частях образца бетон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b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суммарная масса раств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11280" y="2492280"/>
                <a:ext cx="824688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up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f</m:t>
                                </m:r>
                              </m:sub>
                            </m:sSub>
                          </m:sub>
                        </m:sSub>
                      </m:e>
                    </m:d>
                    <m:r>
                      <m:t xml:space="preserve">/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ределение раствороотде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39B7-4719-4676-A623-F1990EE2A7E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чество бетонных смесей оцениваю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1774440"/>
            <a:ext cx="7885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 удобоукладываемост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редней плотност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ъему вовлеченного воздух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слаиваемости (при необходимости)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храняемости основных свойств во времени (при необходимости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107D-9D18-4981-A623-76441F8CAAE3}" type="slidenum">
              <a:t>35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Реологические свойств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чальная прочность бетонной смес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ластичнос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куче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9CD7-E8A1-473C-9D24-BD6F56C183C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чальная прочность бетонной смес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4365720"/>
            <a:ext cx="828036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сдвигающее усилие, 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площадь поверхности сдвига, м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627280" y="1557360"/>
          <a:ext cx="3888000" cy="26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557360"/>
                    <a:ext cx="3888000" cy="26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B893-47F2-49E8-96D2-07F15569F1A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чальная прочность бетонной смес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4365720"/>
            <a:ext cx="828036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сдвигающее усилие, 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площадь поверхности сдвига, м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700360" y="1700280"/>
          <a:ext cx="4248000" cy="23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700280"/>
                    <a:ext cx="424800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25DD-314F-45CE-B43E-7864D5C8D61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чальная прочность бетонной смес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арактеризуется величиной напряжения сдвига </a:t>
            </a:r>
            <a:r>
              <a:rPr b="0" i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МПа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598840" y="3125880"/>
                <a:ext cx="36608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395280" y="4365720"/>
            <a:ext cx="828036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сдвигающее усилие, 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площадь поверхности сдвига, м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5A5E-4AC4-4045-970B-661D147DD70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Пластичнос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арактеризуется величиной динамической вязкости смеси </a:t>
            </a:r>
            <a:r>
              <a:rPr b="0" i="1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МПа</a:t>
            </a:r>
            <a:r>
              <a:rPr b="0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E393-CB48-4CA6-AC3E-9B1AA0BA3ED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Текучес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арактеризуется величиной скорости сдвига </a:t>
            </a:r>
            <a:r>
              <a:rPr b="0" i="1" lang="en-US" sz="4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i="1" lang="en-US" sz="4800" spc="-1" strike="noStrike" baseline="-25000">
                <a:solidFill>
                  <a:srgbClr val="000000"/>
                </a:solidFill>
                <a:latin typeface="Tahoma"/>
              </a:rPr>
              <a:t>q</a:t>
            </a:r>
            <a:r>
              <a:rPr b="0" i="1" lang="ru-RU" sz="4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/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672A-6319-4CE6-B9F3-5D1F11D95C0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7:27:02Z</dcterms:created>
  <dc:creator>user</dc:creator>
  <dc:description/>
  <dc:language>en-US</dc:language>
  <cp:lastModifiedBy>Кон</cp:lastModifiedBy>
  <dcterms:modified xsi:type="dcterms:W3CDTF">2007-09-22T05:23:13Z</dcterms:modified>
  <cp:revision>114</cp:revision>
  <dc:subject/>
  <dc:title>ЗАПОЛНИТЕЛИ ДЛЯ БЕТОНА</dc:title>
</cp:coreProperties>
</file>