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BE5-77BE-40E8-BF3E-947F1001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355-B918-4911-81F3-B17E782D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EEB-A46E-491F-8A0B-7AEFE529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983-4775-477A-A99E-DDE57220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B7E0-9D22-4258-9CF1-78E0D86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E7AF-06B6-4A7B-B6E8-27921A3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C95-B52D-4815-86A6-6DA4796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8C8-D1EF-4F99-A6D5-1439242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117-0E22-4981-9ACC-530403F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C285-DFAC-4E24-AC44-0F83DF44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EFD-6E5D-46C8-9212-553A618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BA3-FC3A-4CF4-8668-E273675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BC27-B040-4DD5-A0F5-919131B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DF8-5D0D-47F9-9798-ED92565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C29E-51DC-4D1D-AE1D-32AE1FC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04A-6B4C-4A3F-818D-308FF27F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1149-FEDE-4CCA-BC00-9CE475A6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136-36A3-461B-86AE-29A1026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D5C-899C-4D5E-BDE5-BF8DE043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943-A252-48D0-B18D-71EC99D3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177-759E-4AD2-95C0-088F179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7C7-A7B5-44F0-A276-B1669348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74D-02B8-4F4B-9609-80BA5B8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711-9724-4A7C-ADAE-E7243E00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2F85-6C88-4921-8654-1FE7675219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5907-20E0-4933-96FC-77AD0CEE73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Кв. уравнения в Древнем Вавило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Кв. уравнения в Ин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ные уравнения в Европе 13-17 в.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Опреде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Неполные кв. урав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Полное кв. уравн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Теорема Ви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ма, обратная теореме Ви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7" action="ppaction://hlinksldjump"/>
              </a:rPr>
              <a:t>Кв. уравнения с комплексными перемен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кв. уравнений с помощью граф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ожение кв. трехчлена на множите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8" action="ppaction://hlinksldjump"/>
              </a:rPr>
              <a:t>Применение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9" action="ppaction://hlinksldjump"/>
              </a:rPr>
              <a:t>Практику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0" action="ppaction://hlinksldjump"/>
              </a:rPr>
              <a:t>Заклю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Кв. уравнения с комплексными переменными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6300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ачала рассмотрим простейшее кв. уравн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данное число, а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неизвестное. На множестве действительных чисел это уравн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На множестве комплексных чисел это уравнение всегда имеет корень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1. Найти комплексные корни если а=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           Т.к.    =-1, то это уравнение можно записать в виде         , или                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юда, раскладывая левую часть на множители, получаем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332000" y="1484280"/>
                <a:ext cx="485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84240" y="2059920"/>
            <a:ext cx="276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Имеет один корень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0, если а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Имеет два действительных кор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27280" y="2276640"/>
                <a:ext cx="695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-20160" y="2275920"/>
            <a:ext cx="41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если а&g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)Не имеет действительных  корней, есл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0920" y="3141720"/>
                <a:ext cx="542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116000" y="314172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00720" y="3141720"/>
                <a:ext cx="431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292720" y="3141720"/>
                <a:ext cx="6602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427640" y="3429000"/>
                <a:ext cx="189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4360" y="3645000"/>
                <a:ext cx="637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Решение кв. уравнений с помощью графиков.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 используя формул квадратное уравнение можно решить графическим способом. Наприме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им уравн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Для этого построим два графика(рис.1)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2492280"/>
          <a:ext cx="2736360" cy="647640"/>
        </p:xfrm>
        <a:graphic>
          <a:graphicData uri="http://schemas.openxmlformats.org/drawingml/2006/table">
            <a:tbl>
              <a:tblPr/>
              <a:tblGrid>
                <a:gridCol w="328680"/>
                <a:gridCol w="347040"/>
                <a:gridCol w="343080"/>
                <a:gridCol w="345240"/>
                <a:gridCol w="347040"/>
                <a:gridCol w="346320"/>
                <a:gridCol w="346680"/>
                <a:gridCol w="332280"/>
              </a:tblGrid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268280"/>
                <a:ext cx="9144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280" y="162792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080" y="1988280"/>
            <a:ext cx="36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квадратичная функция, график парабо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4360" y="2276640"/>
                <a:ext cx="2188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0560" y="3283920"/>
            <a:ext cx="334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1, линейная функция, график прям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3573360"/>
                <a:ext cx="2188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"/>
          <p:cNvGraphicFramePr/>
          <p:nvPr/>
        </p:nvGraphicFramePr>
        <p:xfrm>
          <a:off x="250920" y="3789360"/>
          <a:ext cx="2299680" cy="566280"/>
        </p:xfrm>
        <a:graphic>
          <a:graphicData uri="http://schemas.openxmlformats.org/drawingml/2006/table">
            <a:tbl>
              <a:tblPr/>
              <a:tblGrid>
                <a:gridCol w="552240"/>
                <a:gridCol w="582840"/>
                <a:gridCol w="582120"/>
                <a:gridCol w="58248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81560" cy="309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439040" y="494100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исунок 1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1480" y="4507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55640" y="4581360"/>
                <a:ext cx="1066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-168840" y="4868280"/>
            <a:ext cx="60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бсциссы точек пересечения графиков и будет корнями уравн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двух точках, то уравнение имеет два корн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одной точке, то уравнение имеет один коре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не пересекаются, то уравнение корней не име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Разложение кв. трехчлена на множители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ногочлен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некоторые числа,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переменная, называется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квадратным трёхчлено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ример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7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вадратный трехчлен  разлагается на множители , где  и  корни трехчле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ано: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 квадратный трехчлен; и -корни ег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ь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теореме Виета следует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00000" y="1557360"/>
                <a:ext cx="800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16000" y="1700280"/>
                <a:ext cx="1952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476360" y="1989000"/>
                <a:ext cx="1952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9280" y="2565360"/>
                <a:ext cx="6296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=&gt;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именение кв. уравнений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 квадратных уравнений широко применяется в других разделах математики: в разложении квадратного трехчлена, в исследовании квадратичной функции, в решении уравнений высших степеней, в решении текстовых задач и задач по геометр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       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которые уравнения высших степеней можно решить, сведя их к квадратном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) Иногда левую часть уравнения легко разложить на множители, из  которых каждый - многочлен не выше 2-ой степени. Тогда приравнивая каждый многочлен к нулю, решаем полученные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)  Если уравнение имеет вид ax2n+bxn+c= 0, его можно свести к квадратному, введя новую переменную   t = x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)  В геометри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Гипотенуза прямоугольного треугольника равна 10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Найти катеты, если один из них на 2 см. больше друго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: по теореме  Пифагора  a2+ b2= c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Пусть х см.-1 катет, тогда (х+2) см.-2 катет.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Составим уравнение:   x2+ (x+2)2= 10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Пифаг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451640" y="1413000"/>
            <a:ext cx="1428840" cy="104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03280" y="3573360"/>
                <a:ext cx="9781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26920" y="3860640"/>
                <a:ext cx="214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спользуемся подставкой 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4149720"/>
                <a:ext cx="885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258920" y="2276640"/>
                <a:ext cx="136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35280" y="278136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940360" y="4221000"/>
            <a:ext cx="1365480" cy="158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1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актикум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   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еполные кв. урав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867280" y="1268280"/>
                <a:ext cx="85104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79280" y="1197000"/>
                <a:ext cx="10288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47640" y="1268280"/>
                <a:ext cx="13957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132000" y="1268280"/>
                <a:ext cx="2400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-46836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9280" y="3645000"/>
                <a:ext cx="3038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2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етод выделения полного квадра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24000" y="1197000"/>
                <a:ext cx="14763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5;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050920" y="1268280"/>
                <a:ext cx="17431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995640" y="1197000"/>
                <a:ext cx="1905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50920" y="2997360"/>
                <a:ext cx="15904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95640" y="3068640"/>
                <a:ext cx="2009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,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2;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3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Практикум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500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4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1484280"/>
                <a:ext cx="110808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 -3; 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50920" y="1413000"/>
                <a:ext cx="117792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,5;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940360" y="1341360"/>
                <a:ext cx="24955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3</m:t>
                        </m:r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564000" y="1341360"/>
                <a:ext cx="1981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0920" y="4508640"/>
                <a:ext cx="205740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8;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4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29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иведённые кв. уравнения. Теорема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писать приведённое кв. уравнение, имеющее корни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)                       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)                       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пользуемся  т.Ви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140360" y="1268280"/>
                <a:ext cx="4316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95280" y="155736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692360" y="1557360"/>
                <a:ext cx="847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989000"/>
                <a:ext cx="1019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692360" y="1989000"/>
                <a:ext cx="9237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79280" y="2924280"/>
                <a:ext cx="10191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547640" y="2924280"/>
                <a:ext cx="981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71640" y="2924280"/>
                <a:ext cx="1143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140360" y="2924280"/>
                <a:ext cx="10666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5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шение кв. уравнений по теореме обратной т.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159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95640" y="1413000"/>
                <a:ext cx="86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5236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39640" y="1700280"/>
                <a:ext cx="14479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5200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39640" y="2060640"/>
                <a:ext cx="1819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856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84360" y="242100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31021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19640" y="1413000"/>
                <a:ext cx="838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334944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35280" y="1700280"/>
                <a:ext cx="1095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34908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635280" y="2060640"/>
                <a:ext cx="167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40020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24360" y="2421000"/>
                <a:ext cx="8287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612648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244000" y="1341360"/>
                <a:ext cx="771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6373800" y="169956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659640" y="1700280"/>
                <a:ext cx="1057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637344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659640" y="1989000"/>
                <a:ext cx="1666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424200" y="227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020000" y="234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49400" y="270756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268360" y="270828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96720" y="299628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4360" y="3068640"/>
                <a:ext cx="1361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396360" y="33566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4360" y="3429000"/>
                <a:ext cx="1838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48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042920" y="378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3246480" y="278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364000" y="285264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3565440" y="314100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851280" y="3141720"/>
                <a:ext cx="13716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565080" y="3499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851280" y="3500280"/>
                <a:ext cx="1800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473280" y="378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067280" y="3860640"/>
                <a:ext cx="942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6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694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до задержки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150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после задержки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+15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 расписанию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поезд был задержан на 1,5 часа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851280" y="1484280"/>
                <a:ext cx="276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780000" y="1844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227664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79280" y="3141720"/>
                <a:ext cx="304164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0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|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22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ч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время в пут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 поед был в пути 10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780000" y="2924280"/>
                <a:ext cx="466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Древнем Вавилоне.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5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457880" y="-7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babilo1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847800" cy="80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7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Практикум 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15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реке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0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                               3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протоку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10-x+1                                         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притока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x+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скорость в стоячей воде равна 10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24360" y="155736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924360" y="2060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19240" y="3500280"/>
                <a:ext cx="272700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0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60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 км/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564000" y="3645000"/>
                <a:ext cx="8636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9,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8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6012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          Изменилось         Стало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год        20000                2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              20000+200x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год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20000+200x         200x+2x         20000+400x+2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я, что за 2 года население около 22050, сост.ур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616800" y="2637000"/>
                <a:ext cx="1015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9280" y="2637000"/>
          <a:ext cx="204804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37000"/>
                    <a:ext cx="20480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9280" y="3716280"/>
                <a:ext cx="118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9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k2-ac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4000" y="1341360"/>
                <a:ext cx="17049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14280" y="2349360"/>
            <a:ext cx="1689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.к.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&lt;0, то корней нет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твет: К.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84360" y="1341360"/>
                <a:ext cx="179064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680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76720" y="3645000"/>
                <a:ext cx="9144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08720" y="1268280"/>
                <a:ext cx="1714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003640" y="2133720"/>
                <a:ext cx="263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344920" y="3572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867280" y="3500280"/>
                <a:ext cx="96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8000" y="3500280"/>
                <a:ext cx="262872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44892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42920" y="5877000"/>
                <a:ext cx="961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77080" y="3860640"/>
                <a:ext cx="2124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721656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812000" y="6021360"/>
                <a:ext cx="4669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Заключение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Делая этот доклад, я открыл для себя много интересного и нового о кв. уравнениях  чего не мог прочитать в учебнике. Например, я узнал о том, что ещё в древности люди пользовались ими не зная, что это –кв. уравнения. В наше время невозможно представить себе решение как  простейших , так и сложных  задач не только в математике, но и в других точных науках , без применения решения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Надеюсь и вы открыли для себя что-нибудь нов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Индии.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50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 на квадратные уравнения встречаются уже в 499 г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ревней Индии были распространены публичные соревнования в решении трудных задач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дной из старинных индийских книг говорится по поводу таких соревнований следующее: "Как солнце блеском своим затмевает звезды, так ученый человек затмит славу другого в народных собраниях, предлагая и решая алгебраические задач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 знаменитого   индийского математика  Бхаскары: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Обезьянок резвых ст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Всласть  поевши, развлекая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Их в квадрате часть восьм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На поляне забавляла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А 12 по лианам....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тали прыгать, повисая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колько было обезьянок,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Ты  скажи мне, в этой ста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12000" y="1125360"/>
            <a:ext cx="1218960" cy="171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3284640"/>
            <a:ext cx="91440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03640" y="-1684440"/>
          <a:ext cx="215640" cy="24269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42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3313080" cy="24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 в Европе 13-17 в.в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72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Формулы решения квадратных уравнений в Европе были впервые  изложены в 1202 г. итальянским математико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Леонардом Фибоначчи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щее правило решения квадратных уравнений, приведенных к единому каноническому виду х2+вх+с=0 , было сформулировано в Европе лишь в 1544 г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Штифелем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ывод формулы решения квадратного уравнения  в общем виде имеется у Виета, однако Виет признавал только положительные корни. Лишь в 17 в. благодаря труда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карта, Ньютона и других ученых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пособ решения квадратных уравнений принимает современный ви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Определение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Уравнение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a, b, c - действительные числа, причем a не равно 0, называют квадратным уравнением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= 1 , то    квадратное  уравнение    называют приведенным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¹ 1,  то    неприведенным . 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Числа a, b, c носят следующие названи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a -первый коэффициент,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b - второй коэффициент, c - свободный член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рни уравнения ax2+bx+c=0 находят по формул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ыражение D = b2- 4ac называют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искриминанто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квадратного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lt; 0, то уравнение не имеет действительных корней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= 0, то уравнение имеет один действительный корень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gt; 0, то уравнение имеет два действительных корня.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 случае, когда D = 0, иногда говорят, что квадратное уравнение  имеет два одинаковых корн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спользуя обозначение D = b2- 4ac, можно переписать формулу в вид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= 2k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формула  принимает вид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так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k = b / 2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следняя формула особенно удобна в тех случаях, когда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/ 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целое число, т.е. коэффициент,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четное числ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708360" y="1916280"/>
            <a:ext cx="1467000" cy="514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00008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4419720" cy="514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1428840" cy="514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156360" y="2349360"/>
            <a:ext cx="1873080" cy="1694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156360" y="4365720"/>
            <a:ext cx="186372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Неполные кв. уравнения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в квадратном уравнении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второй коэффициент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ли свободный член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 нулю, то квадратное уравнение называется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неполны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cc00"/>
                </a:solidFill>
                <a:latin typeface="Tahoma"/>
              </a:rPr>
              <a:t>Способы решения неполных квадратных уравнений</a:t>
            </a: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) 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c = 0 , то уравнение примет вид 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+bx=0.          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( ax + b )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0 или ax + b = 0 ,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-b : a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)  b = 0, то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имет ви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+ c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2  = -c : a 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  =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или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 = -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 = 0 и c = 0 , то уравнение примет вид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= 0,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0.  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142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314280" cy="3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лное квадратное уравнение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5292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квадратном уравнении второй коэффициент и свободный член не равны нулю, то такое уравнение называют полным квадратным уравнение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590920" cy="21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 Виета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6227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Сумма корней приведённого квадратного уравнения равна второму коэффициенту, взятому с противоположным знаком, а произведение корней равно свободному член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Рассмотрим приведённое квадратное уравнение. Обозначим второй коэффициент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свободный член -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Дискриминант этого уравнения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gt;0 .Тогда это уравнение имеет два корн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айдём сумму и произведение корней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1640" y="1557360"/>
                <a:ext cx="981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48000" y="19162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6920" y="2133720"/>
                <a:ext cx="952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95640" y="2205000"/>
                <a:ext cx="10191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4000" y="2924280"/>
                <a:ext cx="3619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, обратная теореме Виета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21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Если числ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овы, что их сумма равна –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произвед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равн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эти числа являются корнями уравнен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По условию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Значит,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жно записать в вид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дставив вмест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получим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Значит,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является корнем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Аналогично можно показать, что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 же является корнем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праву в стихах быть воспе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О свойствах корней теорема Виет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Что лучше, скажи, постоянства такого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Умножишь ты корни и дробь уж готова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С, в знаменателе А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А сумма корней тоже дроби равн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Хоть с минусом дробь эта, что за беда-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b, в знаменателе 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492360" y="1484280"/>
                <a:ext cx="100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356000" y="1773360"/>
                <a:ext cx="1003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547640" y="1989000"/>
                <a:ext cx="147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9280" y="2349360"/>
                <a:ext cx="2886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8000" y="2997360"/>
                <a:ext cx="2743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1:47:03Z</dcterms:created>
  <dc:creator>Dron</dc:creator>
  <dc:description/>
  <dc:language>en-US</dc:language>
  <cp:lastModifiedBy>Dron</cp:lastModifiedBy>
  <dcterms:modified xsi:type="dcterms:W3CDTF">2004-03-23T10:34:54Z</dcterms:modified>
  <cp:revision>22</cp:revision>
  <dc:subject/>
  <dc:title>Квадратные уравнения</dc:title>
</cp:coreProperties>
</file>