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CEA-1F73-4FB7-9028-C7562267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D700-8E5B-4EC7-A71F-95CAE9D4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FDF-CDB3-4A88-923E-8408D2C5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7C8F-72D2-4A2F-89CF-9B63A09A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9F22-6847-4A74-855F-1441FBEB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F815-7CEB-42E3-8B61-2CB1B3FA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F5A0-3C6B-449A-A4C0-DAC8E3BC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5B3B-A30C-45AA-8822-98B1CFE5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33DA-897D-4687-B4F9-B9D3B5A1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1542-6189-4B4B-BFDC-F6A2553E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A30C-BDD1-4A1B-879A-6DE4BED2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A37B-2FE8-4F0A-82E2-512519B9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8F20-3849-4CB6-94A4-972471A6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CB21-78EE-4B4E-9A34-6A78FB9B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0683-DF71-4C35-9451-73E94861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9CF7-B834-4C5D-95E3-F827D628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BA1B-F430-4059-A089-B014B92E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DB7-325E-4BFA-AF34-607489AF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2C8-5402-4E41-A1BD-314718E9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CBF-8660-4213-A0D2-78C7D8ED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36B-DC67-4E9C-ABE0-DEC8A61C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CD9-554C-4E9B-B3C7-EB8A28E7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DC9-862D-4E95-82B7-D997E1AB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E40-75B9-4D2A-BABF-2BB07998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345D-C15B-425F-8AE1-801E135C43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FD8A-3022-452E-A334-1543BE9F37C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2B23-CB78-4441-B275-49C4E3AB667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работка мобильной измерительной системы для оценки вибрационного состояния роторных машин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49525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пломник: АиУб-04-1, Сапрыгин А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ководитель: ассистент Васькевич А.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D:\Мои документы\безымянный1.jpg"/>
          <p:cNvPicPr/>
          <p:nvPr/>
        </p:nvPicPr>
        <p:blipFill>
          <a:blip r:embed="rId1"/>
          <a:srcRect l="15046" t="0" r="15046" b="0"/>
          <a:stretch/>
        </p:blipFill>
        <p:spPr>
          <a:xfrm>
            <a:off x="0" y="0"/>
            <a:ext cx="914400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1B44-8470-4A31-A592-EC7C12E520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ок п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1890720" y="-5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2286000" y="1924200"/>
          <a:ext cx="4305240" cy="493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1924200"/>
                    <a:ext cx="430524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9E06-0A49-4BB7-87EF-94CA116486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1890720" y="-5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0" y="235728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данной выпускной работы была спроектирована мобильная измерительная система  вибродиагностики. А имен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структурная схема микропроцессорной систем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ы принципиальные схемы микропроцессорной систем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ы алгоритм работы системы для микроконтролл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1680" y="257184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Номер слайда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B6A9-52F7-4653-BDFD-C79127B5B1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912-AAA8-4A0D-B42E-E13F6BB9A3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785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ь выпускной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78596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 работы – разработка структурной и принципиальной схем микропроцессорной системы устройства «Регистратор-Виброметр». Система должна обеспечивать запись пакетов мгновенных значений виброускорения. Формат пакетов должен соответствовать стандарту регламентированному разработчиками ПО мониторинга и диагностики. Также система должна обеспечивать показания СКЗ виброскорости, для обеспечения контроля общего уровня виб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196D-A13C-4EF4-B848-B8C38971B6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писание технологического процес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0" y="25621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состояния узлов роторных машин базируется на анализе в диапазоне спектров и кепстров виброскорости, спектров огибающей виброускорения, а также измерении общих уровней вибрации. Контроль параметров вибрации выполняется с помощью средств виброконтроля – мобильных измерительных сист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BA5B-DA13-4589-A8D5-2D0C92A0FA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ав мобильной измерительной системы для оценки вибрационного состояния роторных ма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160488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2428920" y="3286080"/>
            <a:ext cx="600120" cy="89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0" y="3125880"/>
            <a:ext cx="1643040" cy="1231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286160" y="2928960"/>
            <a:ext cx="970200" cy="185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7000920" y="4643280"/>
            <a:ext cx="1357200" cy="1086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6"/>
          <a:stretch/>
        </p:blipFill>
        <p:spPr>
          <a:xfrm>
            <a:off x="7072200" y="2000160"/>
            <a:ext cx="1373400" cy="1143000"/>
          </a:xfrm>
          <a:prstGeom prst="rect">
            <a:avLst/>
          </a:prstGeom>
          <a:ln w="0">
            <a:noFill/>
          </a:ln>
        </p:spPr>
      </p:pic>
      <p:cxnSp>
        <p:nvCxnSpPr>
          <p:cNvPr id="113" name="Прямая со стрелкой 32"/>
          <p:cNvCxnSpPr/>
          <p:nvPr/>
        </p:nvCxnSpPr>
        <p:spPr>
          <a:xfrm flipV="1">
            <a:off x="5785920" y="2928240"/>
            <a:ext cx="1143720" cy="5007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34"/>
          <p:cNvCxnSpPr/>
          <p:nvPr/>
        </p:nvCxnSpPr>
        <p:spPr>
          <a:xfrm>
            <a:off x="5929200" y="4214520"/>
            <a:ext cx="1215360" cy="857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5" name="TextBox 35"/>
          <p:cNvSpPr/>
          <p:nvPr/>
        </p:nvSpPr>
        <p:spPr>
          <a:xfrm>
            <a:off x="3240" y="4429080"/>
            <a:ext cx="15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то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бра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36"/>
          <p:cNvSpPr/>
          <p:nvPr/>
        </p:nvSpPr>
        <p:spPr>
          <a:xfrm>
            <a:off x="2074680" y="435780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ч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Прямая со стрелкой 45"/>
          <p:cNvCxnSpPr/>
          <p:nvPr/>
        </p:nvCxnSpPr>
        <p:spPr>
          <a:xfrm>
            <a:off x="3214440" y="3785760"/>
            <a:ext cx="78660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Прямая со стрелкой 46"/>
          <p:cNvCxnSpPr/>
          <p:nvPr/>
        </p:nvCxnSpPr>
        <p:spPr>
          <a:xfrm>
            <a:off x="1643040" y="3785760"/>
            <a:ext cx="714960" cy="25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TextBox 49"/>
          <p:cNvSpPr/>
          <p:nvPr/>
        </p:nvSpPr>
        <p:spPr>
          <a:xfrm>
            <a:off x="3861720" y="47862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истратор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Виброме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50"/>
          <p:cNvSpPr/>
          <p:nvPr/>
        </p:nvSpPr>
        <p:spPr>
          <a:xfrm>
            <a:off x="7291440" y="59292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51"/>
          <p:cNvSpPr/>
          <p:nvPr/>
        </p:nvSpPr>
        <p:spPr>
          <a:xfrm>
            <a:off x="6576480" y="3071880"/>
            <a:ext cx="20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мышлен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sh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опи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6A8B-C505-4DC5-B115-1C4F757206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уктурная схема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2000160" y="1500120"/>
            <a:ext cx="50007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0CEF-51C3-4123-859E-FFB27F1FA7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 микросх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6"/>
          <p:cNvSpPr/>
          <p:nvPr/>
        </p:nvSpPr>
        <p:spPr>
          <a:xfrm>
            <a:off x="214200" y="1928880"/>
            <a:ext cx="8929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кроконтролле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131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me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ст-контроллер Vinculum VNC1L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TD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универсальное программируемое устройство сопряжения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sh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опител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троллер диспле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221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im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ниверсальное программируемое устройство сопряжения с диспле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ЦП ADC08062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Semiconducto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назначен для преобразования аналоговых сигналов с датчика в 8 - разрядный цифровой 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У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M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0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RamTron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назначено для временного хранения данных (ёмкость 32 КБайт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образователь логического уровн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VC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24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as Instr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BFD5-D567-493D-82DA-3405AB20FA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нципиальная сх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500040" y="1333440"/>
            <a:ext cx="799164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5D7B-4F2F-4798-B86E-733F054E9D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горитм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1143000" y="1758960"/>
            <a:ext cx="68580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8BA6-00D6-495A-A8AD-A664C1B78F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орпус устройства “Регистратор - Виброметр 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D:\Мои документы\безымянный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6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286000" y="2071800"/>
            <a:ext cx="474984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3:43:16Z</dcterms:created>
  <dc:creator>acer</dc:creator>
  <dc:description/>
  <dc:language>en-US</dc:language>
  <cp:lastModifiedBy>Artyom</cp:lastModifiedBy>
  <dcterms:modified xsi:type="dcterms:W3CDTF">2008-06-23T17:23:41Z</dcterms:modified>
  <cp:revision>24</cp:revision>
  <dc:subject/>
  <dc:title>«Разработка микропроцессорной системы контроля магистрального насосного агрегата»</dc:title>
</cp:coreProperties>
</file>