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D2C-FEE3-4E6D-B927-4071D95A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61D-2D03-4810-9CC5-1C12B73C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994-9F78-4944-B23D-BDEA724D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F89-9ACB-468A-86A9-CB257571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70F4-E1CA-4E42-9801-82AC8625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96E4-ED3B-4BF2-BEF7-51BDA5A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0425-2E81-4959-A077-2A36CDD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033D-F4ED-43B8-A510-8EB2DAEC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A1D6-FD30-4090-9685-319177CC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0DB5-EF32-452B-9940-1CB752F1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2D3B-847D-4EBA-88EF-BF49FDC9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D82B-7DB5-47CD-AF4A-DDDBB864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6B8F-266C-47C8-BE8B-2EF20F9F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AED1-2F6E-48F8-A14B-125C95D4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5E27-CC1B-420A-8F8A-EB5791F2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D9B-AE7F-49CB-96B9-FB16D17B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266652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4457880"/>
            <a:ext cx="26744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C0AA-9027-4970-9377-11FF96B6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1B9-A0AA-454B-9E3D-FAC38534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0A4-A94F-4782-B6B9-99027AFB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DEE-4E1D-4C5D-BF8B-D7E69F3A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C33-82F3-4692-AAA1-E58B870E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7BD-A8C4-4F21-9CA0-A9DBABE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445788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D63-1412-4E6E-BBE0-2B949D55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2666520"/>
            <a:ext cx="40532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457880"/>
            <a:ext cx="83059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766-89B4-4A71-A9CB-0C30B41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8572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951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0AB-9340-4C2E-9239-3F577651AC9F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229600" cy="11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7712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8572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542-1EFC-4878-94FC-C45061EE308C}" type="slidenum">
              <a:rPr b="0" lang="ru-RU" sz="1000" spc="-1" strike="noStrike">
                <a:solidFill>
                  <a:srgbClr val="58572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72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572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8572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72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08000"/>
                </a:solidFill>
                <a:latin typeface="Arial Black"/>
              </a:rPr>
              <a:t>Управление персоналом и политика социальной ответственности в компании </a:t>
            </a:r>
            <a:r>
              <a:rPr b="0" lang="en-US" sz="3400" spc="-1" strike="noStrike">
                <a:solidFill>
                  <a:srgbClr val="808000"/>
                </a:solidFill>
                <a:latin typeface="Arial Black"/>
              </a:rPr>
              <a:t>Toyota.</a:t>
            </a:r>
            <a:endParaRPr b="0" lang="en-US" sz="3400" spc="-1" strike="noStrike">
              <a:solidFill>
                <a:srgbClr val="808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д) Участие в акционерном капитал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бережения для участия в приобретении ак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акционеров-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е) Дополнительное обеспечени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асса взаимопомощ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льготное кредитование по линии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ое довольствие после выхода на пенсию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фонды пожизненной рент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иобретение школьных учебников для детей работников фирмы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41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2."Страхование непредвиденных случаев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545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а) Поддержка занятост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невыходы на работу с разрешения администраци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ащита доходов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олнительные выплаты при несчастных случаях на транспор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по программе "Счастливая жизнь в "Тойоте"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ка в связи с онкологически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нсии для детей с физическими отклонениями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6480" y="2349360"/>
            <a:ext cx="4457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в) Финансовая поддержка и взаимопомощь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арки от имени компани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платы и ссуды из фондов взаимопомощи по линии профсоюз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трахование автомобил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донорство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г) Консультирован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 общим юридическим вопросам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о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в связи с дорожными происшеств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содействие в поиске внешних консультантов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8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3."Досуг и общественная деятельность".</a:t>
            </a: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76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58572b"/>
                </a:solidFill>
                <a:uFillTx/>
                <a:latin typeface="Arial"/>
              </a:rPr>
              <a:t>а) Внерабочее время: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проведения выходных дне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рганизация отпуска летом и зимой;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- оплаченные отпуска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940360" y="2421000"/>
            <a:ext cx="2967120" cy="200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572000" y="4508640"/>
            <a:ext cx="2052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0" y="1844640"/>
            <a:ext cx="43545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б) Развитие способностей и контактов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молодежные встреч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азднества "Тойоты" и вечерин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секции живописи и каллиграф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граничные поездки при поддержке профсоюз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ссоциация ветеранов "Тойоты"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досуга в местах прожи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спортивных соревнова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лубы, программы оздоровления, дни здоровь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рубежные поездки на длительное врем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ездки в санатории; 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в общежитиях и на предприятия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библиотек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урсы по изучению английского язык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кружки по интересам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секци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портивные залы и стадион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аренда спортивных сооружен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реабилитационный центр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ооружения для профсоюзной деятельности,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148752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536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897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8572b"/>
                </a:solidFill>
                <a:uFillTx/>
                <a:latin typeface="Arial"/>
              </a:rPr>
              <a:t>в) Информационные службы: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газета «</a:t>
            </a:r>
            <a:r>
              <a:rPr b="0" lang="en-US" sz="2800" spc="-1" strike="noStrike">
                <a:solidFill>
                  <a:srgbClr val="58572b"/>
                </a:solidFill>
                <a:latin typeface="Arial"/>
              </a:rPr>
              <a:t>Toyota weekly</a:t>
            </a: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профсоюзная газета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"Тойоты"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информационная служба страхования и социальных новостей;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8572b"/>
                </a:solidFill>
                <a:latin typeface="Arial"/>
              </a:rPr>
              <a:t>- библиотечное обслуживание.</a:t>
            </a:r>
            <a:endParaRPr b="0" lang="en-US" sz="2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2637000"/>
            <a:ext cx="21970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8572b"/>
                </a:solidFill>
                <a:latin typeface="Arial"/>
              </a:rPr>
              <a:t>Даже краткий обзор социальной активности компании "Тойота" доказывает гуманитарную направленность управления; признание того факта, что без соответствующих условий для развития личности и проявления ею своего физического, творческого и эмоционального потенциала не могут быть раскрыты мощные ресурсы конкурентноспособности, охватываемые понятием "человеческий фактор".</a:t>
            </a:r>
            <a:endParaRPr b="0" lang="en-US" sz="24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Японские компании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это не только хозяйственные единицы, но и в значительной мере социальные организации. Каждая фирма имеет собственную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корпоративную философию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упор в которой делается на такие понятия, как искренность, гармония, сотрудничество, вклад в улучшение жизни общества. Основные факторы, определяющие престиж компании в Японии, - ее правовой статус, контролируемая доля рынка, членство на бирже и корпоративная философия. Эти показатели являются более существенными, чем цена акций или уровень прибыльности. Престиж компании определяет ее доступ к внешним финансовым источникам, возможности привлечения ЧР с высоким потенциало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т престижа фирмы, на которую работает японец, в значительной мере зависит его признание в обществе. В общественном сознании трудовая жизнь равноценна личной, индивидуальное выживание и развитие человека зависят от выживания и развития предприятия, на котором он работает. В этих условиях работник отождествляет себя со своей фирмой и готов разделить ее судьб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Корпоративная философия находит отражение в иерархической структуре фирмы, системе организации труда, производства и управления. В отличие от традиционных принципов, направленных на обеспечение прибыльности хозяйственной единицы (формализация, специализация и разделение труда), при построении систем труда в Японии ориентируются на неформальность, гибкость и кооперацию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ий стиль управления базируется на убеждении, а не на принуждении работников. Начальник не выделяет себя из массы подчиненных, его задача не руководить работой, которую выполняют другие, а способствовать взаимодействию сотрудников, оказывать им необходимую поддержку и помощь, формировать гармоничные отношения. Как правило, в японских фирмах нет подробных должностных инструкций, а положения о структурных подразделениях носят общий характер. Сотрудник, направляемый на работу получает лишь справку о назначении, информирующую о том, что с такого-то числа он назначается в такой-то отдел на такой-то тарифный разряд, без указания конкретных обязанностей, сферы ответственности или срока работы. Поступив в подразделение, работник овладевает трудовыми операциями и особенностями межличностных отношений в коллективе при поддержке коллег по работе и непосредственного руководителя. Организация рабочего места и производственных помещений всемерно способствует коллективному труду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Японского работника оценивают не по индивидуальной выработке, а по вкладу в работу коллектива и в совокупную производительность корпорации. Важными критериями оценки считаются: отношение к труду, аккуратность и пунктуальность, взаимодействие с коллегами, нацеленность на выполнение производственных программ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08720" y="2492280"/>
            <a:ext cx="3335400" cy="342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844640"/>
            <a:ext cx="54356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Основные черты управления трудом на японских предприятиях следующие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ость распределения работ и ротаци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мобильность и долгосрочность обучения ЧР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использование механизмов, заинтересовывающих работников в результатах их труд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гибкая организация системы материального стимулирован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жесткая дисциплина на рабочем месте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ориентация на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Эти особенности связаны с принципом долгосрочного найма, подкрепляются взаимным доверием работников и администрации, а также их стремлением к поддержанию гармоничных отношений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Сердцевиной японской системы управления является развитие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В японских компаниях обычно существуют два уровня управления ЧР - уровень компании и индивидуальный уровень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На уровне компании отдел 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- централизованное подразделение, занимающееся институцианализированными и формальными аспектами управления ЧР. Кроме того, он всеми возможными средствами помогает осуществлению этого руководства на индивидуальном уровне, на котором все работники компании, члены "семьи" - начальники, подчиненные и коллеги - должны заниматься личными и неформальными аспектами работы с ЧР, или, иными словами, гармонизацией межличностных отношений на местах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Центральное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, ключевое положение службы </a:t>
            </a: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правления ЧР</a:t>
            </a: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 не зафиксировано организационно. Его устанавливают сами работники. Обычно они исходят из того, что их наняли работать на благо компании, а не выполнять определенную работу, что свидетельствует о преобладании групповой ориентации над индивидуальной. Они знают, что их будут переводить с одной работы на другую, из одного отдела в другой; что будет изменяться их статус и контроль, который группа осуществляет над ними. Неизменным остается их членство в организации. В этом смысле они чувствуют постоянный контроль со стороны отдела управления ЧР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 Black"/>
              </a:rPr>
              <a:t>Социальная работа на японских предприятиях</a:t>
            </a:r>
            <a:br>
              <a:rPr sz="2800"/>
            </a:br>
            <a:endParaRPr b="0" lang="en-US" sz="28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ажной составляющей механизма управления ЧР в японских фирмах является разветвленная система социального развития. Это хорошо иллюстрирует пример компании “</a:t>
            </a:r>
            <a:r>
              <a:rPr b="0" lang="es-ES" sz="2000" spc="-1" strike="noStrike">
                <a:solidFill>
                  <a:srgbClr val="58572b"/>
                </a:solidFill>
                <a:latin typeface="Arial"/>
              </a:rPr>
              <a:t>Toyota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", система социального развития которой в качестве исходных параметров имеет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озрастной уровень работников от 18 до 75 лет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жизненный цикл работника с учетом семейной жизни: холост или не замужем - женитьба - строительство семьи - зрелость - подготовка к пожилому возрасту - наслаждение жизнью в старости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минирующие интересы на разных этапах: досуг и саморазвитие - женитьба и рождение детей - строительство дома - воспитание и обучение детей - подготовка к старости - женитьба дет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В соответствии с этим программы социального развития включают следующие направления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628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00"/>
                </a:solidFill>
                <a:latin typeface="Arial Black"/>
              </a:rPr>
              <a:t>1. "К здоровой и полнокровной жизни".</a:t>
            </a:r>
            <a:r>
              <a:rPr b="0" lang="ru-RU" sz="3200" spc="-1" strike="noStrike">
                <a:solidFill>
                  <a:srgbClr val="808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40000" y="2276640"/>
            <a:ext cx="5003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а) Жилищ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и жилищное строительство фирмы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общежития для холостых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 строительство и аренда квартир компанией. Помощь в личном жилищном строительстве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организация сбережений для индивидуаль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займы под жилищное строительство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ддержка Общества друзей жилищного строительства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полнительные услуги компании и ее профсоюза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050920" y="3933720"/>
            <a:ext cx="15098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601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8572b"/>
                </a:solidFill>
                <a:uFillTx/>
                <a:latin typeface="Arial"/>
              </a:rPr>
              <a:t>б) Здравоохранение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Медицинские расходы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по медицинскому обслуживанию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невыходом на работу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рождением ребенка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расходы в связи с болезнью детей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хоронные расходы. Охрана здоровья работников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ериодическая диспансеризация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поддержание физической формы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борьба с профессиональными заболеваниями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 уход после болезни. 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8572b"/>
                </a:solidFill>
                <a:latin typeface="Arial"/>
              </a:rPr>
              <a:t>Уход за больными: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госпиталь "Тойоты";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8572b"/>
                </a:solidFill>
                <a:latin typeface="Arial"/>
              </a:rPr>
              <a:t>- Медицинский центр компании, действующий на основе общей медицинской страховки (медицинские обследования, лечение детей сотрудников компании, лечение отдельных заболеваний, скорая помощь).</a:t>
            </a:r>
            <a:endParaRPr b="0" lang="en-US" sz="18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35900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34192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00720" y="1844640"/>
            <a:ext cx="426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г) Передвижение и условия труда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дотирование проезда на работу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рабочей одежд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дотирование питания на работе.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5338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8572b"/>
                </a:solidFill>
                <a:uFillTx/>
                <a:latin typeface="Arial"/>
              </a:rPr>
              <a:t>в) Потребительские услуги: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8572b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коллективные оптовые закупки товаров, продовольственные магазины на территории фирмы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система кредитных карточек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лан коллективных закупок семейного пользования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роведение посреднических операци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857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8572b"/>
                </a:solidFill>
                <a:latin typeface="Arial"/>
              </a:rPr>
              <a:t>- помощь в приобретении, обслуживание и ремонте автомобилей;</a:t>
            </a:r>
            <a:endParaRPr b="0" lang="en-US" sz="2000" spc="-1" strike="noStrike">
              <a:solidFill>
                <a:srgbClr val="58572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003640" y="4437000"/>
            <a:ext cx="32259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6:17:02Z</dcterms:created>
  <dc:creator>Янина</dc:creator>
  <dc:description/>
  <cp:keywords/>
  <dc:language>en-US</dc:language>
  <cp:lastModifiedBy>Янина</cp:lastModifiedBy>
  <dcterms:modified xsi:type="dcterms:W3CDTF">2007-05-04T10:24:31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571049</vt:lpwstr>
  </property>
</Properties>
</file>