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24.jpeg" ContentType="image/jpeg"/>
  <Override PartName="/ppt/media/image15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146A-8188-4E07-90A3-1E3A2E0AB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F964-82D7-4B13-9027-68CD1DF29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85EB-7093-44D5-9A9F-0708BA629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D5F7-9BEC-4754-BC95-9F7C6C2F9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6D4F3-6765-43C9-AF27-EA81C8C4B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13173-711C-47C5-9FF5-FC990B13A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7ADD2-DA1C-4831-ABA3-ED80BA2E1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E14B6-465B-4A17-804D-821E253F6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B96A5-69CF-462B-9EB6-DBFFDB9C8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2F46C-A857-4637-8230-562D7E3BE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F4FB5-4C22-4EE2-823E-BFB23A832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18B9-C383-4AA1-BC3F-3F00D1C67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4AEDC-792E-4709-996C-CA0708804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F871B-A817-4ED2-8CC9-F83D49848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D9EF6-97DC-4D01-9701-23B99B053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AB1DC-11C6-4BD6-A724-6959CA791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05AAA-53CE-4D1C-B7FB-7C1939756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58D4-F7C4-4A11-A290-FF1A96A8E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8FFA-3B71-472A-9E7F-0493DB610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75DA-DBDC-4FB6-986D-9C4807D5D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FADE-EE2B-4B8E-BDF2-56437BE16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8FF6-1966-493A-ACBE-FF7AC0ED1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3199-80CC-4C4C-9C1D-DC6581A5B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B114-E139-4884-B7E8-5EBEA4366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F0B0C-3BF5-4AA9-B043-2CFEFAF276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CA752-6EC8-4B32-AE49-11D3C0ADA1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slide" Target="slide10.xml"/><Relationship Id="rId9" Type="http://schemas.openxmlformats.org/officeDocument/2006/relationships/slide" Target="slide11.xml"/><Relationship Id="rId10" Type="http://schemas.openxmlformats.org/officeDocument/2006/relationships/slide" Target="slide12.xml"/><Relationship Id="rId11" Type="http://schemas.openxmlformats.org/officeDocument/2006/relationships/slide" Target="slide13.xml"/><Relationship Id="rId1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04920" y="3886200"/>
            <a:ext cx="2590560" cy="19080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7238880" y="152280"/>
            <a:ext cx="1746360" cy="25923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5181480" y="3733920"/>
            <a:ext cx="2718000" cy="21747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 txBox="1"/>
          <p:nvPr/>
        </p:nvSpPr>
        <p:spPr>
          <a:xfrm>
            <a:off x="1981080" y="533520"/>
            <a:ext cx="4419720" cy="21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Impact"/>
              </a:rPr>
              <a:t>Парки Лондон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Один из тех парков, где дикая природа осталась практически нетронутой. И едва ли не единственное место в Лондоне, где в природных водоемах можно купаться. Богатая флора и не менее богатая фауна (в парке обитает более 100 видов птиц). Здесь можно с рук кормить белок, весной и летом парк усыпан нарциссами. С холмов парка открывается очень красивый вид на Лондон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2438280" y="228600"/>
            <a:ext cx="4243680" cy="127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ХАМПСТЕД-ХИТ </a:t>
            </a:r>
            <a:endParaRPr b="0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5" name=""/>
          <p:cNvSpPr/>
          <p:nvPr/>
        </p:nvSpPr>
        <p:spPr>
          <a:xfrm>
            <a:off x="7238880" y="457200"/>
            <a:ext cx="914400" cy="685800"/>
          </a:xfrm>
          <a:prstGeom prst="star5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2743200"/>
            <a:ext cx="914400" cy="685800"/>
          </a:xfrm>
          <a:prstGeom prst="star5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543800" y="5257800"/>
            <a:ext cx="914400" cy="685800"/>
          </a:xfrm>
          <a:prstGeom prst="star5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2514600"/>
            <a:ext cx="914400" cy="685800"/>
          </a:xfrm>
          <a:prstGeom prst="star5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4191120"/>
            <a:ext cx="914400" cy="685800"/>
          </a:xfrm>
          <a:prstGeom prst="star5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286000" y="5867280"/>
            <a:ext cx="914400" cy="685800"/>
          </a:xfrm>
          <a:prstGeom prst="star5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800600" y="5791320"/>
            <a:ext cx="914400" cy="685800"/>
          </a:xfrm>
          <a:prstGeom prst="star5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80880" y="838080"/>
            <a:ext cx="914400" cy="685800"/>
          </a:xfrm>
          <a:prstGeom prst="star5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087 0.00602 C 0.06528 0.00209 0.05486 0.00162 0.07674 -0.00023 C 0.07674 -0.00023 0.08455 -0.00277 0.08507 -0.00347 C 0.08715 -0.00624 0.08976 -0.01295 0.08976 -0.01295 C 0.09132 -0.01966 0.09392 -0.02521 0.09566 -0.03169 C 0.09375 -0.04372 0.08576 -0.06014 0.07917 -0.06939 C 0.07743 -0.0761 0.07465 -0.08003 0.07083 -0.08489 C 0.06441 -0.10247 0.04583 -0.10825 0.03316 -0.11473 C 0.03038 -0.11612 0.02778 -0.1182 0.025 -0.11936 C 0.02118 -0.12098 0.01319 -0.1226 0.01319 -0.1226 C 0.00781 -0.12792 0.00434 -0.12861 -0.00208 -0.13046 C -0.01493 -0.13786 -0.0283 -0.14133 -0.04201 -0.14457 C -0.04965 -0.15221 -0.06076 -0.15197 -0.07031 -0.15406 C -0.07899 -0.15961 -0.08802 -0.16053 -0.0974 -0.16169 C -0.10903 -0.16562 -0.12066 -0.1677 -0.13264 -0.16955 C -0.14601 -0.17418 -0.16007 -0.17557 -0.17378 -0.17742 C -0.18611 -0.18158 -0.19757 -0.1839 -0.21024 -0.18528 C -0.22361 -0.19269 -0.23854 -0.19176 -0.2526 -0.19616 C -0.25851 -0.19801 -0.27031 -0.20101 -0.27031 -0.20101 C -0.27986 -0.20657 -0.29097 -0.21096 -0.30087 -0.21512 C -0.30816 -0.21813 -0.31406 -0.2179 -0.32083 -0.22299 C -0.34028 -0.23733 -0.35174 -0.25352 -0.36319 -0.27943 C -0.36597 -0.29377 -0.36389 -0.28822 -0.36788 -0.29655 C -0.3691 -0.30488 -0.36927 -0.30927 -0.37378 -0.31529 C -0.37604 -0.33518 -0.37743 -0.35507 -0.37969 -0.37497 C -0.37882 -0.44968 -0.38924 -0.47814 -0.36198 -0.52856 C -0.35764 -0.53643 -0.35608 -0.54267 -0.34913 -0.54591 C -0.34236 -0.55493 -0.3342 -0.55864 -0.32552 -0.56303 C -0.31528 -0.56835 -0.3059 -0.5739 -0.29497 -0.57552 C -0.24687 -0.57437 -0.23802 -0.57599 -0.20087 -0.56303 C -0.19375 -0.55679 -0.20174 -0.56303 -0.19149 -0.5584 C -0.18385 -0.55493 -0.17639 -0.55008 -0.1691 -0.54591 C -0.16146 -0.54152 -0.15295 -0.53712 -0.14566 -0.5318 C -0.14045 -0.52787 -0.1375 -0.5244 -0.13142 -0.52232 C -0.12135 -0.51445 -0.11024 -0.50497 -0.10208 -0.4941 C -0.09931 -0.48531 -0.09549 -0.47791 -0.09271 -0.46911 C -0.09097 -0.46356 -0.09149 -0.4631 -0.09028 -0.45639 C -0.08872 -0.44853 -0.08594 -0.44089 -0.08437 -0.43303 C -0.08142 -0.41753 -0.07795 -0.4018 -0.07257 -0.38746 C -0.06684 -0.37196 -0.05851 -0.35924 -0.05139 -0.34513 C -0.04931 -0.33587 -0.05191 -0.3449 -0.0467 -0.33587 C -0.0408 -0.3257 -0.0349 -0.31459 -0.02917 -0.30441 C -0.02691 -0.30048 -0.02587 -0.29539 -0.02326 -0.29192 C -0.01042 -0.27481 0.00156 -0.26116 0.01563 -0.24635 C 0.02049 -0.24126 0.02622 -0.23317 0.03212 -0.23085 C 0.0401 -0.21952 0.05243 -0.21189 0.06267 -0.20402 C 0.06962 -0.1987 0.07569 -0.19199 0.08264 -0.1869 C 0.09601 -0.17742 0.10938 -0.16909 0.12153 -0.15706 C 0.12483 -0.15035 0.12917 -0.15082 0.13438 -0.14619 C 0.14306 -0.13809 0.1526 -0.12722 0.16267 -0.1226 C 0.16753 -0.11357 0.17066 -0.10571 0.17448 -0.09599 C 0.17552 -0.07217 0.1816 -0.03608 0.17326 -0.01596 C 0.1691 -0.00601 0.16493 -0.00185 0.15799 0.0044 C 0.15503 0.00717 0.1474 0.00741 0.1474 0.00741 E">
                                      <p:cBhvr>
                                        <p:cTn id="44" dur="2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1.52672E-006 C -0.0059 -0.00833 -0.01406 -0.01365 -0.01996 -0.02198 C -0.02326 -0.02661 -0.02465 -0.031 -0.02934 -0.03308 C -0.03454 -0.03979 -0.04166 -0.04766 -0.04826 -0.05182 C -0.04861 -0.0539 -0.04826 -0.05645 -0.0493 -0.05807 C -0.05225 -0.06246 -0.05729 -0.06431 -0.05989 -0.06917 C -0.06371 -0.07634 -0.06927 -0.08259 -0.07517 -0.08629 C -0.07829 -0.09253 -0.08125 -0.09785 -0.08576 -0.10202 C -0.08697 -0.10456 -0.08784 -0.1078 -0.0894 -0.10988 C -0.09131 -0.11243 -0.09635 -0.11613 -0.09635 -0.11613 C -0.10347 -0.13463 -0.11805 -0.14712 -0.12465 -0.16632 C -0.12638 -0.17141 -0.1269 -0.17743 -0.12934 -0.18205 C -0.13281 -0.18853 -0.13593 -0.19408 -0.13767 -0.20241 C -0.14097 -0.2186 -0.14444 -0.23549 -0.1493 -0.25099 C -0.1526 -0.27666 -0.15434 -0.3035 -0.16111 -0.32779 C -0.1684 -0.38284 -0.17135 -0.4372 -0.13871 -0.47352 C -0.13211 -0.48092 -0.12482 -0.48879 -0.11649 -0.49226 C -0.10972 -0.49804 -0.09878 -0.50822 -0.09062 -0.51122 C -0.08454 -0.51354 -0.0776 -0.51585 -0.0717 -0.51909 C -0.06614 -0.52233 -0.05972 -0.52811 -0.05399 -0.52996 C -0.04722 -0.53204 -0.03993 -0.53181 -0.03298 -0.53297 C 0.00382 -0.53135 0.0408 -0.53042 0.07761 -0.52834 C 0.10157 -0.52695 0.12553 -0.51955 0.14948 -0.51585 C 0.16181 -0.51169 0.17448 -0.50984 0.18698 -0.50798 C 0.19879 -0.50359 0.21042 -0.50452 0.22223 -0.50174 C 0.22518 -0.50012 0.22778 -0.49827 0.23056 -0.49711 C 0.23438 -0.49549 0.24237 -0.49387 0.24237 -0.49387 C 0.24705 -0.49087 0.25174 -0.4904 0.25643 -0.48763 C 0.2658 -0.48208 0.275 -0.47722 0.28455 -0.4719 C 0.29341 -0.46704 0.30105 -0.46033 0.3106 -0.45779 C 0.31441 -0.45524 0.31841 -0.45247 0.3224 -0.44992 C 0.32483 -0.4483 0.32622 -0.4446 0.3283 -0.44206 C 0.32969 -0.44044 0.33125 -0.43859 0.33299 -0.43743 C 0.33681 -0.43489 0.3415 -0.43466 0.3448 -0.43119 C 0.35157 -0.42402 0.35903 -0.41661 0.36702 -0.41245 C 0.37257 -0.40644 0.37761 -0.40366 0.38351 -0.39834 C 0.39341 -0.38955 0.40226 -0.37289 0.41303 -0.36688 C 0.41806 -0.36017 0.42136 -0.35207 0.42587 -0.3449 C 0.43594 -0.32894 0.44653 -0.31275 0.45764 -0.29795 C 0.45851 -0.2954 0.45886 -0.29239 0.46007 -0.29008 C 0.46198 -0.28615 0.46528 -0.28337 0.46702 -0.27921 C 0.47483 -0.26047 0.47882 -0.23873 0.48594 -0.21953 C 0.48698 -0.20519 0.48907 -0.1957 0.49185 -0.18205 C 0.49254 -0.17835 0.4941 -0.17095 0.4941 -0.17095 C 0.49341 -0.15314 0.49289 -0.13556 0.49185 -0.11775 C 0.4908 -0.09993 0.48125 -0.08328 0.47414 -0.06917 C 0.47084 -0.06269 0.47101 -0.05668 0.46598 -0.05182 C 0.4566 -0.02776 0.43369 -0.02776 0.4165 -0.02684 C 0.39549 -0.0273 0.375 -0.0273 0.35417 -0.02823 C 0.34966 -0.02846 0.3441 -0.03285 0.34011 -0.0347 C 0.32935 -0.03933 0.31719 -0.04511 0.30591 -0.04719 C 0.28646 -0.05575 0.26685 -0.06246 0.24705 -0.06917 C 0.2323 -0.07403 0.21962 -0.08259 0.20469 -0.08629 C 0.1908 -0.09577 0.17605 -0.10063 0.16129 -0.10664 C 0.15278 -0.11358 0.1441 -0.11289 0.13421 -0.11451 C 0.0816 -0.11058 0.10348 -0.11867 0.07761 -0.09739 C 0.07448 -0.09045 0.07257 -0.08652 0.07066 -0.07842 C 0.07032 -0.0768 0.06945 -0.0738 0.06945 -0.0738 C 0.06789 -0.05275 0.06528 -0.02938 0.07535 -0.01111 C 0.07709 -0.00417 0.07882 0.00439 0.08125 0.01087 C 0.08247 0.01434 0.08438 0.01711 0.08594 0.02035 C 0.08664 0.02197 0.0882 0.02498 0.0882 0.02498 C 0.08994 0.03423 0.09254 0.04163 0.09775 0.04857 E">
                                      <p:cBhvr>
                                        <p:cTn id="46" dur="2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2.09345E-006 C -0.00677 -0.01943 -0.00295 -0.00578 -0.00104 -0.0502 C -0.00035 -0.06755 0.00469 -0.08952 0.01528 -0.10039 C 0.02344 -0.10872 0.03281 -0.11589 0.04011 -0.12561 C 0.04757 -0.13555 0.05556 -0.14851 0.06597 -0.15221 C 0.07118 -0.15915 0.07726 -0.15845 0.08368 -0.16308 C 0.09583 -0.17187 0.08507 -0.16817 0.09774 -0.17095 C 0.10191 -0.17511 0.10451 -0.17997 0.10955 -0.18182 C 0.1191 -0.18991 0.12899 -0.19153 0.14011 -0.19454 C 0.14479 -0.20079 0.15087 -0.20264 0.1566 -0.20703 C 0.16684 -0.2149 0.17917 -0.22184 0.19063 -0.22577 C 0.20365 -0.23919 0.18542 -0.22161 0.20243 -0.23363 C 0.20886 -0.23803 0.20955 -0.24404 0.21649 -0.24613 C 0.22101 -0.25214 0.22396 -0.25306 0.22951 -0.25723 C 0.23872 -0.26394 0.2474 -0.27273 0.2566 -0.2792 C 0.26094 -0.28707 0.26649 -0.28984 0.27188 -0.29632 C 0.28264 -0.30904 0.29254 -0.322 0.30243 -0.33565 C 0.30486 -0.3449 0.30174 -0.33588 0.30833 -0.3449 C 0.31076 -0.34814 0.31215 -0.35253 0.31424 -0.356 C 0.31632 -0.36549 0.31962 -0.37451 0.32118 -0.38422 C 0.32049 -0.40458 0.32031 -0.42494 0.31892 -0.44529 C 0.31858 -0.45108 0.3125 -0.45547 0.30955 -0.45778 C 0.29826 -0.46657 0.28906 -0.4756 0.27656 -0.48138 C 0.2724 -0.48693 0.26736 -0.48809 0.2625 -0.49225 C 0.22205 -0.4904 0.23785 -0.4941 0.21528 -0.48762 C 0.2059 -0.48508 0.21094 -0.48624 0.19774 -0.483 C 0.19531 -0.4823 0.19063 -0.47976 0.19063 -0.47976 C 0.18438 -0.47143 0.17865 -0.47051 0.17066 -0.46727 C 0.16354 -0.46426 0.15642 -0.46102 0.14948 -0.45778 C 0.14479 -0.4557 0.14011 -0.45501 0.13542 -0.45316 C 0.13299 -0.45223 0.1283 -0.44992 0.1283 -0.44992 C 0.12413 -0.44437 0.1191 -0.44043 0.11424 -0.43581 C 0.1132 -0.43488 0.11181 -0.43488 0.11059 -0.43419 C 0.10729 -0.43188 0.10382 -0.43003 0.10122 -0.42656 C 0.09636 -0.41962 0.09184 -0.41753 0.08594 -0.41244 C 0.07708 -0.40481 0.07604 -0.40065 0.06597 -0.39833 C 0.06563 -0.39672 0.0658 -0.39463 0.06476 -0.39348 C 0.06354 -0.39209 0.06146 -0.39301 0.06007 -0.39209 C 0.05642 -0.39001 0.05295 -0.38677 0.04948 -0.38422 C 0.03906 -0.37636 0.02778 -0.36942 0.01649 -0.36387 C 0.01181 -0.36155 0.00833 -0.35785 0.00365 -0.356 C -0.00243 -0.35068 -0.01059 -0.34814 -0.01753 -0.3449 C -0.02535 -0.33495 -0.01597 -0.34513 -0.02812 -0.33865 C -0.02986 -0.33773 -0.03108 -0.33518 -0.03281 -0.33403 C -0.03733 -0.33102 -0.04236 -0.32917 -0.04705 -0.32616 C -0.05 -0.32408 -0.05191 -0.31969 -0.05521 -0.3183 C -0.06476 -0.3139 -0.07066 -0.30257 -0.0776 -0.29331 C -0.08003 -0.28337 -0.0842 -0.27411 -0.08576 -0.26347 C -0.08663 -0.25815 -0.08819 -0.24774 -0.08819 -0.24774 C -0.08785 -0.23849 -0.09427 -0.1876 -0.08108 -0.17095 C -0.07691 -0.15383 -0.07135 -0.13856 -0.05972 -0.12861 C -0.05052 -0.12052 -0.06146 -0.1263 -0.05278 -0.12237 C -0.04757 -0.11543 -0.04201 -0.10803 -0.03524 -0.10363 C -0.03177 -0.09901 -0.02743 -0.09507 -0.02465 -0.08952 C -0.02153 -0.08304 -0.0191 -0.07587 -0.01528 -0.07055 C -0.01406 -0.06431 -0.0125 -0.06061 -0.01059 -0.05505 C -0.00955 -0.05205 -0.00816 -0.04557 -0.00816 -0.04557 C -0.00538 -0.05644 -0.01337 -0.05991 -0.01632 -0.06916 C -0.01962 -0.08004 -0.01962 -0.08142 -0.02118 -0.09091 C -0.02239 -0.1573 -0.02101 -0.226 -0.02934 -0.2917 C -0.02778 -0.30534 -0.0276 -0.31922 -0.02465 -0.33241 C -0.0243 -0.33426 -0.02239 -0.33009 -0.02118 -0.32917 C -0.01996 -0.32801 -0.01875 -0.32732 -0.01753 -0.32616 C -0.01215 -0.3213 -0.00851 -0.31575 -0.00469 -0.30881 C 0.00295 -0.27967 -0.00451 -0.20402 -0.00469 -0.19917 C -0.00503 -0.19015 -0.00694 -0.17257 -0.00694 -0.17257 C -0.00642 -0.14111 -0.01059 -0.10756 -8.33333E-007 -0.07842 C 0.00243 -0.05945 -0.00312 -0.02822 0.01771 -0.02822 E">
                                      <p:cBhvr>
                                        <p:cTn id="48" dur="2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22 0.06269 C -0.00312 0.06315 -0.00539 0.06292 -0.00713 0.06407 C -0.00869 0.065 -0.00904 0.06847 -0.0106 0.06893 C -0.0198 0.07171 -0.02952 0.07055 -0.0389 0.07194 C -0.04827 0.07633 -0.05591 0.08258 -0.06598 0.08466 C -0.08265 0.09137 -0.0724 0.08929 -0.10365 0.09091 C -0.12362 0.09692 -0.13977 0.09762 -0.16129 0.09854 C -0.22292 0.09808 -0.28438 0.09854 -0.34602 0.09715 C -0.36199 0.09669 -0.38039 0.09044 -0.39654 0.08929 C -0.40209 0.08397 -0.40765 0.08489 -0.41424 0.08304 C -0.42136 0.08119 -0.42709 0.07703 -0.43421 0.07518 C -0.4448 0.06685 -0.45695 0.06616 -0.46841 0.06107 C -0.47362 0.05621 -0.47987 0.05205 -0.48595 0.04996 C -0.49411 0.03932 -0.49029 0.04326 -0.49654 0.03747 C -0.49636 0.03655 -0.49515 0.02244 -0.49428 0.02174 C -0.49185 0.01966 -0.48595 0.01874 -0.48595 0.01874 C -0.47796 0.00809 -0.48751 0.0192 -0.47779 0.01249 C -0.46581 0.00416 -0.479 0.00994 -0.46945 0.00624 C -0.46424 0.00139 -0.45869 0.00162 -0.45296 -0.00162 C -0.4422 -0.00787 -0.43074 -0.01226 -0.41893 -0.01411 C -0.27466 -0.01365 -0.13022 -0.01365 0.01406 -0.01272 C 0.02674 -0.01272 0.01615 -0.00787 0.01285 -0.00648 C 0.00886 -0.00278 0.00486 -2.44969E-006 -5E-006 -2.44969E-006 E">
                                      <p:cBhvr>
                                        <p:cTn id="50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6059 -0.5975 C -0.75503 -0.59264 -0.75243 -0.59264 -0.74531 -0.59126 C -0.73785 -0.59172 -0.73038 -0.59149 -0.72292 -0.59264 C -0.7184 -0.59334 -0.71441 -0.60028 -0.71111 -0.60375 C -0.70365 -0.61184 -0.69792 -0.6204 -0.6934 -0.63197 C -0.69236 -0.63845 -0.69097 -0.64307 -0.68872 -0.64909 C -0.68906 -0.6669 -0.68854 -0.68471 -0.68993 -0.70252 C -0.69028 -0.70645 -0.69375 -0.70877 -0.69583 -0.71177 C -0.7026 -0.72172 -0.70851 -0.73097 -0.71823 -0.73537 C -0.725 -0.74161 -0.73125 -0.7467 -0.73941 -0.74948 C -0.75035 -0.74902 -0.76128 -0.74925 -0.77222 -0.74786 C -0.7783 -0.74717 -0.78194 -0.73976 -0.78646 -0.73537 C -0.79427 -0.72797 -0.80174 -0.71848 -0.8099 -0.71177 C -0.82083 -0.70298 -0.82969 -0.6972 -0.83698 -0.68355 C -0.83785 -0.67916 -0.84028 -0.67546 -0.84045 -0.67106 C -0.84167 -0.64492 -0.83628 -0.6477 -0.82049 -0.6477 E">
                                      <p:cBhvr>
                                        <p:cTn id="52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587 0.03308 C 0.03247 0.03562 0.03889 0.034 0.04462 0.03932 C 0.0415 0.06245 0.01823 0.04811 0.00591 0.04233 C -0.02465 0.04279 -0.05538 0.04117 -0.08593 0.04395 C -0.08767 0.04418 -0.08472 0.04858 -0.0835 0.05019 C -0.08159 0.05274 -0.07899 0.05482 -0.07656 0.05644 C -0.06823 0.06199 -0.06475 0.06199 -0.05416 0.06431 C -0.03593 0.0724 -0.00225 0.06986 0.01528 0.07055 C 0.02709 0.0761 0.04254 0.07448 0.05521 0.0768 C 0.06459 0.07842 0.08351 0.08165 0.08351 0.08165 C 0.08472 0.08212 0.0882 0.08327 0.08698 0.08327 C 0.03924 0.08327 -0.00868 0.08327 -0.05642 0.08165 C -0.0585 0.08165 -0.05243 0.07957 -0.05052 0.07842 C -0.0276 0.065 -0.06093 0.08466 -0.04236 0.07217 C -0.03125 0.06477 -0.02135 0.05806 -0.01406 0.04395 C -0.01232 0.03632 -0.00781 0.02614 -0.00347 0.02059 C -0.00191 0.01041 -2.5E-006 0.01156 -2.5E-006 1.87833E-006 E">
                                      <p:cBhvr>
                                        <p:cTn id="54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91 0.05667 C 0.00278 0.09322 0.00295 0.12977 0.00434 0.16632 C 0.00452 0.17025 0.0066 0.17742 0.0066 0.17742 C 0.00764 0.19523 0.00799 0.21281 0.00903 0.23062 C 0.00973 0.2408 0.01285 0.25167 0.01372 0.26208 C 0.01476 0.14943 0.01355 0.17349 0.01615 0.10525 C 0.01962 0.01619 0.01302 0.04626 0.02188 0.00971 C 0.02257 -0.00949 0.02379 -0.02383 0.02552 -0.0421 C 0.02518 -0.04997 0.02431 -0.0657 0.02431 -0.0657 E">
                                      <p:cBhvr>
                                        <p:cTn id="56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eec94"/>
                </a:solidFill>
                <a:latin typeface="Times New Roman"/>
              </a:rPr>
              <a:t>Риджент парк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56386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огда-то часть большого лесного угодья, приобретенного королем Генрихом VIII. В 1838 году парк был преобразован по проекту Нэша. Уже позднее сюда был включен зоологический сад. Важной частью замысла было сочетание парка и окружающих его домов для лондонской аристократии. Перед их окнами раскрываются пейзажи, позволяющие забыть о городском окружении. Контраст строгих фасадов и живописности парка - типичная особенность английских ансамблей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6477120" y="152388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5715000" y="411480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685800" y="228600"/>
            <a:ext cx="1981080" cy="1447920"/>
          </a:xfrm>
          <a:prstGeom prst="sun">
            <a:avLst>
              <a:gd name="adj" fmla="val 250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4114800" y="1600200"/>
            <a:ext cx="5029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Близ западной границы Лондонского графства, на северном берегу Темзы находится парк Чизвик - один из первых ландшафтных парков Европы и, пожалуй, наиболее живописный парк Лондона, с его романтичными павильонами, декоративной скульптурой, мостиком через миниатюрное озеро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523880" y="457200"/>
            <a:ext cx="48769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latin typeface="Impact"/>
              </a:rPr>
              <a:t>Чизви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9966"/>
              </a:solidFill>
              <a:latin typeface="Impact"/>
              <a:ea typeface="Impact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990720" y="1752480"/>
            <a:ext cx="335268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-228600"/>
            <a:ext cx="8229600" cy="16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Баттерси-Парк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-305280" y="838080"/>
            <a:ext cx="449604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а южном побережье реки Темза, напротив района Челси, раскинулся парк Баттерси, привлекательное место, в котором красуется замечательная японская погода. В парке Баттерси находится зоопарк для детей. Летом здесь проходит множество городских мероприятий, включая гонки, сбор от которых поступает в фонды милосердия, любители кино найдут здесь открытый кинотеатр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6095880" y="1295280"/>
            <a:ext cx="2438640" cy="160992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324480" y="3429000"/>
            <a:ext cx="2286000" cy="304812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4038480" y="3733920"/>
            <a:ext cx="2133720" cy="198108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4"/>
          <a:stretch/>
        </p:blipFill>
        <p:spPr>
          <a:xfrm>
            <a:off x="4038480" y="1219320"/>
            <a:ext cx="1943280" cy="23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д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Содержание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cc"/>
                </a:solidFill>
                <a:uFillTx/>
                <a:latin typeface="Times New Roman"/>
                <a:hlinkClick r:id="rId1" action="ppaction://hlinksldjump"/>
              </a:rPr>
              <a:t>Парки Лондон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cc"/>
                </a:solidFill>
                <a:uFillTx/>
                <a:latin typeface="Times New Roman"/>
                <a:hlinkClick r:id="rId2" action="ppaction://hlinksldjump"/>
              </a:rPr>
              <a:t>Гайд-пар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cc"/>
                </a:solidFill>
                <a:uFillTx/>
                <a:latin typeface="Times New Roman"/>
                <a:hlinkClick r:id="rId3" action="ppaction://hlinksldjump"/>
              </a:rPr>
              <a:t>Сент-Джеймский пар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cc"/>
                </a:solidFill>
                <a:uFillTx/>
                <a:latin typeface="Times New Roman"/>
                <a:hlinkClick r:id="rId4" action="ppaction://hlinksldjump"/>
              </a:rPr>
              <a:t>Королевские ботанические сады Кью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cc"/>
                </a:solidFill>
                <a:uFillTx/>
                <a:latin typeface="Times New Roman"/>
                <a:hlinkClick r:id="rId5" action="ppaction://hlinksldjump"/>
              </a:rPr>
              <a:t>Оранжерея принцессы Уэльской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cc"/>
                </a:solidFill>
                <a:uFillTx/>
                <a:latin typeface="Times New Roman"/>
                <a:hlinkClick r:id="rId6" action="ppaction://hlinksldjump"/>
              </a:rPr>
              <a:t>Аллея рододендрон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ffffcc"/>
                </a:solidFill>
                <a:uFillTx/>
                <a:latin typeface="Times New Roman"/>
                <a:hlinkClick r:id="rId7" action="ppaction://hlinksldjump"/>
              </a:rPr>
              <a:t>Холланд-парк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cc"/>
                </a:solidFill>
                <a:uFillTx/>
                <a:latin typeface="Times New Roman"/>
                <a:hlinkClick r:id="rId8" action="ppaction://hlinksldjump"/>
              </a:rPr>
              <a:t>Хамстед-хи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cc"/>
                </a:solidFill>
                <a:uFillTx/>
                <a:latin typeface="Times New Roman"/>
                <a:hlinkClick r:id="rId9" action="ppaction://hlinksldjump"/>
              </a:rPr>
              <a:t>Риджент пар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cc"/>
                </a:solidFill>
                <a:uFillTx/>
                <a:latin typeface="Times New Roman"/>
                <a:hlinkClick r:id="rId10" action="ppaction://hlinksldjump"/>
              </a:rPr>
              <a:t>Чизви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cc"/>
                </a:solidFill>
                <a:uFillTx/>
                <a:latin typeface="Times New Roman"/>
                <a:hlinkClick r:id="rId11" action="ppaction://hlinksldjump"/>
              </a:rPr>
              <a:t>Баттерс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cc"/>
                </a:solidFill>
                <a:uFillTx/>
                <a:latin typeface="Times New Roman"/>
                <a:hlinkClick r:id="rId1" action="ppaction://hlinksldjump"/>
              </a:rPr>
              <a:t>Парки Лондон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50292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 Лондоне немыслимое количество зелени: от небольших до обширных парков, таких как Гайд-парк, переходящий в Кенсингтонские сады. В этих парках белки, лебеди, черные гуси и множество других птиц чувствуют себя хозяевами положения: они ходят где вздумается, мало реагируют на вас, если только вы не собираетесь их кормить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" descr="Белка в Кью"/>
          <p:cNvPicPr/>
          <p:nvPr/>
        </p:nvPicPr>
        <p:blipFill>
          <a:blip r:embed="rId2"/>
          <a:stretch/>
        </p:blipFill>
        <p:spPr>
          <a:xfrm>
            <a:off x="5562720" y="1600200"/>
            <a:ext cx="2895480" cy="21718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Гуси в Кью"/>
          <p:cNvPicPr/>
          <p:nvPr/>
        </p:nvPicPr>
        <p:blipFill>
          <a:blip r:embed="rId3"/>
          <a:stretch/>
        </p:blipFill>
        <p:spPr>
          <a:xfrm>
            <a:off x="5562720" y="4343400"/>
            <a:ext cx="2771640" cy="20797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4876920" y="396252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05 0.07749 C 0.00191 0.0886 0.00763 0.09114 0.01545 0.09461 C 0.02448 0.09415 0.0335 0.09438 0.04253 0.09299 C 0.04427 0.09276 0.04566 0.09091 0.04722 0.08999 C 0.06128 0.08189 0.06632 0.06639 0.06944 0.04765 C 0.07239 -2.32014999999863E-006 0.07118 0.02152 0.07309 -0.01665 C 0.07291 -0.02151 0.0776 -0.07587 0.06475 -0.08721 C 0.06319 -0.09415 0.05868 -0.10062 0.05416 -0.10455 C 0.05243 -0.11242 0.05451 -0.10664 0.04948 -0.11219 C 0.04236 -0.12005 0.03402 -0.13046 0.02482 -0.13416 C 0.02048 -0.13833 0.01562 -0.13972 0.01076 -0.14203 C -0.000699999999999999 -0.14157 -0.01198 -0.14133 -0.02344 -0.14041 C -0.02726 -0.14018 -0.03143 -0.13694 -0.03525 -0.13578 C -0.0408 -0.13416 -0.04601 -0.1337 -0.05174 -0.13278 C -0.06737 -0.13324 -0.08316 -0.13162 -0.09879 -0.13416 C -0.10209 -0.13463 -0.10417 -0.13948 -0.10695 -0.14203 C -0.11077 -0.14573 -0.11407 -0.14642 -0.11875 -0.14827 C -0.12032 -0.15059 -0.12362 -0.15475 -0.12466 -0.15776 C -0.12778 -0.16747 -0.12275 -0.16146 -0.12934 -0.16724 C -0.1316 -0.17557 -0.13247 -0.18598 -0.13525 -0.19384 C -0.13664 -0.19755 -0.13855 -0.20102 -0.13993 -0.20472 C -0.14184 -0.22392 -0.14271 -0.22692 -0.14115 -0.25029 C -0.14063 -0.25885 -0.13612 -0.26463 -0.13403 -0.27226 C -0.12969 -0.28776 -0.12171 -0.3028 -0.11285 -0.31459 C -0.11146 -0.31991 -0.09844 -0.34027 -0.09289 -0.34282 C -0.08855 -0.34837 -0.08073 -0.35739 -0.07518 -0.35993 C -0.06684 -0.37104 -0.07101 -0.36757 -0.06337 -0.37242 C -0.05886 -0.37867 -0.05348 -0.3833 -0.04809 -0.38815 C -0.04532 -0.3907 -0.03993 -0.39602 -0.03993 -0.39602 C -0.03629 -0.40296 -0.02709 -0.41059 -0.02101 -0.41337 C -0.01059 -0.42725 -0.02362 -0.41129 -0.01407 -0.41961 C -0.00973 -0.42331 -0.0073 -0.42817 -0.00226 -0.43049 C 0.00277 -0.4402 0.0118 -0.44483 0.02013 -0.44783 C 0.02204 -0.44945 0.02395 -0.45107 0.02604 -0.45246 C 0.0276 -0.45362 0.02916 -0.45431 0.03073 -0.45547 C 0.03333 -0.45755 0.03507 -0.46125 0.03767 -0.46333 C 0.03993 -0.46495 0.04479 -0.46657 0.04479 -0.46657 C 0.05295 -0.46611 0.06128 -0.4668 0.06944 -0.46495 C 0.07118 -0.46449 0.0717 -0.46148 0.07309 -0.46033 C 0.07552 -0.45848 0.08368 -0.45385 0.08715 -0.45246 C 0.09722 -0.44807 0.10989 -0.44737 0.12013 -0.44622 C 0.15104 -0.43187 0.21996 -0.43858 0.22829 -0.43835 C 0.23038 -0.43789 0.23628 -0.43696 0.23888 -0.43511 C 0.24288 -0.43211 0.24375 -0.42887 0.24826 -0.42748 C 0.25138 -0.42655 0.25468 -0.42632 0.25781 -0.42586 C 0.26215 -0.42378 0.2651 -0.41776 0.26944 -0.41638 C 0.27552 -0.41429 0.27274 -0.41545 0.27777 -0.41337 C 0.28125 -0.40851 0.28489 -0.4055 0.28836 -0.40065 C 0.29045 -0.39232 0.2927 -0.38422 0.29427 -0.37566 C 0.29305 -0.35508 0.29427 -0.32338 0.28489 -0.30349 C 0.2842 -0.28684 0.28593 -0.26995 0.28003 -0.25491 C 0.28038 -0.25121 0.28003 -0.24728 0.28125 -0.24404 C 0.28836 -0.22507 0.32673 -0.22854 0.33194 -0.22831 C 0.33941 -0.22623 0.34739 -0.22345 0.35416 -0.21883 C 0.35763 -0.21235 0.3625 -0.20957 0.36718 -0.20472 C 0.36979 -0.20194 0.37152 -0.19801 0.3743 -0.19546 C 0.37552 -0.19431 0.37656 -0.19338 0.37777 -0.19223 C 0.38211 -0.1839 0.38645 -0.17118 0.39184 -0.164 C 0.39375 -0.15637 0.3967 -0.14943 0.39895 -0.14203 C 0.40017 -0.13786 0.40243 -0.12954 0.40243 -0.12954 C 0.40347 -0.11843 0.40434 -0.10548 0.40711 -0.09507 C 0.40746 -0.08512 0.4085 -0.07518 0.40833 -0.06523 C 0.40816 -0.0569 0.40711 -0.04858 0.4059 -0.04025 C 0.40503 -0.03446 0.40277 -0.03331 0.40017 -0.02914 C 0.38888 -0.0111 0.37013 -0.01318 0.35416 -0.01203 C 0.33767 -0.01249 0.32135 -0.01226 0.30486 -0.01365 C 0.29618 -0.01434 0.28732 -0.02313 0.27899 -0.02614 C 0.27777 -0.02706 0.27673 -0.02845 0.27534 -0.02914 C 0.27309 -0.03053 0.2684 -0.03238 0.2684 -0.03238 C 0.26145 -0.04117 0.25607 -0.04187 0.24722 -0.04487 C 0.24531 -0.04441 0.2427 -0.04511 0.24132 -0.04325 C 0.23993 -0.0414 0.24045 -0.03793 0.2401 -0.03539 C 0.23888 -0.02683 0.2375 -0.01873 0.23541 -0.01041 C 0.23663 0.03447 0.23663 0.01897 0.23663 0.03655 E">
                                      <p:cBhvr>
                                        <p:cTn id="6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cc"/>
                </a:solidFill>
                <a:uFillTx/>
                <a:latin typeface="Times New Roman"/>
                <a:hlinkClick r:id="rId1" action="ppaction://hlinksldjump"/>
              </a:rPr>
              <a:t>Гайд-парк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Гайд-парк, деревья и обширные газоны, по которым ходят стаи гусей. В Гайд-парке , приятно гулять. Здесь много деревьев, и весной сады особенно живописны: розовые каштаны, глицинии, цветы… Заворачивающая сюда из Гайд-парка часть пруда Serpentine заканчивается фонтанами. А чуть далее по правому берегу- памятник Питеру Пэну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848720" y="304920"/>
            <a:ext cx="718920" cy="7189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Кенсингтонский дворец"/>
          <p:cNvPicPr/>
          <p:nvPr/>
        </p:nvPicPr>
        <p:blipFill>
          <a:blip r:embed="rId3"/>
          <a:stretch/>
        </p:blipFill>
        <p:spPr>
          <a:xfrm>
            <a:off x="5651640" y="3809880"/>
            <a:ext cx="2577960" cy="19814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Serpentine Кенсингтонские сады"/>
          <p:cNvPicPr/>
          <p:nvPr/>
        </p:nvPicPr>
        <p:blipFill>
          <a:blip r:embed="rId4"/>
          <a:stretch/>
        </p:blipFill>
        <p:spPr>
          <a:xfrm>
            <a:off x="5638680" y="1523880"/>
            <a:ext cx="2438640" cy="18208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5"/>
          <a:stretch/>
        </p:blipFill>
        <p:spPr>
          <a:xfrm>
            <a:off x="228600" y="0"/>
            <a:ext cx="228600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eec94"/>
                </a:solidFill>
                <a:latin typeface="Times New Roman"/>
              </a:rPr>
              <a:t>Сент-Джеймский парк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6629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Сент-Джеймский парк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старейший из королевских парков в центре Лондона. Своей прекрасной современной планировкой парк обязан Джону Нашу, переделавшему его в 1828 году. Особо очаровательный вид открывается через плакучие ивы на берегу пруда. Напротив раскинулся Зеленый парк, в прошлом излюбленное место дуэлянтов и разбойников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7010280" y="1371600"/>
            <a:ext cx="1905120" cy="50911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0" y="228600"/>
            <a:ext cx="1752480" cy="1371600"/>
          </a:xfrm>
          <a:prstGeom prst="sun">
            <a:avLst>
              <a:gd name="adj" fmla="val 25000"/>
            </a:avLst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Королевские ботанические сады Кью</a:t>
            </a: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4038480" cy="53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овершенно потрясающее место, на которое не жаль потратить целый день.В садах три большие оранжереи, открытые для свободного посещения: теплица умеренного климата, Пальмовая оранжерея, Оранжерея принцессы Уэльской.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532240" y="31078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" descr="Орхидеи в Оранжерее принцессы Уэльской"/>
          <p:cNvPicPr/>
          <p:nvPr/>
        </p:nvPicPr>
        <p:blipFill>
          <a:blip r:embed="rId1"/>
          <a:stretch/>
        </p:blipFill>
        <p:spPr>
          <a:xfrm>
            <a:off x="5867280" y="1828800"/>
            <a:ext cx="1752840" cy="11430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5105520" y="3505320"/>
            <a:ext cx="3663720" cy="23130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3962520" y="3429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962520" y="54100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955 0.0081 C 0.07049 0.00301 0.07465 -0.01156 0.08073 -0.02313 C 0.08316 -0.04511 0.08108 -0.06986 0.08542 -0.09091 C 0.08663 -0.09646 0.08889 -0.10779 0.08889 -0.10756 C 0.08976 -0.11728 0.09028 -0.12561 0.09254 -0.13463 C 0.09445 -0.15082 0.0967 -0.16609 0.1007 -0.18159 C 0.10226 -0.21767 0.10243 -0.25353 0.10417 -0.28961 C 0.10469 -0.29979 0.10434 -0.3183 0.11007 -0.32732 C 0.11285 -0.33171 0.12188 -0.33518 0.12188 -0.33495 C 0.17639 -0.33403 0.2309 -0.3331 0.28542 -0.33056 C 0.30781 -0.32963 0.35243 -0.32732 0.35243 -0.32709 C 0.3783 -0.32292 0.39722 -0.322 0.42656 -0.32107 C 0.4507 -0.31552 0.47535 -0.31367 0.49948 -0.30696 C 0.50104 -0.30118 0.504 -0.29956 0.5066 -0.29447 C 0.50781 -0.28429 0.50938 -0.27781 0.51372 -0.26926 C 0.51684 -0.25538 0.51736 -0.25561 0.5184 -0.23641 C 0.51945 -0.15336 0.51875 -0.07055 0.52188 0.01272 C 0.52222 0.04511 0.52292 0.07773 0.52309 0.11011 C 0.52379 0.19963 0.48021 0.31761 0.529 0.37937 C 0.5316 0.39117 0.53542 0.40111 0.53837 0.41222 C 0.53802 0.41499 0.53837 0.418 0.53715 0.42008 C 0.53368 0.42656 0.50209 0.42656 0.50191 0.42656 C 0.44566 0.4254 0.44584 0.42702 0.41129 0.4217 C 0.404 0.4173 0.39688 0.41684 0.38889 0.41545 C 0.37813 0.41175 0.36945 0.4099 0.35834 0.40782 C 0.35191 0.40643 0.34861 0.40435 0.34184 0.40134 C 0.33698 0.39926 0.3316 0.40042 0.32656 0.39972 C 0.29965 0.38746 0.3066 0.39348 0.25712 0.39186 C 0.254 0.39163 0.25087 0.39163 0.24775 0.39047 C 0.24601 0.39001 0.24479 0.3877 0.24306 0.38746 C 0.2349 0.38608 0.22656 0.38608 0.2184 0.38584 C 0.19653 0.38145 0.22934 0.3877 0.19011 0.38261 C 0.18594 0.38238 0.18247 0.37821 0.1783 0.37775 C 0.16927 0.37729 0.16025 0.37705 0.15122 0.37659 C 0.14809 0.3759 0.14479 0.3759 0.14184 0.37497 C 0.14045 0.37428 0.13976 0.37197 0.13837 0.3715 C 0.13334 0.36988 0.12309 0.3685 0.12309 0.36873 C 0.12188 0.36803 0.12066 0.3678 0.11945 0.36688 C 0.11823 0.36595 0.11719 0.36433 0.11597 0.36387 C 0.1132 0.36225 0.10104 0.36063 0.1007 0.36063 C 0.09219 0.35901 0.08403 0.35508 0.07604 0.35138 C 0.06632 0.34652 0.05903 0.33611 0.04896 0.33264 C 0.04323 0.32501 0.03611 0.32038 0.03004 0.31367 C 0.02136 0.30419 0.01459 0.29285 0.0066 0.28221 C 0.00382 0.2681 0.0059 0.27365 0.00191 0.2651 C -1.94444000000001E-006 0.25561 -0.00416 0.2489 -0.00642 0.23988 C -0.00607 0.2341 -0.00642 0.22832 -0.00521 0.22276 C -0.00416 0.21744 -0.00069 0.21791 0.00191 0.21629 C 0.00764 0.21259 0.01337 0.21143 0.01945 0.20865 C 0.03629 0.21073 0.05243 0.21351 0.06893 0.21791 C 0.06979 0.21629 0.07084 0.21513 0.07136 0.21351 C 0.07778 0.19385 0.0684 0.19917 0.08889 0.19917 E">
                                      <p:cBhvr>
                                        <p:cTn id="12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055 0.01041 C 0.0802 0.00879 0.07951 0.0074 0.07933 0.00578 C 0.07829 -0.00416 0.07881 -0.01434 0.07708 -0.02406 C 0.07517 -0.03493 0.05728 -0.04765 0.04999 -0.05228 C 0.03489 -0.07333 -0.0132 -0.06916 -0.02657 -0.06963 C -0.04029 -0.07148 -0.05296 -0.07425 -0.0665 -0.07587 C -0.07362 -0.07772 -0.08074 -0.0805 -0.08768 -0.08374 C -0.09254 -0.08836 -0.09966 -0.09206 -0.10539 -0.09461 C -0.11216 -0.10178 -0.1198 -0.10826 -0.12761 -0.11335 C -0.13143 -0.11844 -0.1316 -0.12214 -0.13594 -0.12607 C -0.13733 -0.13116 -0.14185 -0.14018 -0.14185 -0.14018 C -0.14098 -0.19385 -0.14914 -0.20125 -0.13594 -0.23109 C -0.1356 -0.23317 -0.13525 -0.23525 -0.13473 -0.23733 C -0.13404 -0.23942 -0.13282 -0.24127 -0.1323 -0.24358 C -0.12917 -0.25769 -0.12917 -0.27411 -0.12414 -0.28753 C -0.1165 -0.30742 -0.10504 -0.32639 -0.09237 -0.34073 C -0.08855 -0.34513 -0.08525 -0.35045 -0.08056 -0.35323 C -0.07344 -0.35739 -0.06563 -0.35924 -0.05834 -0.36271 C -0.05209 -0.36549 -0.04428 -0.37127 -0.0382 -0.37358 C -0.02535 -0.37867 -0.00678 -0.38168 0.00642 -0.38307 C 0.05746 -0.38191 0.1085 -0.37682 0.15937 -0.37682 E">
                                      <p:cBhvr>
                                        <p:cTn id="14" dur="20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Оранжерея принцессы Уэльской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оранжерее принцессы Уэльской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10 климатических зон, все находятся под компьютерным контролем: сухие тропики (кактусы, алоэ, мирты, агавы...), сезонная сухая зона (баобабы, растения Восточно-африканской пустыни), влажные тропики (мангровые, гиацинты, бегонии...), влажный высокогорный лес (эпифиты), папоротники, орхидеи (2 зоны - влажных лесов и горных регионов), аквариум (сквозь стекла внизу можно наблюдать за подводными растениями, рыбами и древесными лягушками), а также пальмовая зона, площадка с насекомоядными растениями и др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9" name="" descr="Оранжерея бонсаев"/>
          <p:cNvPicPr/>
          <p:nvPr/>
        </p:nvPicPr>
        <p:blipFill>
          <a:blip r:embed="rId1"/>
          <a:stretch/>
        </p:blipFill>
        <p:spPr>
          <a:xfrm>
            <a:off x="2057400" y="5486400"/>
            <a:ext cx="1447920" cy="10857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5791320" y="5410080"/>
            <a:ext cx="1371600" cy="11430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Пагода и Кедровая просека"/>
          <p:cNvPicPr/>
          <p:nvPr/>
        </p:nvPicPr>
        <p:blipFill>
          <a:blip r:embed="rId3"/>
          <a:stretch/>
        </p:blipFill>
        <p:spPr>
          <a:xfrm>
            <a:off x="7696080" y="3962520"/>
            <a:ext cx="123840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eec94"/>
                </a:solidFill>
                <a:latin typeface="Times New Roman"/>
              </a:rPr>
              <a:t>Аллея рододендронов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Аллея рододендронов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созданная знаменитым ландшафтным дизайнером Брауном в 1773г. Бамбуковый сад, сад азалий, магнолии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" descr="Азалии"/>
          <p:cNvPicPr/>
          <p:nvPr/>
        </p:nvPicPr>
        <p:blipFill>
          <a:blip r:embed="rId1"/>
          <a:stretch/>
        </p:blipFill>
        <p:spPr>
          <a:xfrm>
            <a:off x="228600" y="3276720"/>
            <a:ext cx="2286000" cy="304776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 flipH="1">
            <a:off x="5790600" y="3809880"/>
            <a:ext cx="2819160" cy="2667240"/>
          </a:xfrm>
          <a:prstGeom prst="cloudCallout">
            <a:avLst>
              <a:gd name="adj1" fmla="val 153375"/>
              <a:gd name="adj2" fmla="val -1137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80808"/>
                </a:solidFill>
                <a:latin typeface="Times New Roman"/>
              </a:rPr>
              <a:t>Можно увидеть тюльпановое дерево, эвкалипты. Ближе к воротам находится сиреневый сад.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895480" y="2971800"/>
            <a:ext cx="2971800" cy="1523880"/>
          </a:xfrm>
          <a:prstGeom prst="wedgeEllipseCallout">
            <a:avLst>
              <a:gd name="adj1" fmla="val -58921"/>
              <a:gd name="adj2" fmla="val 475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80808"/>
                </a:solidFill>
                <a:latin typeface="Times New Roman"/>
              </a:rPr>
              <a:t>Аллея разбита вокруг японского домика Minka House.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971800" y="5257800"/>
            <a:ext cx="2438280" cy="1600200"/>
          </a:xfrm>
          <a:prstGeom prst="wedgeRoundRectCallout">
            <a:avLst>
              <a:gd name="adj1" fmla="val -62111"/>
              <a:gd name="adj2" fmla="val -54263"/>
              <a:gd name="adj3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Рядом своеобразный музыкальный инструмент из бамбука, похожий на ксилофон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20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eec94"/>
                </a:solidFill>
                <a:latin typeface="Times New Roman"/>
              </a:rPr>
              <a:t>ХОЛЛАНД-ПАРК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4952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ебольшой парк, один из красивейших в Лондоне. Цветущий и зеленый Холланд-парк с его тихими аллеями считается самым романтичным парком Лондона. Для ценителей восточной культуры есть японский садик. Летом в парке часто играют спектакли на открытом воздухе. Бывшую оранжерею для апельсиновых деревьев молодые предприимчивые художники приспособили под выставочный зал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6324480" y="4495680"/>
            <a:ext cx="2505240" cy="16480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7086600" y="1905120"/>
            <a:ext cx="1778040" cy="14857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4"/>
          <a:stretch/>
        </p:blipFill>
        <p:spPr>
          <a:xfrm>
            <a:off x="4800600" y="1447920"/>
            <a:ext cx="1905120" cy="29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ame</cp:lastModifiedBy>
  <dcterms:modified xsi:type="dcterms:W3CDTF">2008-11-16T16:26:56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