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BCA5-E4C4-4294-99A3-5BCB896B1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9ED6-F75F-4E06-BBCC-CC0476AAD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C180-31E0-48DE-B857-9BECBCCA1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BF7A-7B15-4539-947E-3A69B997E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926CB-5EB3-4B22-88E8-E315DB6EB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A8032-870E-4587-87C5-FB9F81F44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D1B04-00A3-4BA0-8F0F-9287D1C73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1C3F9-3F38-403E-B4E4-1B79F677D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98937-AEDF-45EE-9632-A79796940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5C4DE-B474-4DF5-A2FD-FC52DF54E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B9B64-2937-49E6-8E73-3044E13C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9A00-B776-4C29-B7E3-73E662728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73B48-05FA-4466-95F9-84190C56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1F4FE-5ADB-4316-98FE-676FE2C3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6A4BE-998F-4E36-A5FF-C040AAD00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6533F-F7D5-4C39-9181-D8E956F3A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8CC94-8FBF-4563-B329-4F63050AC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0EB6-759C-43C8-BC86-FED42021A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DE1B-6E1F-42B2-9F67-8CFF2F31E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E044-6C88-4121-9701-5231537A4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CC01-A94B-430B-BF9B-4E74F9A25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6ABB-5362-4BAA-9B0C-AF32407B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24A7-5B1C-4667-A08B-2E7C9FB6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6816-DDBA-4F58-9F96-1869BC48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C998C-2DBE-4BD2-A1CE-4CAE8223480C}" type="datetime2">
              <a:rPr b="0" lang="en-US" sz="1400" spc="-1" strike="noStrike">
                <a:solidFill>
                  <a:srgbClr val="ffffff"/>
                </a:solidFill>
                <a:latin typeface="Arial"/>
              </a:rPr>
              <a:t>Tuesday, July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387A3-293A-41FC-9326-0C978934689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C4F6C-9995-4D1B-B2C0-B841D07FA583}" type="datetime2">
              <a:rPr b="0" lang="en-US" sz="1400" spc="-1" strike="noStrike">
                <a:solidFill>
                  <a:srgbClr val="ffffff"/>
                </a:solidFill>
                <a:latin typeface="Arial"/>
              </a:rPr>
              <a:t>Tuesday, July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6966C-4010-47A6-A8E5-BF44B986294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686240" y="692280"/>
            <a:ext cx="46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Ростовский институт серви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50520" y="1268280"/>
            <a:ext cx="58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урсовая работа по информати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 rot="21465600">
            <a:off x="1619280" y="3141360"/>
            <a:ext cx="5761080" cy="162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99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История костюма древности</a:t>
            </a:r>
            <a:endParaRPr b="0" lang="en-US" sz="1800" spc="1" strike="noStrike">
              <a:ln w="9360">
                <a:solidFill>
                  <a:srgbClr val="ffcc99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85" name=""/>
          <p:cNvSpPr/>
          <p:nvPr/>
        </p:nvSpPr>
        <p:spPr>
          <a:xfrm>
            <a:off x="1620720" y="5445000"/>
            <a:ext cx="371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ыполнил студент группы  №99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13800" y="5950080"/>
            <a:ext cx="31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ВАНОВ ИВАН ИВАН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B7F5-5B4D-4165-A5D6-4053F1A1D436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5519A6-498E-4C9D-B6E7-69799368AFBA}" type="datetime2">
              <a:rPr lang="en-US"/>
              <a:t>Tuesday, July 28, 2026</a:t>
            </a:fld>
          </a:p>
        </p:txBody>
      </p:sp>
    </p:spTree>
  </p:cSld>
  <p:transition advTm="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600"/>
                            </p:stCondLst>
                            <p:childTnLst>
                              <p:par>
                                <p:cTn id="45" nodeType="afterEffect" fill="hold" presetClass="exit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plus(in)" transition="out">
                                      <p:cBhvr additive="repl">
                                        <p:cTn id="4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4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5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plus(in)" transition="out">
                                      <p:cBhvr additive="repl">
                                        <p:cTn id="5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1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plus(in)" transition="out">
                                      <p:cBhvr additive="repl">
                                        <p:cTn id="5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 rot="415800">
            <a:off x="5076360" y="1052640"/>
            <a:ext cx="2568600" cy="4967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1116000" y="1341360"/>
            <a:ext cx="27352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6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екркты силуэта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2924280"/>
            <a:ext cx="4557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Monotype Corsiva"/>
              </a:rPr>
              <a:t>В конце 1-го десятилетия </a:t>
            </a:r>
            <a:r>
              <a:rPr b="0" i="1" lang="en-US" sz="2800" spc="-1" strike="noStrike">
                <a:solidFill>
                  <a:srgbClr val="ffffff"/>
                </a:solidFill>
                <a:latin typeface="Monotype Corsiva"/>
              </a:rPr>
              <a:t>XX</a:t>
            </a:r>
            <a:r>
              <a:rPr b="0" i="1" lang="ru-RU" sz="2800" spc="-1" strike="noStrike">
                <a:solidFill>
                  <a:srgbClr val="ffffff"/>
                </a:solidFill>
                <a:latin typeface="Monotype Corsiva"/>
              </a:rPr>
              <a:t> века в моду вошёл корсет, он помогал корректировать фигуру в соответствии с требованиями мо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6C78-2E3E-4890-9204-668C03EAAEF7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1383D0-7E2C-4F29-840A-BDD2847E59F8}" type="datetime2">
              <a:rPr lang="en-US"/>
              <a:t>Tuesday, July 28, 2026</a:t>
            </a:fld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1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77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4" dur="770" fill="hold"/>
                                        <p:tgtEl>
                                          <p:spTgt spid="1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6" dur="77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8" dur="77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40.776702880859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2" dur="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46" fill="hold">
                                          <p:stCondLst>
                                            <p:cond delay="46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6" autoRev="1" fill="hold">
                                          <p:stCondLst>
                                            <p:cond delay="46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4" fill="hold">
                                          <p:stCondLst>
                                            <p:cond delay="86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52">
                                  <p:stCondLst>
                                    <p:cond delay="64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50">
                                  <p:stCondLst>
                                    <p:cond delay="1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3" dur="23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3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5" dur="23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22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37">
                                  <p:stCondLst>
                                    <p:cond delay="15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41">
                                  <p:stCondLst>
                                    <p:cond delay="151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6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19280" y="83664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a4"/>
                </a:solidFill>
                <a:latin typeface="Arial"/>
              </a:rPr>
              <a:t>Середина </a:t>
            </a:r>
            <a:r>
              <a:rPr b="0" i="1" lang="en-US" sz="4400" spc="-1" strike="noStrike">
                <a:solidFill>
                  <a:srgbClr val="0000a4"/>
                </a:solidFill>
                <a:latin typeface="Arial"/>
              </a:rPr>
              <a:t>XIX </a:t>
            </a:r>
            <a:r>
              <a:rPr b="0" i="1" lang="ru-RU" sz="4400" spc="-1" strike="noStrike">
                <a:solidFill>
                  <a:srgbClr val="0000a4"/>
                </a:solidFill>
                <a:latin typeface="Arial"/>
              </a:rPr>
              <a:t>века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2232000" cy="60483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629160" y="2395440"/>
            <a:ext cx="502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трогий мужской костюм богатого купц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348000" y="3213000"/>
            <a:ext cx="4969080" cy="234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0000a4"/>
                </a:solidFill>
                <a:latin typeface="Impact"/>
              </a:rPr>
              <a:t>В моде были бакенбарды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0000a4"/>
              </a:solidFill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26A2-23AC-42E5-8444-B137F27A0CD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BE30FE-81B3-498B-8989-7056E13911C1}" type="datetime2">
              <a:rPr lang="en-US"/>
              <a:t>Tuesday, July 28, 2026</a:t>
            </a:fld>
          </a:p>
        </p:txBody>
      </p:sp>
    </p:spTree>
  </p:cSld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5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3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30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39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1480" y="1844640"/>
            <a:ext cx="7508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Выполнил студент группы №999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71960" y="4365720"/>
            <a:ext cx="415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оверил: Иванов И.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98520" y="3284640"/>
            <a:ext cx="292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Иванов и.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04720" y="2492280"/>
            <a:ext cx="573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.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Ростов-на-Дону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72B7-7E4B-45C5-A220-65AAFB994D4E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4C885F-7675-4C58-AB12-E945A8534565}" type="datetime2">
              <a:rPr lang="en-US"/>
              <a:t>Tuesday, July 28, 2026</a:t>
            </a:fld>
          </a:p>
        </p:txBody>
      </p:sp>
    </p:spTree>
  </p:cSld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98.800010681152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48" dur="3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319" fill="hold">
                                          <p:stCondLst>
                                            <p:cond delay="31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3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9" autoRev="1" fill="hold">
                                          <p:stCondLst>
                                            <p:cond delay="31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95" fill="hold">
                                          <p:stCondLst>
                                            <p:cond delay="605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38">
                                  <p:stCondLst>
                                    <p:cond delay="41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8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xit" presetID="41">
                                  <p:stCondLst>
                                    <p:cond delay="157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6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xit" presetID="41">
                                  <p:stCondLst>
                                    <p:cond delay="18000"/>
                                  </p:stCondLst>
                                  <p:iterate type="lt">
                                    <p:tmAbs val="9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72" dur="9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9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9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9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6" dur="9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5">
                                  <p:stCondLst>
                                    <p:cond delay="191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6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32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6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3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xit" presetID="38">
                                  <p:stCondLst>
                                    <p:cond delay="216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68360" y="836640"/>
            <a:ext cx="3095640" cy="5256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211640" y="620640"/>
            <a:ext cx="43196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Древний егип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84720" y="2276640"/>
            <a:ext cx="3763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Одеянием женщине служила рубаха-передник оставляющая открытой грудь, плотно прилегающая к телу и расклешенная к низ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1879-026E-47A2-AC80-D7183FBACF60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AF730A-54A6-4B88-8A89-488BEECA95B7}" type="datetime2">
              <a:rPr lang="en-US"/>
              <a:t>Tuesday, July 28, 2026</a:t>
            </a:fld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0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 rot="20455800">
            <a:off x="4390920" y="1125000"/>
            <a:ext cx="475308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Роскошное одея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91" name=""/>
          <p:cNvSpPr/>
          <p:nvPr/>
        </p:nvSpPr>
        <p:spPr>
          <a:xfrm>
            <a:off x="3454560" y="3068640"/>
            <a:ext cx="5689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Основной деталью костюма древних римлян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обычно считают тогу (Прямоугольный или полукруглый кусок ткани, драпирующийся в виде плаща), но самой распространённой одеждой была туни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50920" y="549360"/>
            <a:ext cx="2663640" cy="576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59BFD-1433-4DD1-A725-24B9E8CFE529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EB76E37-AB7B-445A-B7A1-3855A1729EFB}" type="datetime2">
              <a:rPr lang="en-US"/>
              <a:t>Tuesday, July 28, 2026</a:t>
            </a:fld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47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95280" y="836640"/>
            <a:ext cx="452124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яжёлые склад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4" name=""/>
          <p:cNvSpPr/>
          <p:nvPr/>
        </p:nvSpPr>
        <p:spPr>
          <a:xfrm>
            <a:off x="5292720" y="2205000"/>
            <a:ext cx="3166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Платья конца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XV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века сшито из шёл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и      расшит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золотыми нитя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68360" y="3141720"/>
            <a:ext cx="4032360" cy="302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15A7-F39E-434D-9407-9216145A7311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57854F-F6BB-4F0D-AF7D-64F76634AB60}" type="datetime2">
              <a:rPr lang="en-US"/>
              <a:t>Tuesday, July 28, 2026</a:t>
            </a:fld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7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4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5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052640"/>
            <a:ext cx="7991280" cy="85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панская мо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" name=""/>
          <p:cNvSpPr/>
          <p:nvPr/>
        </p:nvSpPr>
        <p:spPr>
          <a:xfrm>
            <a:off x="3975120" y="2224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48360" y="2781360"/>
            <a:ext cx="3995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В середине 16 века исчезли многоцветье и мягкость линий – на смену им пришли строгость и тёмный колорит одеж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95280" y="2421000"/>
            <a:ext cx="4068720" cy="374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C6BD-A12F-46AF-82D8-6A0238847539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51DA49-BC5C-43D0-93DF-98CC7162A552}" type="datetime2">
              <a:rPr lang="en-US"/>
              <a:t>Tuesday, July 28, 2026</a:t>
            </a:fld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indefinite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8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50920" y="836640"/>
            <a:ext cx="3166920" cy="53704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3995640" y="907920"/>
            <a:ext cx="44640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1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скады локон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5640" y="2997360"/>
            <a:ext cx="396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Во Франции Людовиком </a:t>
            </a:r>
            <a:r>
              <a:rPr b="0" i="1" lang="en-US" sz="3200" spc="-1" strike="noStrike">
                <a:solidFill>
                  <a:srgbClr val="ffffff"/>
                </a:solidFill>
                <a:latin typeface="Monotype Corsiva"/>
              </a:rPr>
              <a:t>XIV </a:t>
            </a: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был введён закон носить при дворе высокие пышные пари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90AD-FE7C-4810-B02A-B797CE06B1C8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C21C84-6B30-4C89-858D-417EB3EA6F8B}" type="datetime2">
              <a:rPr lang="en-US"/>
              <a:t>Tuesday, July 28, 2026</a:t>
            </a:fld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74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3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859280" y="1197000"/>
            <a:ext cx="3635280" cy="4680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 rot="21436200">
            <a:off x="611280" y="1052280"/>
            <a:ext cx="39463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0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енты и бант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6200" y="3232080"/>
            <a:ext cx="4627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Monotype Corsiva"/>
              </a:rPr>
              <a:t>Мода </a:t>
            </a:r>
            <a:r>
              <a:rPr b="0" i="1" lang="en-US" sz="2800" spc="-1" strike="noStrike">
                <a:solidFill>
                  <a:srgbClr val="ffffff"/>
                </a:solidFill>
                <a:latin typeface="Monotype Corsiva"/>
              </a:rPr>
              <a:t>XVII </a:t>
            </a:r>
            <a:r>
              <a:rPr b="0" i="1" lang="ru-RU" sz="2800" spc="-1" strike="noStrike">
                <a:solidFill>
                  <a:srgbClr val="ffffff"/>
                </a:solidFill>
                <a:latin typeface="Monotype Corsiva"/>
              </a:rPr>
              <a:t>века во Франции отличалась обилием бантов,  оборок и лен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B0AF-172E-439E-A2D3-D10CC3BB71A0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3CD563-A334-4680-8015-65391EC4FFF9}" type="datetime2">
              <a:rPr lang="en-US"/>
              <a:t>Tuesday, July 28, 2026</a:t>
            </a:fld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77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4" dur="770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6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8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5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7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5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4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54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31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851280" y="476280"/>
            <a:ext cx="4176720" cy="43196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1547640" y="5229360"/>
            <a:ext cx="6372360" cy="12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Шёлк и парча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197000"/>
            <a:ext cx="3549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Monotype Corsiva"/>
              </a:rPr>
              <a:t>Многие направления моды рождались во Франции: длинное платье манто, платья – полонез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7428-A808-4434-9A20-24F8463AB1B1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A54D4D-BDA5-4C24-AA4F-088C5E4C07DD}" type="datetime2">
              <a:rPr lang="en-US"/>
              <a:t>Tuesday, July 28, 2026</a:t>
            </a:fld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78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11280" y="907920"/>
            <a:ext cx="3240000" cy="5113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 rot="5400000">
            <a:off x="2014560" y="2961360"/>
            <a:ext cx="5761080" cy="505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Пудра и муш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796000" y="1341360"/>
            <a:ext cx="282888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Monotype Corsiva"/>
              </a:rPr>
              <a:t>В </a:t>
            </a:r>
            <a:r>
              <a:rPr b="0" i="1" lang="en-US" sz="3000" spc="-1" strike="noStrike">
                <a:solidFill>
                  <a:srgbClr val="ffffff"/>
                </a:solidFill>
                <a:latin typeface="Monotype Corsiva"/>
              </a:rPr>
              <a:t>XVIII </a:t>
            </a:r>
            <a:r>
              <a:rPr b="0" i="1" lang="ru-RU" sz="3000" spc="-1" strike="noStrike">
                <a:solidFill>
                  <a:srgbClr val="ffffff"/>
                </a:solidFill>
                <a:latin typeface="Monotype Corsiva"/>
              </a:rPr>
              <a:t>веке белая кожа в сочетании с нарумяненными щеками и подкрашенными губами считалась привлекательной чертой внешност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B5D7-044C-4E6E-AA29-2E23690266CD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E011AA-9492-44BB-A2B7-8E3EED7BEF11}" type="datetime2">
              <a:rPr lang="en-US"/>
              <a:t>Tuesday, July 28, 2026</a:t>
            </a:fld>
          </a:p>
        </p:txBody>
      </p:sp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14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14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22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2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2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22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9.2592620849609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8T08:51:33Z</dcterms:created>
  <dc:creator>Романенко Юрий</dc:creator>
  <dc:description/>
  <dc:language>en-US</dc:language>
  <cp:lastModifiedBy>yuri</cp:lastModifiedBy>
  <dcterms:modified xsi:type="dcterms:W3CDTF">2004-05-20T09:35:03Z</dcterms:modified>
  <cp:revision>12</cp:revision>
  <dc:subject/>
  <dc:title>Слайд 1</dc:title>
</cp:coreProperties>
</file>