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FBF-EB55-4E73-B8B2-3A9436FA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480060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6950160"/>
            <a:ext cx="480060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35F-BBDF-47DF-9A16-866D9627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7884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395-A325-4824-B265-A435A920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42200" y="561348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465080" y="561348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695016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42200" y="695016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465080" y="695016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3964-035C-4F05-B7E0-BCDE7C5C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DD3F-74EB-43D8-ACC4-BAC12451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8960" y="5613480"/>
            <a:ext cx="480060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37A5-F705-421D-8BDC-56449CB5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480060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FC5E-E22D-4DB4-819F-7B9C8ED5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8871-971E-473D-9F48-91EE7094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3A61-4E98-43B2-B8FC-D478FF44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440" y="2971800"/>
            <a:ext cx="57913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EE64-D252-41B3-AE61-F7C00717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69FC-2F5A-4A82-A691-70EA9931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5613480"/>
            <a:ext cx="480060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CD74-0D7A-43A6-9909-29A6823B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67884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376D-19F0-400B-9AAF-C34749D6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8960" y="6950160"/>
            <a:ext cx="480060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049A-5223-4A73-9C5C-A3D2CA29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480060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8960" y="6950160"/>
            <a:ext cx="480060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E01D-0477-43DD-A046-65F94B4C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896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7884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3893-41BC-4E11-95D1-5FC60C06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842200" y="561348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465080" y="561348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8960" y="695016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842200" y="695016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465080" y="695016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95CB-2FA6-43A6-B616-3E906F94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480060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B968-141E-4CB9-AF6E-59AD4570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60C-7666-4BFE-949A-8C5F9B02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D73-56AD-4AE9-8812-00FE8A93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971800"/>
            <a:ext cx="57913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8573-B0C0-450D-9D15-7937E8DC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E0FB-FC9C-479A-A9A2-151403D9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7884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3EE-F5D4-43E2-BF42-97AAA32A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6950160"/>
            <a:ext cx="480060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98E-6858-4A42-8FFB-165CE55C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330120"/>
            <a:ext cx="6180120" cy="923148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2311560"/>
            <a:ext cx="575316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73080"/>
            <a:ext cx="885960" cy="58611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6099120"/>
            <a:ext cx="885960" cy="371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99920" y="550800"/>
            <a:ext cx="57150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99920" y="2532240"/>
            <a:ext cx="5715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59960" y="882180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588760" y="8821800"/>
            <a:ext cx="2171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160600" y="882180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1720-7484-4A42-8E53-28A597ABEA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6720" y="290520"/>
            <a:ext cx="6297840" cy="934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73080"/>
            <a:ext cx="885960" cy="6191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7840" y="5965920"/>
            <a:ext cx="780840" cy="660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6099120"/>
            <a:ext cx="885960" cy="3714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812520" y="880596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641680" y="880596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5213520" y="880596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A1A0-35CC-4748-93CE-6507BB5F50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28880" y="1935000"/>
            <a:ext cx="5371920" cy="28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Сочинение</a:t>
            </a:r>
            <a:br>
              <a:rPr sz="3200"/>
            </a:b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Женский  образ  в  повести А.И. Куприна «Олеся»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4952880"/>
            <a:ext cx="52578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ЩЕЙСЯ  СРЕДНЕЙ  ШКОЛЫ №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 ЕССЕНТУ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- «б»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БОВОЙ  МАРИ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ПОДАВАТЕЛ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акова  Светлана  Никола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00-2001 г.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7T12:52:12Z</dcterms:created>
  <dc:creator>Галина</dc:creator>
  <dc:description/>
  <dc:language>en-US</dc:language>
  <cp:lastModifiedBy>Галина</cp:lastModifiedBy>
  <dcterms:modified xsi:type="dcterms:W3CDTF">2000-11-16T14:28:53Z</dcterms:modified>
  <cp:revision>6</cp:revision>
  <dc:subject/>
  <dc:title>БОРИС  МИХАЙЛОВИЧ  КУСТОДИЕВ  ПРЕПОДАВАТЕЛЬ Первакова  Светлана  Николаевна</dc:title>
</cp:coreProperties>
</file>