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C506-32DE-4B22-ADF7-B568C2F9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C92F-A2A2-43B5-980E-82D3D7D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0C7A-A40C-4F0C-A37E-72FA4A1B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E0BB-7633-496B-9C06-6E145E24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BDC3-2EB3-4EDC-A908-A3FE0E22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3CC7-FF89-42B6-88C0-3BEC270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C3BB-52EE-4BD8-9DDD-BF800399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3409-6C53-41FF-BD4F-AE67A811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64C9-5676-49A6-9B2C-92409599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DD0-A45D-449C-92BF-E76103B7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BFF5-B530-4F34-A314-F26EBF5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54AA-C816-40DD-AAB9-FDDC6875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68FA-6284-42C1-9846-8B61C175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3CE2-5193-4585-AD42-80DB6CE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AE49-A71E-41AA-AB37-5C703B8F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93F-5E8A-47F5-AC5A-0180E89D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7D15-D615-4DD1-B4BA-A671AF71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E72D-F5ED-42FA-8E8E-508B4FDD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0F18-C69D-4398-850D-A91F364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8644-B81D-432E-B4AE-8B884ED4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6166-9084-4468-AC7C-E60B0A25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191D-10DD-46DE-88E4-7722AFA7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38E9-E6C0-498C-9AF8-07ABACD0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612E-D46C-41E8-AF03-18B9F7BC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6CA0F-D217-4F2A-B3AF-ABB73909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7DCD9-2EA2-41BD-98E2-C2D4F94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1004-DA6D-45B0-9BA6-28AC07D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B14D-B44B-472B-9892-203B589E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5F88-3144-4316-AD24-794AC13A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F1E9-4298-4740-90E7-410698C5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579F-070B-4223-A488-6A8FF16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B6B3-D88F-4858-B75D-D6E80CCE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45D8-AE13-4034-B9D7-A553B084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D230-717C-4CDE-B5FE-31DE3379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980E-F882-47E7-9590-2B59CE2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34D2-E2FA-42C7-9C42-1C988A0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64A2-5C1D-4995-B6B6-03F5E60B1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A7D0-A900-4900-B60C-B036B0D8A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33F8-C66B-4277-A5AD-759618741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280" y="404640"/>
            <a:ext cx="8209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 дипломной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анспортировка продукции предприятий Сибири на мировые рынки: Проблемы и перспе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полни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. группы МЭО–00–1, Попов Р.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асноярск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3397320"/>
          <a:ext cx="6227640" cy="34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97320"/>
                    <a:ext cx="62276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843280" y="0"/>
          <a:ext cx="6300720" cy="349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0"/>
                    <a:ext cx="630072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новные рынки сбыта продукции предприятий СФ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4360" y="1792440"/>
            <a:ext cx="7740360" cy="4949280"/>
            <a:chOff x="684360" y="1792440"/>
            <a:chExt cx="7740360" cy="4949280"/>
          </a:xfrm>
        </p:grpSpPr>
        <p:sp>
          <p:nvSpPr>
            <p:cNvPr id="171" name=""/>
            <p:cNvSpPr/>
            <p:nvPr/>
          </p:nvSpPr>
          <p:spPr>
            <a:xfrm>
              <a:off x="1746720" y="1792440"/>
              <a:ext cx="5311800" cy="70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оварооборот СФ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2734920"/>
              <a:ext cx="4553640" cy="70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Экспорт СФО (более 8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93400" y="2734920"/>
              <a:ext cx="2731320" cy="70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мпорт СФ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08360" y="249804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48800" y="2498040"/>
              <a:ext cx="72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4360" y="3677760"/>
              <a:ext cx="3490920" cy="70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ДЗ (более 8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8040" y="3677760"/>
              <a:ext cx="759600" cy="70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Н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1280" y="3442320"/>
              <a:ext cx="0" cy="2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4622040"/>
              <a:ext cx="1618920" cy="94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Экспорт прочих това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05600" y="4622040"/>
              <a:ext cx="273204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Экспорт важнейших това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около 7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3240" y="43851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16400" y="4385160"/>
              <a:ext cx="72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34160" y="3442320"/>
              <a:ext cx="720" cy="2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68320" y="5563440"/>
              <a:ext cx="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4160" y="5563440"/>
              <a:ext cx="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95160" y="6035040"/>
              <a:ext cx="1972800" cy="70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Н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34160" y="6035040"/>
              <a:ext cx="1973160" cy="70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ДЗ (более 80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ТРАНСПОРТНО-ЭКСПЕДИЦИОННОЙ ДЕЯТЕЛЬНОСТИ ООО «СИБТРАНСАЛЬЯНС» НА БАЗЕ СОБСТВЕННОГО ПАРКА ВАГ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571480"/>
                <a:gridCol w="6572160"/>
              </a:tblGrid>
              <a:tr h="171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упка б/у вагонов (год 1994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упка новых вагонов (год 2004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зинг б/у вагонов (год 1994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зинг новых вагонов (год 2004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518080"/>
                <a:gridCol w="1812960"/>
                <a:gridCol w="1812960"/>
              </a:tblGrid>
              <a:tr h="76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ы покуп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 (Собственные средства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 (Заемные средства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 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ий процент по кредиту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PV (Чистая текущая стоимость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254 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8 566 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 (Внутренняя норма доходности)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отклон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 (Индекс рентаб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 (Срок окупаемости)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5518080"/>
                <a:gridCol w="1812960"/>
                <a:gridCol w="181296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ы лизин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 (Собственные средства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оборудования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 782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 603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ной амортизации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норма амортизаци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лизинга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ая ставка за кредит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С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по лизингу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PV (Чистая текущая стоимость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321 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929 7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 (Внутренняя норма доходности)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 (Индекс рентаб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 (Срок окупаемости)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месяц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омплексная оценка проек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197000"/>
          <a:ext cx="9144000" cy="5554440"/>
        </p:xfrm>
        <a:graphic>
          <a:graphicData uri="http://schemas.openxmlformats.org/drawingml/2006/table">
            <a:tbl>
              <a:tblPr/>
              <a:tblGrid>
                <a:gridCol w="4014720"/>
                <a:gridCol w="1938240"/>
                <a:gridCol w="1595520"/>
                <a:gridCol w="1595520"/>
              </a:tblGrid>
              <a:tr h="111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PV (Чистая текущая стоимость), 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 254 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321 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929 7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 (Внутренняя норма доходности)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 (Индекс рентаб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 (Срок окупаемости),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месяц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152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ранспортная логист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транспортировки това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мизация транспортных затра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ждение оптимальных маршрутов по достав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логистических схем, поиск и выбор перевозчиков, экспедит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рование доста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ие в части логистики в предконтрактной работе и при заключении контрактов купли-продаж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хождение таможенных формальностей в стране отправления, назначения и при транзите через третьи стра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единой контролируемой схемы доставки при различных перевозчиках и видах транспорта при смешанных (интермодальных) перевозк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олидация (объединение) грузов в процессе доста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нение на транзитных складах и складах временного хран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 транспортных расходов и стоимости доста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ование отгрузочных инструкций с отправителем и получателем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НАЛИЗ РАЗВИТИЯ РАО «РЖД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дрение информационно-управляющих сис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и поставка железнодорожному транспорту подвижного состава нового поколения, модернизация и техническое переоснащение заводской и линейной ремонтных ба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апное обновление и модернизация основных производственных фондов федерального железнодорожного транспорта для ликвидации тенденции нарастания уровня их изно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ие полигона электрификации с доведением доли грузооборота, выполняемого электротягой, до уровня 80-83%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себестоимости перевозок на 10-12% по сравнению с уровнем 2000 г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онструкция и модернизация железнодорожных линий общим протяжением более  8 тыс. км для организации скоростного движения пассажирских поездов со скоростями 160-200 км/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онструкция и развитие пограничных железнодорожных стан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интермодальных перевоз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уровня подвижного состава (в планах до 6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ст объема перевозок ж/д транспор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62864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42800" y="549360"/>
          <a:ext cx="824400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549360"/>
                    <a:ext cx="8244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внешней торговли Сибирского Федерального Ок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24000" y="1469880"/>
          <a:ext cx="8569080" cy="47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69880"/>
                    <a:ext cx="8569080" cy="47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08000" y="441360"/>
          <a:ext cx="9024840" cy="60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41360"/>
                    <a:ext cx="902484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79280" y="642960"/>
          <a:ext cx="8964720" cy="56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42960"/>
                    <a:ext cx="896472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76320"/>
          <a:ext cx="9144000" cy="67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400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20:56:34Z</dcterms:created>
  <dc:creator>popov</dc:creator>
  <dc:description/>
  <dc:language>en-US</dc:language>
  <cp:lastModifiedBy>popov</cp:lastModifiedBy>
  <dcterms:modified xsi:type="dcterms:W3CDTF">2005-04-28T23:12:09Z</dcterms:modified>
  <cp:revision>15</cp:revision>
  <dc:subject/>
  <dc:title>Слайд 1</dc:title>
</cp:coreProperties>
</file>