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F88-F536-4539-BB97-6DC656A6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944-352B-4643-9A7B-EEF2E9B7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959-E549-4E92-AFCF-754555D4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4F3-3BDF-4AA0-9277-DE52E591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80E-6ED1-420A-A98A-B64956F3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7B1-537D-42AD-8672-5A19B8CA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743-AD90-4856-BD10-27B2B82D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113-6FF2-4E8E-B1BD-16A6E880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982-8206-4DA1-B98F-15614545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428-A5B4-4AE1-9C38-3322047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4D3-8EF7-4187-AFCE-9A71FBEE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F2C-6007-44E4-A6F1-E1FC2439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A802-7AFF-4E3F-898B-C721387EE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Comic Sans MS"/>
              </a:rPr>
              <a:t>МНОГООБРАЗИЕ </a:t>
            </a:r>
            <a:br>
              <a:rPr sz="4800"/>
            </a:br>
            <a:r>
              <a:rPr b="0" lang="en-US" sz="4800" spc="-1" strike="noStrike">
                <a:solidFill>
                  <a:srgbClr val="6699ff"/>
                </a:solidFill>
                <a:latin typeface="Comic Sans MS"/>
              </a:rPr>
              <a:t>БАБОЧЕ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659640" cy="450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РАБОТУ ВЫПОЛНИЛА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УЧЕНИЦА 7 «А» КЛАССА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БИНЕЦКАЯ КС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cc"/>
                </a:solidFill>
                <a:latin typeface="Comic Sans MS"/>
              </a:rPr>
              <a:t>КОРОЛЕВА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Comic Sans MS"/>
              </a:rPr>
              <a:t>БАБОЧКА СО СЛОМАНЫМ КР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63272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НЕМНОГО О Н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евние римляне верили, что бабочки произошли от цветов, оторвавшихся от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тыре перепончатых крыла бабочек покрыты чешуйками. Чешуйки представляют собой плоские мешочки с прозрачными ребристыми стенками. При неосторожном прикосновении к крыльям чешуйки отваливаются. Тогда бабочка выглядит полинявшей. В редких случаях чешуек на крыльях нет или их очень мало. Тогда крылья бабочек прозрач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48360" y="4581360"/>
            <a:ext cx="1905120" cy="168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63640" y="4915080"/>
            <a:ext cx="1905120" cy="194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19640" y="393372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364000" y="458136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лкие бабочки с нежным телосложением и очень длинными ногами составляют семейство огневок. В 1877 году на одной из саксонских мельниц в Германии была открыта бабочка, названная огневка мучная. Ее можно узнать по характерной позе. Когда она сидит, то загибает конец брюшка кверху, а крылья держит широко распластан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3857760"/>
            <a:ext cx="304812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133880"/>
            <a:ext cx="3048120" cy="2724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А ЭТА БАББОЧ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ушинница интересна тем, что зимует во взрослом состоянии и появляется как первый вестник наступающего тепла. Капустница является самой крупной из белянок, в размахе крыльев достигает 50-60 миллиметров. Зорька-самец имеет ярко-оранжевую окраску в верхней поверхности крыл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менее красивая бабочка апполон. Так она названа в честь древнегреческого бога солнца, мудрости, покровителя искусств, бога-воителя, бога предсказаний. Апполон - крупная бабочка, с размахом крыльев в 70-90 милли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0920" y="3556080"/>
            <a:ext cx="4953240" cy="3301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00:42:36Z</dcterms:created>
  <dc:creator>Мастер</dc:creator>
  <dc:description/>
  <dc:language>en-US</dc:language>
  <cp:lastModifiedBy>Мастер</cp:lastModifiedBy>
  <dcterms:modified xsi:type="dcterms:W3CDTF">2002-01-24T01:13:02Z</dcterms:modified>
  <cp:revision>2</cp:revision>
  <dc:subject/>
  <dc:title>МНОГООБРАЗИЕ  БАБОЧЕК.</dc:title>
</cp:coreProperties>
</file>