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BD7E-6C26-49EF-A24B-B51B798B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D8C2-FC28-4872-B47D-B921693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EFFB-DA15-46F7-AF2D-C265676B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1229D-A20B-4E83-904E-EA715D7E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2026-93C2-4BF6-B3CE-B2E499E3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E2E9-5DBD-4BDA-ABDB-310698A5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9BF4-DE00-4204-9B81-59CADB4D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5925-EC7E-416C-95A7-02B61AE0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A1B3-D4E2-425F-B4F7-849D7272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8C35-1830-4E1C-B82B-490F21D3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FBC4-66E5-440F-A29C-835ECC7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44CF-845D-4E9E-9EDC-D2724EB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558-63CD-45B9-9116-28A08034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AE37-407D-4436-8639-16E8A1F1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6E87-8DCC-4B24-9053-EC111190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8004-D1FC-4037-83DF-3E477A13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6531-2739-45C8-BF38-B89221C1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7F4D-935C-45AD-B489-7D375393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B698-2DA4-433D-9128-3FB9E58B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F479-9C1F-4DDB-80FA-F708D4D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5116-0F41-4CFC-A66B-220FE26D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19A7-1108-4A6A-A2F4-80EB849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D30D-9774-4875-A764-51A5639B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1ED6-602B-4558-A71B-C22416C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313-CE53-4AA8-A389-1B13BCC26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A368-F442-47D6-BCD8-4103348AFA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ef6"/>
                </a:solidFill>
                <a:latin typeface="Times New Roman"/>
              </a:rPr>
              <a:t>Искусственные силикаты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724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403280" y="5073480"/>
            <a:ext cx="71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ля изготовления цемента сначала добывают известняк и глину из карьер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900000" y="4748760"/>
            <a:ext cx="748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йдя предварительную обработку, исходные материалы поступают в мельницу мокрого самоизмельчения, где перерабатываются в шлам. Затем шлам домалывается в сырьевых мельницах и усредняется в шламбассейна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20120" cy="4914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60240" y="5037840"/>
            <a:ext cx="87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заводе находится специальная лаборатория, в которой производят постоянный контроль качества и дозировку сырьевых материалов и добавок. И в том числе проводят тестирование конечного продукта на проч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483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4360" y="497556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тем тонкомолотый сырьевой шлам вводится во вращающуюся печь (длиной около 200 м и диаметром 4 м) и обжигается при температуре 1450 градусов Цельс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900000" y="13644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501156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обжиге частички сырья сплавляются между собой, образуя клинке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042920" y="48218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чь для обжига представляет собой вращающийся металлический цилиндр, который наклонен к горизонтальной плоскости под углом 3-4 градуса, чтобы обеспечить возможность движения материала вдоль пе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19760" cy="4362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900000" y="4866840"/>
            <a:ext cx="73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ченный клинкер охлаждается в холодильниках, дробится и подается транспортерами в бункеры цементных мельниц для помол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4867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763640" y="5155560"/>
            <a:ext cx="57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лектрофильтры на вращающихся печах позволяют сократить выбросы пыли в атмосферу в 10-30 раз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46576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912680" y="5299200"/>
            <a:ext cx="55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тывший клинкер подается в мельницу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55640" y="101520"/>
            <a:ext cx="7620120" cy="469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735120" y="4815360"/>
            <a:ext cx="801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мент получают путем совместного тонкого измельчения портландцементного клинкера, минеральных добавок (10-15%) и гипса (3-7%), который служит для регулирования сроков схватывания. Размер зерен цемента лежит в пределах от 1 до 100 мк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ef6"/>
                </a:solidFill>
                <a:latin typeface="Times New Roman"/>
              </a:rPr>
              <a:t>Содержание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Что такое силика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Какие бывают силика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Путь получения портландце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839880" y="189000"/>
            <a:ext cx="7619760" cy="48290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476360" y="508248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ченный портландцемент транспортируется из мельниц в силосы для хране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8481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187280" y="503100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силосов цемент отгружают железнодорожными вагонами и автомобильным транспортом в следующем виде: навалом, специальными контейнерами МКР весом до 1 тонны, бумажными мешками весом 50 к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314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Times New Roman"/>
              </a:rPr>
              <a:t>Что такое силикаты?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икатными называются изделия, в состав которых входят соединения кремнезем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2) с окислами различных металлов — натрия, калия, кальция, магния, алюминия, свинца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икатные изделия обладают водостойкостью, электроизоляционными свойствами, химической устойчивостью, высокой гигиеничностью (гладкие поверхности легко отмываются от загрязнения, отсутствуют поры и неровности, где могли бы задерживаться микро­организмы), легко формуются различными способами. К отрицательным качествам некоторых силикатных изделий следует отнести их небольшую прочность, хруп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енные силикаты — стекло, фарфор, фаянс, майолика и другие виды керамики, представляют собой продукты промышленной переработки природных силикатов с минеральными добав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азначению силикатные товары делят на три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ы хозяйственно-бытового назначения — стеклянная ижерамическая посуда, лампы и ламповые изделия, зеркала, художественно-декоративные изде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хитектурно-строительные товары — стекло оконное, пеностекло, стеклоблоки, керамические стройматериалы, вяжущие материалы на основе силикатов и изделия из них (цементы, асбоцементные издел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о-технические силикатные товары — оптическое стекло и приборы, химическая и лабораторная посуда, огнеупорные, электроизоляционные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Какие бывают силикаты?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ез силикатных материалов - различных видов цемента, бетона, шлакобетона, керамики, стекла, покрытий в виде эмалей и глазурей едва ли можно представить себе нашу повседневную жизнь. Масштабы производства силикатных материалов представляются внушительными цифр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иболее древними силикатными материалами являются керамические, получаемые из глин и их смесей с различными минеральными добавками, обожженными до камневидного состояния. В древнем мире керамические изделия были распространены по всей территории Земли. Со второй половины XIX века и до настоящего времени индустриальная керамическая промышленность неизмеримо расширила выпуск и ассортимент кера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Times New Roman"/>
              </a:rPr>
              <a:t>Производство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цессы производства керамики многообразны и в общих чертах сводятся к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обработке сырь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приготовлению керамической мас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формованию и сушке мас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) обжиг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) отделке издел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овременном производстве эти операции обеспечиваются специальным оборудованием, порой очень сложным, а сами процессы проводятся в оптимальных технологических режимах, разработанных на серьезной научной основе учеными различных профи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60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ром искусственного силикатного материала является портландцемент, один из наиболее распространенных видов минеральных вяжущих веществ. Цемент используется для связывания строительных деталей при получении массивных строительных блоков, плит, труб и кирпича. Цемент является основой таких широко применяемых строительных материалов, как бетон, шлакобетон, железобетон. Строительство любого масштаба не может существовать без цемента. Прежде всего цементным клинкером называется продукт обжига смеси глины и известняка, а цементом - мелкоизмельченный клинкер с минеральными добавками, регулирующими его свойства. Цемент применяется в смеси с песком и водой. Его вяжущие свойства обусловлены способностью цементных минералов взаимодействовать с H2O и SiO2 и при этом затвердевать, образуя прочную камневидную структуру. При схватывании цемента происходят сложные процессы: гидратация минералов с образованием гидросиликатов и гидроалюминатов, гидролиз, образование коллоидных растворов и их кристаллизация. Исследования процессов твердения цементного раствора и минералов цементного клинкера сыграли большую роль в становлении науки о силикатах и их техн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50160" cy="5337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977840" y="56610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хема изготовления ц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979640" y="472356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о цемента складывается из двух основных технологических процессов: получение клинкера и его помол с соответствующими добавкам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20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5:30:10Z</dcterms:created>
  <dc:creator>Ieva</dc:creator>
  <dc:description/>
  <dc:language>en-US</dc:language>
  <cp:lastModifiedBy>Ieva</cp:lastModifiedBy>
  <dcterms:modified xsi:type="dcterms:W3CDTF">2011-03-05T15:46:27Z</dcterms:modified>
  <cp:revision>4</cp:revision>
  <dc:subject/>
  <dc:title>Искусственные силикаты</dc:title>
</cp:coreProperties>
</file>