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902D-F71E-4386-932A-16BDA46FF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75F64-2B1C-44E5-B379-4BEB70A3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42F6E-42EC-403B-AED2-F8340DA9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9C601-0B71-44A5-8278-94DD90123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FA84-EE87-4F0A-951D-624B4856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6F0A5-825E-45F9-A4DB-AB83E1C9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B7FB-C6C8-4C3A-A557-371E5E2E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ACE51-B998-4BE3-967B-75B1F200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0E2A3-9D41-4A9B-98C8-8F4FC3B7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0A4B-5419-4589-BC35-4E57D801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E1BB-C49B-4D56-BB66-B04871B7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0619-3436-46AD-A1F9-EBBD912D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C4C79-CC40-42EA-88E2-10824201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8EB4-573F-44E0-A614-EEC3C1DC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84A3-4B03-4E6F-AA81-87FEA03D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7A8F-23CF-426E-A1DF-0715AD3D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D1336-C2EB-453A-8FD7-1AEA8DA5F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FBE33-3B16-4225-B7FC-92EAE20D3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53FDF-505B-440A-84C3-72F9405F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0BA01-C0DF-4709-AC3C-F735E02B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D201E-29CD-4F87-B310-E79CDFF1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7B042-5394-44F7-BAAC-E259F4FD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7612-DBFA-40E2-9FA4-092E6222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7967E-E497-4780-8E82-6F284159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B4AE-A471-4A1A-916E-4D82BD4B5E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5CF95-7A66-4EC5-96E2-2E01862B1D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dfdef6"/>
                </a:solidFill>
                <a:latin typeface="Times New Roman"/>
              </a:rPr>
              <a:t>Искусственные силикаты</a:t>
            </a:r>
            <a:endParaRPr b="0" lang="en-US" sz="72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20120" cy="47246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403280" y="5073480"/>
            <a:ext cx="7139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ля изготовления цемента сначала добывают известняк и глину из карьер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619760" cy="464796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900000" y="4748760"/>
            <a:ext cx="748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йдя предварительную обработку, исходные материалы поступают в мельницу мокрого самоизмельчения, где перерабатываются в шлам. Затем шлам домалывается в сырьевых мельницах и усредняется в шламбассейнах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7620120" cy="49147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660240" y="5037840"/>
            <a:ext cx="873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а заводе находится специальная лаборатория, в которой производят постоянный контроль качества и дозировку сырьевых материалов и добавок. И в том числе проводят тестирование конечного продукта на прочность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620120" cy="48387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684360" y="4975560"/>
            <a:ext cx="813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Затем тонкомолотый сырьевой шлам вводится во вращающуюся печь (длиной около 200 м и диаметром 4 м) и обжигается при температуре 1450 градусов Цельси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900000" y="136440"/>
            <a:ext cx="7620120" cy="487692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84360" y="5011560"/>
            <a:ext cx="82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и обжиге частички сырья сплавляются между собой, образуя клинкер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7620120" cy="472428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1042920" y="4821840"/>
            <a:ext cx="70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ечь для обжига представляет собой вращающийся металлический цилиндр, который наклонен к горизонтальной плоскости под углом 3-4 градуса, чтобы обеспечить возможность движения материала вдоль печ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684360" y="189000"/>
            <a:ext cx="7619760" cy="436248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900000" y="4866840"/>
            <a:ext cx="730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ученный клинкер охлаждается в холодильниках, дробится и подается транспортерами в бункеры цементных мельниц для помол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620120" cy="48672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1763640" y="5155560"/>
            <a:ext cx="576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Электрофильтры на вращающихся печах позволяют сократить выбросы пыли в атмосферу в 10-30 раз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826920" y="476280"/>
            <a:ext cx="7620120" cy="465768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1912680" y="5299200"/>
            <a:ext cx="557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стывший клинкер подается в мельницу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755640" y="101520"/>
            <a:ext cx="7620120" cy="469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735120" y="4815360"/>
            <a:ext cx="8013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Цемент получают путем совместного тонкого измельчения портландцементного клинкера, минеральных добавок (10-15%) и гипса (3-7%), который служит для регулирования сроков схватывания. Размер зерен цемента лежит в пределах от 1 до 100 мкм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fdef6"/>
                </a:solidFill>
                <a:latin typeface="Times New Roman"/>
              </a:rPr>
              <a:t>Содержание</a:t>
            </a:r>
            <a:endParaRPr b="0" lang="en-US" sz="6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 Что такое силикат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 Какие бывают силикат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 Производ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 Путь получения портландце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839880" y="189000"/>
            <a:ext cx="7619760" cy="48290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1476360" y="5082480"/>
            <a:ext cx="604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лученный портландцемент транспортируется из мельниц в силосы для хранения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620120" cy="4848120"/>
          </a:xfrm>
          <a:prstGeom prst="rect">
            <a:avLst/>
          </a:prstGeom>
          <a:ln w="0">
            <a:noFill/>
          </a:ln>
        </p:spPr>
      </p:pic>
      <p:sp>
        <p:nvSpPr>
          <p:cNvPr id="551" name=""/>
          <p:cNvSpPr/>
          <p:nvPr/>
        </p:nvSpPr>
        <p:spPr>
          <a:xfrm>
            <a:off x="1187280" y="5031000"/>
            <a:ext cx="705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з силосов цемент отгружают железнодорожными вагонами и автомобильным транспортом в следующем виде: навалом, специальными контейнерами МКР весом до 1 тонны, бумажными мешками весом 50 кг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Спасибо за внимание!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23140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Times New Roman"/>
              </a:rPr>
              <a:t>Что такое силикаты?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ликатными называются изделия, в состав которых входят соединения кремнезема (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02) с окислами различных металлов — натрия, калия, кальция, магния, алюминия, свинца и д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иликатные изделия обладают водостойкостью, электроизоляционными свойствами, химической устойчивостью, высокой гигиеничностью (гладкие поверхности легко отмываются от загрязнения, отсутствуют поры и неровности, где могли бы задерживаться микро­организмы), легко формуются различными способами. К отрицательным качествам некоторых силикатных изделий следует отнести их небольшую прочность, хрупк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кусственные силикаты — стекло, фарфор, фаянс, майолика и другие виды керамики, представляют собой продукты промышленной переработки природных силикатов с минеральными добавк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 назначению силикатные товары делят на три групп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овары хозяйственно-бытового назначения — стеклянная ижерамическая посуда, лампы и ламповые изделия, зеркала, художественно-декоративные издел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рхитектурно-строительные товары — стекло оконное, пеностекло, стеклоблоки, керамические стройматериалы, вяжущие материалы на основе силикатов и изделия из них (цементы, асбоцементные изделия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омышленно-технические силикатные товары — оптическое стекло и приборы, химическая и лабораторная посуда, огнеупорные, электроизоляционные издел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Times New Roman"/>
              </a:rPr>
              <a:t>Какие бывают силикаты? 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Без силикатных материалов - различных видов цемента, бетона, шлакобетона, керамики, стекла, покрытий в виде эмалей и глазурей едва ли можно представить себе нашу повседневную жизнь. Масштабы производства силикатных материалов представляются внушительными цифрам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Наиболее древними силикатными материалами являются керамические, получаемые из глин и их смесей с различными минеральными добавками, обожженными до камневидного состояния. В древнем мире керамические изделия были распространены по всей территории Земли. Со второй половины XIX века и до настоящего времени индустриальная керамическая промышленность неизмеримо расширила выпуск и ассортимент керам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fdef6"/>
                </a:solidFill>
                <a:latin typeface="Times New Roman"/>
              </a:rPr>
              <a:t>Производство</a:t>
            </a:r>
            <a:endParaRPr b="0" lang="en-US" sz="6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цессы производства керамики многообразны и в общих чертах сводятся к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) обработке сырь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) приготовлению керамической масс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) формованию и сушке масс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4) обжиг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) отделке издел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В современном производстве эти операции обеспечиваются специальным оборудованием, порой очень сложным, а сами процессы проводятся в оптимальных технологических режимах, разработанных на серьезной научной основе учеными различных профи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604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мером искусственного силикатного материала является портландцемент, один из наиболее распространенных видов минеральных вяжущих веществ. Цемент используется для связывания строительных деталей при получении массивных строительных блоков, плит, труб и кирпича. Цемент является основой таких широко применяемых строительных материалов, как бетон, шлакобетон, железобетон. Строительство любого масштаба не может существовать без цемента. Прежде всего цементным клинкером называется продукт обжига смеси глины и известняка, а цементом - мелкоизмельченный клинкер с минеральными добавками, регулирующими его свойства. Цемент применяется в смеси с песком и водой. Его вяжущие свойства обусловлены способностью цементных минералов взаимодействовать с H2O и SiO2 и при этом затвердевать, образуя прочную камневидную структуру. При схватывании цемента происходят сложные процессы: гидратация минералов с образованием гидросиликатов и гидроалюминатов, гидролиз, образование коллоидных растворов и их кристаллизация. Исследования процессов твердения цементного раствора и минералов цементного клинкера сыграли большую роль в становлении науки о силикатах и их технолог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755640" y="333360"/>
            <a:ext cx="7850160" cy="533736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1977840" y="5661000"/>
            <a:ext cx="556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Схема изготовления цемен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979640" y="4723560"/>
            <a:ext cx="56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роизводство цемента складывается из двух основных технологических процессов: получение клинкера и его помол с соответствующими добавками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62012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5:30:10Z</dcterms:created>
  <dc:creator>Ieva</dc:creator>
  <dc:description/>
  <dc:language>en-US</dc:language>
  <cp:lastModifiedBy>Ieva</cp:lastModifiedBy>
  <dcterms:modified xsi:type="dcterms:W3CDTF">2011-03-05T15:46:27Z</dcterms:modified>
  <cp:revision>4</cp:revision>
  <dc:subject/>
  <dc:title>Искусственные силикаты</dc:title>
</cp:coreProperties>
</file>